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2.png" ContentType="image/png"/>
  <Override PartName="/ppt/media/image6.wmf" ContentType="image/x-wmf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png" ContentType="image/png"/>
  <Override PartName="/ppt/media/image25.wmf" ContentType="image/x-wmf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36760" y="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532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36760" y="9109080"/>
            <a:ext cx="3165480" cy="4795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D0CF745-A630-4716-90EF-244BC37F9AE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137120" y="9107640"/>
            <a:ext cx="31654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7955934-3CF2-4577-95F9-09F25BB87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795560" cy="3597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74520" y="4554000"/>
            <a:ext cx="5352840" cy="431676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Atmospheric CO2 accumulation is meaure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source terms are estimated from energy consumption and defores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ocean sink is mode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The land sink is the residual from closing the balance (it is not directly measur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ore details are: http://lgmacweb.env.uea.ac.uk/lequere/co2/carbon_budget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5FC1-DBD8-4341-8E4D-A047F585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BB3-FB0A-4F8D-AEC5-B9E8AD69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545-B911-4C35-A22C-9AB98DA8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2B75-36A6-414E-AD38-188B4EA6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43CB-CACD-41B3-A7F4-D3BD461D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D96-9D1A-4524-AE9B-22E6406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7BC-D644-4CF3-ADDD-612F6567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9AF-D7D4-4056-9887-E96E17A5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215D-D5A2-4CCB-97E4-73F0A153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918-AE83-4E87-9908-7CE2A1A9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EC5-34C0-4606-A68E-B9E3C061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CE5-AFBA-4D02-A044-F0A64650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/11/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2490-3E11-488B-9179-BDF4DC051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3" descr=""/>
          <p:cNvPicPr/>
          <p:nvPr/>
        </p:nvPicPr>
        <p:blipFill>
          <a:blip r:embed="rId2"/>
          <a:stretch/>
        </p:blipFill>
        <p:spPr>
          <a:xfrm>
            <a:off x="755640" y="1735200"/>
            <a:ext cx="7345440" cy="4433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e-anthropogenic C cycle and recent perturb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Air-sea exchange of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from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1640" y="1084320"/>
            <a:ext cx="7345440" cy="50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bserved” ocean uptake of anthropogenic CO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ectangle 3" descr=""/>
          <p:cNvPicPr/>
          <p:nvPr/>
        </p:nvPicPr>
        <p:blipFill>
          <a:blip r:embed="rId2"/>
          <a:stretch/>
        </p:blipFill>
        <p:spPr>
          <a:xfrm>
            <a:off x="684360" y="1639800"/>
            <a:ext cx="7488000" cy="46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324720" y="374904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6453360"/>
            <a:ext cx="46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 (2008) in Geoscientific Model Developme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 geometry and some compon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Globe"/>
          <p:cNvPicPr/>
          <p:nvPr/>
        </p:nvPicPr>
        <p:blipFill>
          <a:blip r:embed="rId2"/>
          <a:stretch/>
        </p:blipFill>
        <p:spPr>
          <a:xfrm>
            <a:off x="2357280" y="1071720"/>
            <a:ext cx="4349880" cy="4809960"/>
          </a:xfrm>
          <a:prstGeom prst="rect">
            <a:avLst/>
          </a:prstGeom>
          <a:ln w="0">
            <a:noFill/>
          </a:ln>
        </p:spPr>
      </p:pic>
      <p:sp>
        <p:nvSpPr>
          <p:cNvPr id="123" name="Right Arrow 6"/>
          <p:cNvSpPr/>
          <p:nvPr/>
        </p:nvSpPr>
        <p:spPr>
          <a:xfrm>
            <a:off x="3500280" y="4214880"/>
            <a:ext cx="357480" cy="71280"/>
          </a:xfrm>
          <a:prstGeom prst="rightArrow">
            <a:avLst>
              <a:gd name="adj1" fmla="val 50000"/>
              <a:gd name="adj2" fmla="val 50152"/>
            </a:avLst>
          </a:prstGeom>
          <a:solidFill>
            <a:srgbClr val="00cc99"/>
          </a:solidFill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2143080" y="4000680"/>
            <a:ext cx="15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River in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Up-Down Arrow 8"/>
          <p:cNvSpPr/>
          <p:nvPr/>
        </p:nvSpPr>
        <p:spPr>
          <a:xfrm>
            <a:off x="4500720" y="2000160"/>
            <a:ext cx="45720" cy="78588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00cc99"/>
          </a:solidFill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644720" y="2143080"/>
            <a:ext cx="1043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2357280" y="3643200"/>
            <a:ext cx="1271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Isosceles Triangle 12"/>
          <p:cNvSpPr/>
          <p:nvPr/>
        </p:nvSpPr>
        <p:spPr>
          <a:xfrm>
            <a:off x="3143160" y="2357280"/>
            <a:ext cx="233280" cy="233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sosceles Triangle 14"/>
          <p:cNvSpPr/>
          <p:nvPr/>
        </p:nvSpPr>
        <p:spPr>
          <a:xfrm>
            <a:off x="3429000" y="2357280"/>
            <a:ext cx="177840" cy="1796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15"/>
          <p:cNvSpPr/>
          <p:nvPr/>
        </p:nvSpPr>
        <p:spPr>
          <a:xfrm>
            <a:off x="2571840" y="2500200"/>
            <a:ext cx="107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Isosceles Triangle 14"/>
          <p:cNvSpPr/>
          <p:nvPr/>
        </p:nvSpPr>
        <p:spPr>
          <a:xfrm>
            <a:off x="2571840" y="3143160"/>
            <a:ext cx="285840" cy="285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857680" y="3071880"/>
            <a:ext cx="12142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-25000">
                <a:solidFill>
                  <a:srgbClr val="ffff00"/>
                </a:solidFill>
                <a:latin typeface="Times New Roman"/>
              </a:rPr>
              <a:t>Volcanic   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Isosceles Triangle 13"/>
          <p:cNvSpPr/>
          <p:nvPr/>
        </p:nvSpPr>
        <p:spPr>
          <a:xfrm>
            <a:off x="3286080" y="24289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Ocean and ocean sediment sub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990800"/>
            <a:ext cx="878544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Times New Roman"/>
              </a:rPr>
              <a:t>Model fit to ocean data for standard parameter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plotprof.jpg"/>
          <p:cNvPicPr/>
          <p:nvPr/>
        </p:nvPicPr>
        <p:blipFill>
          <a:blip r:embed="rId2"/>
          <a:stretch/>
        </p:blipFill>
        <p:spPr>
          <a:xfrm>
            <a:off x="1116000" y="836640"/>
            <a:ext cx="6791400" cy="55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062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2"/>
          <a:stretch/>
        </p:blipFill>
        <p:spPr>
          <a:xfrm>
            <a:off x="1116000" y="1120680"/>
            <a:ext cx="6696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2789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model simulation from 1765 to 2000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2"/>
          <a:stretch/>
        </p:blipFill>
        <p:spPr>
          <a:xfrm>
            <a:off x="1042920" y="1192320"/>
            <a:ext cx="6697800" cy="54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3700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893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ontrol of atmospheric p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n different time 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628640"/>
            <a:ext cx="842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cale              Components                  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9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yrs            lithosphere               volcanism, burial,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      we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-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hydrosphere            ocean circulation and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biosphere               biogeochemical cycling,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carbonate dis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10 – 10</a:t>
            </a:r>
            <a:r>
              <a:rPr b="0" lang="en-US" sz="2400" spc="-1" strike="noStrike" baseline="30000">
                <a:solidFill>
                  <a:srgbClr val="3366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yrs             biosphere                 fossil fuel burn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land ecosystem shifts,                                                                                       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6600"/>
                </a:solidFill>
                <a:latin typeface="Times New Roman"/>
              </a:rPr>
              <a:t>                                                         land use chan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tandard vs no ocean heat nor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upt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4421160" cy="5157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427640" y="1413000"/>
            <a:ext cx="447192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posi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916280"/>
            <a:ext cx="8713800" cy="35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solubility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reci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, winds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us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MH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DIC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595008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Some negative climate feedbacks via oceanic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1628640"/>
            <a:ext cx="871380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sea ice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weathering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runoff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N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* 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Alk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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CP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pCO</a:t>
            </a:r>
            <a:r>
              <a:rPr b="0" lang="da-DK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T </a:t>
            </a:r>
            <a:r>
              <a:rPr b="0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28680" y="566100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(* included in the DCESS Earth System mod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cenario greenhouse gas and aerosol forc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 rot="10800000">
            <a:off x="464832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786280" y="1125360"/>
            <a:ext cx="32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anthropoge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emissions (G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A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372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cc00cc"/>
                </a:solidFill>
                <a:latin typeface="Times New Roman"/>
              </a:rPr>
              <a:t>A1B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9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15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82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Content Placeholder 14" descr="Forcing.jpg"/>
          <p:cNvPicPr/>
          <p:nvPr/>
        </p:nvPicPr>
        <p:blipFill>
          <a:blip r:embed="rId2"/>
          <a:stretch/>
        </p:blipFill>
        <p:spPr>
          <a:xfrm>
            <a:off x="571680" y="714240"/>
            <a:ext cx="5000400" cy="6143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722920" y="5516640"/>
            <a:ext cx="317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missions by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522 G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Future Earth System projections for SRES B1 and A2 fo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050920" y="836640"/>
            <a:ext cx="5378760" cy="67611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415640" y="5805360"/>
            <a:ext cx="1788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Shaffer et al. (200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Nature Geoscie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.5 million year run for doubling lithospher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CO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outg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5283360" cy="573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ethane 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76360" y="2276640"/>
            <a:ext cx="3762360" cy="36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estimates of MH in the ocean sediment center around 10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parison, available fossil fuel resources are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00 G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4" descr="MethaneHyrdate1"/>
          <p:cNvPicPr/>
          <p:nvPr/>
        </p:nvPicPr>
        <p:blipFill>
          <a:blip r:embed="rId2"/>
          <a:stretch/>
        </p:blipFill>
        <p:spPr>
          <a:xfrm>
            <a:off x="685800" y="1523880"/>
            <a:ext cx="401796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H release and ocean 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4876560" cy="41148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57440" y="16765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MH release leads to increased GHG forcing (CH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 and its oxidation product CO</a:t>
            </a:r>
            <a:r>
              <a:rPr b="0" lang="da-DK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) and warmer cl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er climate promotes the release of more MH as the ocean is warmed fur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imes New Roman"/>
              </a:rPr>
              <a:t>Warming in the ocean leads to release of MH in ocean sed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03480" y="568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6640" y="5943600"/>
            <a:ext cx="38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Dickens 2003, Earth and Planetary Science Let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151920"/>
            <a:ext cx="77724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CESS Earth System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68360" y="1628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3348000" y="2492280"/>
            <a:ext cx="2303640" cy="9144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580000" y="3645000"/>
            <a:ext cx="2305080" cy="9144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5508720" y="5229360"/>
            <a:ext cx="244800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 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971640" y="3716280"/>
            <a:ext cx="237636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d Bi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1"/>
          <p:cNvSpPr/>
          <p:nvPr/>
        </p:nvSpPr>
        <p:spPr>
          <a:xfrm>
            <a:off x="900000" y="5229360"/>
            <a:ext cx="2376720" cy="9144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h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2"/>
          <p:cNvSpPr/>
          <p:nvPr/>
        </p:nvSpPr>
        <p:spPr>
          <a:xfrm>
            <a:off x="4067280" y="112536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450072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7"/>
          <p:cNvSpPr/>
          <p:nvPr/>
        </p:nvSpPr>
        <p:spPr>
          <a:xfrm flipH="1">
            <a:off x="2916000" y="3429000"/>
            <a:ext cx="136836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8"/>
          <p:cNvSpPr/>
          <p:nvPr/>
        </p:nvSpPr>
        <p:spPr>
          <a:xfrm flipV="1">
            <a:off x="3059280" y="3429000"/>
            <a:ext cx="136836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5580000" y="3068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0"/>
          <p:cNvSpPr/>
          <p:nvPr/>
        </p:nvSpPr>
        <p:spPr>
          <a:xfrm flipH="1" flipV="1">
            <a:off x="5508360" y="3141720"/>
            <a:ext cx="71892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3"/>
          <p:cNvSpPr/>
          <p:nvPr/>
        </p:nvSpPr>
        <p:spPr>
          <a:xfrm>
            <a:off x="680400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4"/>
          <p:cNvSpPr/>
          <p:nvPr/>
        </p:nvSpPr>
        <p:spPr>
          <a:xfrm flipV="1">
            <a:off x="665964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26"/>
          <p:cNvSpPr/>
          <p:nvPr/>
        </p:nvSpPr>
        <p:spPr>
          <a:xfrm flipV="1">
            <a:off x="3203640" y="4365360"/>
            <a:ext cx="25207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27"/>
          <p:cNvSpPr/>
          <p:nvPr/>
        </p:nvSpPr>
        <p:spPr>
          <a:xfrm flipH="1">
            <a:off x="2626920" y="314172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28"/>
          <p:cNvSpPr/>
          <p:nvPr/>
        </p:nvSpPr>
        <p:spPr>
          <a:xfrm flipV="1">
            <a:off x="2843280" y="3212640"/>
            <a:ext cx="720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4932360" y="1773360"/>
            <a:ext cx="201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0"/>
          <p:cNvSpPr/>
          <p:nvPr/>
        </p:nvSpPr>
        <p:spPr>
          <a:xfrm flipH="1">
            <a:off x="2050560" y="1700280"/>
            <a:ext cx="2016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1"/>
          <p:cNvSpPr/>
          <p:nvPr/>
        </p:nvSpPr>
        <p:spPr>
          <a:xfrm flipH="1">
            <a:off x="3276720" y="573408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2050920" y="4653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5877000"/>
            <a:ext cx="1871640" cy="83664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427640" y="3429000"/>
            <a:ext cx="7308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00720" y="4437000"/>
            <a:ext cx="13665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0360" y="443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43280" y="4437000"/>
            <a:ext cx="136872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92720" y="58770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emperature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7924680" y="1523880"/>
            <a:ext cx="0" cy="914400"/>
          </a:xfrm>
          <a:prstGeom prst="line">
            <a:avLst/>
          </a:prstGeom>
          <a:ln w="38160">
            <a:solidFill>
              <a:srgbClr val="e86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24680" y="12952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Times New Roman"/>
              </a:rPr>
              <a:t>(386 p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924680" y="4647960"/>
            <a:ext cx="0" cy="759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080" y="-3586680"/>
            <a:ext cx="6660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ectangle 3" descr=""/>
          <p:cNvPicPr/>
          <p:nvPr/>
        </p:nvPicPr>
        <p:blipFill>
          <a:blip r:embed="rId2"/>
          <a:stretch/>
        </p:blipFill>
        <p:spPr>
          <a:xfrm>
            <a:off x="684360" y="907920"/>
            <a:ext cx="79214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ig1"/>
          <p:cNvPicPr/>
          <p:nvPr/>
        </p:nvPicPr>
        <p:blipFill>
          <a:blip r:embed="rId2"/>
          <a:srcRect l="13660" t="0" r="0" b="7130"/>
          <a:stretch/>
        </p:blipFill>
        <p:spPr>
          <a:xfrm>
            <a:off x="1511280" y="1327320"/>
            <a:ext cx="5691240" cy="46940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4973760" y="3467160"/>
            <a:ext cx="2514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tmospheric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  <a:ea typeface="ＭＳ Ｐゴシック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5759280" y="4933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048360" y="4322880"/>
            <a:ext cx="12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037040" y="1700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ssil fuel e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076720" y="2846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fore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7381800" y="20527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7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381800" y="30844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.5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1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7381800" y="37306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.2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7381800" y="498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3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381800" y="44496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.6</a:t>
            </a: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7360920" y="1285920"/>
            <a:ext cx="157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2000-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6"/>
          <p:cNvSpPr/>
          <p:nvPr/>
        </p:nvSpPr>
        <p:spPr>
          <a:xfrm rot="16200000">
            <a:off x="-239400" y="3166200"/>
            <a:ext cx="221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 Narrow"/>
                <a:ea typeface="ＭＳ Ｐゴシック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 flux (Pg C y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 Narrow"/>
                <a:ea typeface="ＭＳ Ｐゴシック"/>
              </a:rPr>
              <a:t>-1</a:t>
            </a: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7"/>
          <p:cNvSpPr/>
          <p:nvPr/>
        </p:nvSpPr>
        <p:spPr>
          <a:xfrm rot="16200000">
            <a:off x="1021680" y="3953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8"/>
          <p:cNvSpPr/>
          <p:nvPr/>
        </p:nvSpPr>
        <p:spPr>
          <a:xfrm rot="16200000">
            <a:off x="894960" y="2680560"/>
            <a:ext cx="8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3925440" y="58770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Time (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266480" y="260280"/>
            <a:ext cx="70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cc"/>
                </a:solidFill>
                <a:latin typeface="Times New Roman"/>
              </a:rPr>
              <a:t>Human perturbation of the global carbon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3302640" y="650412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 Narrow"/>
                <a:ea typeface="ＭＳ Ｐゴシック"/>
              </a:rPr>
              <a:t>Global Carbon Project (200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7786800" y="16430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 Narrow"/>
              </a:rPr>
              <a:t>G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Land carbon cyc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299360" y="2276640"/>
            <a:ext cx="8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ectangle 3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5688000" cy="48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6021000"/>
            <a:ext cx="69840" cy="7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Modelled land carbon storages as functions of</a:t>
            </a:r>
            <a:br>
              <a:rPr sz="2800"/>
            </a:b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p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1619280" y="1197000"/>
            <a:ext cx="5977080" cy="548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7632720" y="602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Gerber et 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4), G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33360"/>
            <a:ext cx="82152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Climate-carbon model sensitivities to CO</a:t>
            </a:r>
            <a:r>
              <a:rPr b="0" lang="da-DK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3333cc"/>
                </a:solidFill>
                <a:latin typeface="Times New Roman"/>
              </a:rPr>
              <a:t> and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86880" cy="32655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607212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Friedensten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2006), 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cean chlorophyll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Rectangle 3" descr=""/>
          <p:cNvPicPr/>
          <p:nvPr/>
        </p:nvPicPr>
        <p:blipFill>
          <a:blip r:embed="rId2"/>
          <a:stretch/>
        </p:blipFill>
        <p:spPr>
          <a:xfrm>
            <a:off x="1116000" y="907920"/>
            <a:ext cx="6913440" cy="595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3:50:50Z</dcterms:created>
  <dc:creator>MBK</dc:creator>
  <dc:description/>
  <dc:language>en-US</dc:language>
  <cp:lastModifiedBy>Gary Shaffer</cp:lastModifiedBy>
  <dcterms:modified xsi:type="dcterms:W3CDTF">2009-10-06T16:24:58Z</dcterms:modified>
  <cp:revision>362</cp:revision>
  <dc:subject/>
  <dc:title>The Role of Deep-decoupling Oscillations in Glacial Climate Variability</dc:title>
</cp:coreProperties>
</file>