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1.gif" ContentType="image/gif"/>
  <Override PartName="/ppt/media/image14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7.jpeg" ContentType="image/jpeg"/>
  <Override PartName="/ppt/media/image20.png" ContentType="image/png"/>
  <Override PartName="/ppt/media/image12.png" ContentType="image/png"/>
  <Override PartName="/ppt/media/image6.wmf" ContentType="image/x-wmf"/>
  <Override PartName="/ppt/media/image10.png" ContentType="image/png"/>
  <Override PartName="/ppt/media/image5.png" ContentType="image/png"/>
  <Override PartName="/ppt/media/image4.wmf" ContentType="image/x-wmf"/>
  <Override PartName="/ppt/media/image3.png" ContentType="image/png"/>
  <Override PartName="/ppt/media/image17.jpeg" ContentType="image/jpeg"/>
  <Override PartName="/ppt/media/image27.png" ContentType="image/png"/>
  <Override PartName="/ppt/media/image26.jpeg" ContentType="image/jpeg"/>
  <Override PartName="/ppt/media/image1.png" ContentType="image/png"/>
  <Override PartName="/ppt/media/image24.jpeg" ContentType="image/jpeg"/>
  <Override PartName="/ppt/media/image22.png" ContentType="image/png"/>
  <Override PartName="/ppt/media/image25.wmf" ContentType="image/x-wmf"/>
  <Override PartName="/ppt/media/image23.jpeg" ContentType="image/jpeg"/>
  <Override PartName="/ppt/media/image18.jpeg" ContentType="image/jpeg"/>
  <Override PartName="/ppt/media/image19.png" ContentType="image/png"/>
  <Override PartName="/ppt/media/image21.png" ContentType="image/png"/>
  <Override PartName="/ppt/media/image16.jpeg" ContentType="image/jpeg"/>
  <Override PartName="/ppt/media/image1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65480" cy="4795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36760" y="0"/>
            <a:ext cx="3165480" cy="4795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5320" y="719280"/>
            <a:ext cx="4794120" cy="35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520" y="4554360"/>
            <a:ext cx="5352840" cy="43149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109080"/>
            <a:ext cx="3165480" cy="4795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36760" y="9109080"/>
            <a:ext cx="3165480" cy="4795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D7F89BAC-A335-4EFB-85AF-A31D93E94C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4137120" y="9107640"/>
            <a:ext cx="31654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A5CC3226-CFAC-42AE-96B1-0A530242E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795560" cy="35971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74520" y="4554000"/>
            <a:ext cx="5352840" cy="43167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tmospheric CO2 accumulation is meaured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source terms are estimated from energy consumption and defores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ocean sink is mode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land sink is the residual from closing the balance (it is not directly measur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More details are: http://lgmacweb.env.uea.ac.uk/lequere/co2/carbon_budget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F9F9-9997-4C65-807A-CFB13A59B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355F-42C4-4E40-8381-F0914FDF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2853-4F63-4E02-813B-D15D879FA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F259-18D6-46B4-8F0E-2830332A4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BDDF-F2C5-4F6D-959A-5302CF94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AA18-551D-4ADC-A5A7-855DB2A7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584C-76E5-401F-A6DA-CE1EEFF3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03BC-0518-4DE0-8F83-F90D7971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831E-7B10-4921-B20C-4839A7F6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230E-6D37-46DB-8A20-A493AC9F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636D-18EB-49DA-B4CD-396DF4D6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594C-A99B-4DAD-AA5A-CFA1D708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9/11/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5B3C-091B-4DB4-AA4A-218E32A40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3" descr=""/>
          <p:cNvPicPr/>
          <p:nvPr/>
        </p:nvPicPr>
        <p:blipFill>
          <a:blip r:embed="rId2"/>
          <a:stretch/>
        </p:blipFill>
        <p:spPr>
          <a:xfrm>
            <a:off x="755640" y="1735200"/>
            <a:ext cx="7345440" cy="4433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e-anthropogenic C cycle and recent perturb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Air-sea exchange of CO</a:t>
            </a:r>
            <a:r>
              <a:rPr b="0" lang="da-DK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 from observ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71640" y="1084320"/>
            <a:ext cx="7345440" cy="505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bserved” ocean uptake of anthropogenic CO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Rectangle 3" descr=""/>
          <p:cNvPicPr/>
          <p:nvPr/>
        </p:nvPicPr>
        <p:blipFill>
          <a:blip r:embed="rId2"/>
          <a:stretch/>
        </p:blipFill>
        <p:spPr>
          <a:xfrm>
            <a:off x="684360" y="1639800"/>
            <a:ext cx="7488000" cy="46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CESS Earth System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324720" y="3749040"/>
            <a:ext cx="7308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468360" y="16286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7"/>
          <p:cNvSpPr/>
          <p:nvPr/>
        </p:nvSpPr>
        <p:spPr>
          <a:xfrm>
            <a:off x="3348000" y="2492280"/>
            <a:ext cx="230364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8"/>
          <p:cNvSpPr/>
          <p:nvPr/>
        </p:nvSpPr>
        <p:spPr>
          <a:xfrm>
            <a:off x="5580000" y="3645000"/>
            <a:ext cx="2305080" cy="9144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9"/>
          <p:cNvSpPr/>
          <p:nvPr/>
        </p:nvSpPr>
        <p:spPr>
          <a:xfrm>
            <a:off x="5508720" y="5229360"/>
            <a:ext cx="24480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 Sed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10"/>
          <p:cNvSpPr/>
          <p:nvPr/>
        </p:nvSpPr>
        <p:spPr>
          <a:xfrm>
            <a:off x="971640" y="3716280"/>
            <a:ext cx="2376360" cy="9144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d Bi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11"/>
          <p:cNvSpPr/>
          <p:nvPr/>
        </p:nvSpPr>
        <p:spPr>
          <a:xfrm>
            <a:off x="900000" y="5229360"/>
            <a:ext cx="237672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h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12"/>
          <p:cNvSpPr/>
          <p:nvPr/>
        </p:nvSpPr>
        <p:spPr>
          <a:xfrm>
            <a:off x="4067280" y="112536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4500720" y="2060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7"/>
          <p:cNvSpPr/>
          <p:nvPr/>
        </p:nvSpPr>
        <p:spPr>
          <a:xfrm flipH="1">
            <a:off x="2916000" y="3429000"/>
            <a:ext cx="136836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8"/>
          <p:cNvSpPr/>
          <p:nvPr/>
        </p:nvSpPr>
        <p:spPr>
          <a:xfrm flipV="1">
            <a:off x="3059280" y="3429000"/>
            <a:ext cx="136836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5580000" y="306864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20"/>
          <p:cNvSpPr/>
          <p:nvPr/>
        </p:nvSpPr>
        <p:spPr>
          <a:xfrm flipH="1" flipV="1">
            <a:off x="5508360" y="3141720"/>
            <a:ext cx="71892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23"/>
          <p:cNvSpPr/>
          <p:nvPr/>
        </p:nvSpPr>
        <p:spPr>
          <a:xfrm>
            <a:off x="6804000" y="458136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4"/>
          <p:cNvSpPr/>
          <p:nvPr/>
        </p:nvSpPr>
        <p:spPr>
          <a:xfrm flipV="1">
            <a:off x="6659640" y="458136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26"/>
          <p:cNvSpPr/>
          <p:nvPr/>
        </p:nvSpPr>
        <p:spPr>
          <a:xfrm flipV="1">
            <a:off x="3203640" y="4365360"/>
            <a:ext cx="252072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27"/>
          <p:cNvSpPr/>
          <p:nvPr/>
        </p:nvSpPr>
        <p:spPr>
          <a:xfrm flipH="1">
            <a:off x="2626920" y="3141720"/>
            <a:ext cx="792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28"/>
          <p:cNvSpPr/>
          <p:nvPr/>
        </p:nvSpPr>
        <p:spPr>
          <a:xfrm flipV="1">
            <a:off x="2843280" y="321264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9"/>
          <p:cNvSpPr/>
          <p:nvPr/>
        </p:nvSpPr>
        <p:spPr>
          <a:xfrm>
            <a:off x="4932360" y="177336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30"/>
          <p:cNvSpPr/>
          <p:nvPr/>
        </p:nvSpPr>
        <p:spPr>
          <a:xfrm flipH="1">
            <a:off x="2050560" y="1700280"/>
            <a:ext cx="201636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31"/>
          <p:cNvSpPr/>
          <p:nvPr/>
        </p:nvSpPr>
        <p:spPr>
          <a:xfrm flipH="1">
            <a:off x="3276720" y="573408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33"/>
          <p:cNvSpPr/>
          <p:nvPr/>
        </p:nvSpPr>
        <p:spPr>
          <a:xfrm>
            <a:off x="2050920" y="4653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95640" y="6453360"/>
            <a:ext cx="46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Shaffer et al (2008) in Geoscientific Model Developme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Model geometry and some compon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Globe"/>
          <p:cNvPicPr/>
          <p:nvPr/>
        </p:nvPicPr>
        <p:blipFill>
          <a:blip r:embed="rId2"/>
          <a:stretch/>
        </p:blipFill>
        <p:spPr>
          <a:xfrm>
            <a:off x="2357280" y="1071720"/>
            <a:ext cx="4349880" cy="4809960"/>
          </a:xfrm>
          <a:prstGeom prst="rect">
            <a:avLst/>
          </a:prstGeom>
          <a:ln w="0">
            <a:noFill/>
          </a:ln>
        </p:spPr>
      </p:pic>
      <p:sp>
        <p:nvSpPr>
          <p:cNvPr id="123" name="Right Arrow 6"/>
          <p:cNvSpPr/>
          <p:nvPr/>
        </p:nvSpPr>
        <p:spPr>
          <a:xfrm>
            <a:off x="3500280" y="4214880"/>
            <a:ext cx="357480" cy="71280"/>
          </a:xfrm>
          <a:prstGeom prst="rightArrow">
            <a:avLst>
              <a:gd name="adj1" fmla="val 50000"/>
              <a:gd name="adj2" fmla="val 50152"/>
            </a:avLst>
          </a:pr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2143080" y="4000680"/>
            <a:ext cx="157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 baseline="-25000">
                <a:solidFill>
                  <a:srgbClr val="ffff00"/>
                </a:solidFill>
                <a:latin typeface="Times New Roman"/>
              </a:rPr>
              <a:t>River in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Up-Down Arrow 8"/>
          <p:cNvSpPr/>
          <p:nvPr/>
        </p:nvSpPr>
        <p:spPr>
          <a:xfrm>
            <a:off x="4500720" y="2000160"/>
            <a:ext cx="45720" cy="785880"/>
          </a:xfrm>
          <a:prstGeom prst="upDownArrow">
            <a:avLst>
              <a:gd name="adj1" fmla="val 50000"/>
              <a:gd name="adj2" fmla="val 49975"/>
            </a:avLst>
          </a:prstGeom>
          <a:solidFill>
            <a:srgbClr val="00cc99"/>
          </a:solidFill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4644720" y="2143080"/>
            <a:ext cx="1043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 baseline="-25000">
                <a:solidFill>
                  <a:srgbClr val="ffff00"/>
                </a:solidFill>
                <a:latin typeface="Times New Roman"/>
              </a:rPr>
              <a:t>Atm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 baseline="-25000">
                <a:solidFill>
                  <a:srgbClr val="ffff00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11"/>
          <p:cNvSpPr/>
          <p:nvPr/>
        </p:nvSpPr>
        <p:spPr>
          <a:xfrm>
            <a:off x="2357280" y="3643200"/>
            <a:ext cx="1271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 baseline="-25000">
                <a:solidFill>
                  <a:srgbClr val="ffff00"/>
                </a:solidFill>
                <a:latin typeface="Times New Roman"/>
              </a:rPr>
              <a:t>Weath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Isosceles Triangle 12"/>
          <p:cNvSpPr/>
          <p:nvPr/>
        </p:nvSpPr>
        <p:spPr>
          <a:xfrm>
            <a:off x="3143160" y="2357280"/>
            <a:ext cx="233280" cy="2336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Isosceles Triangle 14"/>
          <p:cNvSpPr/>
          <p:nvPr/>
        </p:nvSpPr>
        <p:spPr>
          <a:xfrm>
            <a:off x="3429000" y="2357280"/>
            <a:ext cx="177840" cy="1796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15"/>
          <p:cNvSpPr/>
          <p:nvPr/>
        </p:nvSpPr>
        <p:spPr>
          <a:xfrm>
            <a:off x="2571840" y="2500200"/>
            <a:ext cx="1073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 baseline="-25000">
                <a:solidFill>
                  <a:srgbClr val="ffff00"/>
                </a:solidFill>
                <a:latin typeface="Times New Roman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 baseline="-25000">
                <a:solidFill>
                  <a:srgbClr val="ffff00"/>
                </a:solidFill>
                <a:latin typeface="Times New Roman"/>
              </a:rPr>
              <a:t>bio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Isosceles Triangle 14"/>
          <p:cNvSpPr/>
          <p:nvPr/>
        </p:nvSpPr>
        <p:spPr>
          <a:xfrm>
            <a:off x="2571840" y="3143160"/>
            <a:ext cx="285840" cy="285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2857680" y="3071880"/>
            <a:ext cx="1214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 baseline="-25000">
                <a:solidFill>
                  <a:srgbClr val="ffff00"/>
                </a:solidFill>
                <a:latin typeface="Times New Roman"/>
              </a:rPr>
              <a:t>Volcanic   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Isosceles Triangle 13"/>
          <p:cNvSpPr/>
          <p:nvPr/>
        </p:nvSpPr>
        <p:spPr>
          <a:xfrm>
            <a:off x="3286080" y="242892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Ocean and ocean sediment sub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79280" y="1990800"/>
            <a:ext cx="8785440" cy="346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imes New Roman"/>
              </a:rPr>
              <a:t>Model fit to ocean data for standard parameter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3" descr="plotprof.jpg"/>
          <p:cNvPicPr/>
          <p:nvPr/>
        </p:nvPicPr>
        <p:blipFill>
          <a:blip r:embed="rId2"/>
          <a:stretch/>
        </p:blipFill>
        <p:spPr>
          <a:xfrm>
            <a:off x="1116000" y="836640"/>
            <a:ext cx="6791400" cy="55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0629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CESS model simulation from 1765 to 2000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2"/>
          <a:stretch/>
        </p:blipFill>
        <p:spPr>
          <a:xfrm>
            <a:off x="1116000" y="1120680"/>
            <a:ext cx="6696000" cy="544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2789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CESS model simulation from 1765 to 2000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2"/>
          <a:stretch/>
        </p:blipFill>
        <p:spPr>
          <a:xfrm>
            <a:off x="1042920" y="1192320"/>
            <a:ext cx="6697800" cy="54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Standard vs no ocean heat upt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4421160" cy="5157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427640" y="1413000"/>
            <a:ext cx="4471920" cy="521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Standard vs no ocean CO</a:t>
            </a:r>
            <a:r>
              <a:rPr b="0" lang="da-DK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 upt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4421160" cy="5157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427640" y="1413000"/>
            <a:ext cx="4437000" cy="51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ntrol of atmospheric pCO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on different time 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62864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cale              Components                  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3366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- 10</a:t>
            </a:r>
            <a:r>
              <a:rPr b="0" lang="en-US" sz="2400" spc="-1" strike="noStrike" baseline="30000">
                <a:solidFill>
                  <a:srgbClr val="336600"/>
                </a:solidFill>
                <a:latin typeface="Times New Roman"/>
              </a:rPr>
              <a:t>9  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yrs            lithosphere               volcanism, burial,              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                      biosphere                     weath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3366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- 10</a:t>
            </a:r>
            <a:r>
              <a:rPr b="0" lang="en-US" sz="2400" spc="-1" strike="noStrike" baseline="30000">
                <a:solidFill>
                  <a:srgbClr val="3366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yrs            hydrosphere            ocean circulation and 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                      biosphere               biogeochemical cycling,         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                                                      carbonate dis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10 – 10</a:t>
            </a:r>
            <a:r>
              <a:rPr b="0" lang="en-US" sz="2400" spc="-1" strike="noStrike" baseline="30000">
                <a:solidFill>
                  <a:srgbClr val="3366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yrs             biosphere                 fossil fuel burni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                                    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land ecosystem shifts,                                                          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                                                        land use chan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Standard vs no ocean heat nor CO</a:t>
            </a:r>
            <a:r>
              <a:rPr b="0" lang="da-DK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 upt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4421160" cy="5157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427640" y="1413000"/>
            <a:ext cx="4471920" cy="521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Some positive climate feedbacks via oceanic CO</a:t>
            </a:r>
            <a:r>
              <a:rPr b="0" lang="da-DK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1916280"/>
            <a:ext cx="8713800" cy="35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*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 solubility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p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*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CP 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p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precip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, winds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dus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NP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p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MH 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DIC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p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0920" y="5950080"/>
            <a:ext cx="49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(* included in the DCESS Earth System mod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Some negative climate feedbacks via oceanic CO</a:t>
            </a:r>
            <a:r>
              <a:rPr b="0" lang="da-DK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1628640"/>
            <a:ext cx="871380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*  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sea ice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NP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p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*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weathering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runoff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NP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p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*  p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Alk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p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CP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p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28680" y="5661000"/>
            <a:ext cx="49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(* included in the DCESS Earth System mod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cenario greenhouse gas and aerosol forc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 rot="10800000">
            <a:off x="4648320" y="1911240"/>
            <a:ext cx="6984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5786280" y="1125360"/>
            <a:ext cx="321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anthropoge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emissions (G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A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372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A1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9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153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A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82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Content Placeholder 14" descr="Forcing.jpg"/>
          <p:cNvPicPr/>
          <p:nvPr/>
        </p:nvPicPr>
        <p:blipFill>
          <a:blip r:embed="rId2"/>
          <a:stretch/>
        </p:blipFill>
        <p:spPr>
          <a:xfrm>
            <a:off x="571680" y="714240"/>
            <a:ext cx="5000400" cy="61437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722920" y="5516640"/>
            <a:ext cx="317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emissions by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re 522 G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Future Earth System projections for SRES B1 and A2 fo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050920" y="836640"/>
            <a:ext cx="5378760" cy="67611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415640" y="5805360"/>
            <a:ext cx="178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Shaffer et al. (200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Nature Geoscien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.5 million year run for doubling lithosphere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CO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outga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Rectangle 3" descr=""/>
          <p:cNvPicPr/>
          <p:nvPr/>
        </p:nvPicPr>
        <p:blipFill>
          <a:blip r:embed="rId2"/>
          <a:stretch/>
        </p:blipFill>
        <p:spPr>
          <a:xfrm>
            <a:off x="2050920" y="1125360"/>
            <a:ext cx="5283360" cy="573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Methane Hyd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6360" y="2276640"/>
            <a:ext cx="3762360" cy="36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 estimates of MH in the ocean sediment center around 10000 G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parison, available fossil fuel resources are ab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a-D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0 G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4" descr="MethaneHyrdate1"/>
          <p:cNvPicPr/>
          <p:nvPr/>
        </p:nvPicPr>
        <p:blipFill>
          <a:blip r:embed="rId2"/>
          <a:stretch/>
        </p:blipFill>
        <p:spPr>
          <a:xfrm>
            <a:off x="685800" y="1523880"/>
            <a:ext cx="4017960" cy="471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MH release and ocean wa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4876560" cy="41148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257440" y="167652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MH release leads to increased GHG forcing (CH</a:t>
            </a:r>
            <a:r>
              <a:rPr b="0" lang="da-DK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 and its oxidation product CO</a:t>
            </a:r>
            <a:r>
              <a:rPr b="0" lang="da-DK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) and warmer clim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Warmer climate promotes the release of more MH as the ocean is warmed fur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Warming in the ocean leads to release of MH in ocean sed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203480" y="568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296640" y="5943600"/>
            <a:ext cx="38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Dickens 2003, Earth and Planetary Science Let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151920"/>
            <a:ext cx="77724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CESS Earth System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468360" y="16286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7"/>
          <p:cNvSpPr/>
          <p:nvPr/>
        </p:nvSpPr>
        <p:spPr>
          <a:xfrm>
            <a:off x="3348000" y="2492280"/>
            <a:ext cx="230364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8"/>
          <p:cNvSpPr/>
          <p:nvPr/>
        </p:nvSpPr>
        <p:spPr>
          <a:xfrm>
            <a:off x="5580000" y="3645000"/>
            <a:ext cx="2305080" cy="9144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9"/>
          <p:cNvSpPr/>
          <p:nvPr/>
        </p:nvSpPr>
        <p:spPr>
          <a:xfrm>
            <a:off x="5508720" y="5229360"/>
            <a:ext cx="24480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 Sed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971640" y="3716280"/>
            <a:ext cx="2376360" cy="9144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d Bi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11"/>
          <p:cNvSpPr/>
          <p:nvPr/>
        </p:nvSpPr>
        <p:spPr>
          <a:xfrm>
            <a:off x="900000" y="5229360"/>
            <a:ext cx="237672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h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12"/>
          <p:cNvSpPr/>
          <p:nvPr/>
        </p:nvSpPr>
        <p:spPr>
          <a:xfrm>
            <a:off x="4067280" y="112536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4500720" y="2060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7"/>
          <p:cNvSpPr/>
          <p:nvPr/>
        </p:nvSpPr>
        <p:spPr>
          <a:xfrm flipH="1">
            <a:off x="2916000" y="3429000"/>
            <a:ext cx="136836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8"/>
          <p:cNvSpPr/>
          <p:nvPr/>
        </p:nvSpPr>
        <p:spPr>
          <a:xfrm flipV="1">
            <a:off x="3059280" y="3429000"/>
            <a:ext cx="136836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9"/>
          <p:cNvSpPr/>
          <p:nvPr/>
        </p:nvSpPr>
        <p:spPr>
          <a:xfrm>
            <a:off x="5580000" y="306864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20"/>
          <p:cNvSpPr/>
          <p:nvPr/>
        </p:nvSpPr>
        <p:spPr>
          <a:xfrm flipH="1" flipV="1">
            <a:off x="5508360" y="3141720"/>
            <a:ext cx="71892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23"/>
          <p:cNvSpPr/>
          <p:nvPr/>
        </p:nvSpPr>
        <p:spPr>
          <a:xfrm>
            <a:off x="6804000" y="458136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24"/>
          <p:cNvSpPr/>
          <p:nvPr/>
        </p:nvSpPr>
        <p:spPr>
          <a:xfrm flipV="1">
            <a:off x="6659640" y="458136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26"/>
          <p:cNvSpPr/>
          <p:nvPr/>
        </p:nvSpPr>
        <p:spPr>
          <a:xfrm flipV="1">
            <a:off x="3203640" y="4365360"/>
            <a:ext cx="252072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27"/>
          <p:cNvSpPr/>
          <p:nvPr/>
        </p:nvSpPr>
        <p:spPr>
          <a:xfrm flipH="1">
            <a:off x="2626920" y="3141720"/>
            <a:ext cx="792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28"/>
          <p:cNvSpPr/>
          <p:nvPr/>
        </p:nvSpPr>
        <p:spPr>
          <a:xfrm flipV="1">
            <a:off x="2843280" y="321264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29"/>
          <p:cNvSpPr/>
          <p:nvPr/>
        </p:nvSpPr>
        <p:spPr>
          <a:xfrm>
            <a:off x="4932360" y="177336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30"/>
          <p:cNvSpPr/>
          <p:nvPr/>
        </p:nvSpPr>
        <p:spPr>
          <a:xfrm flipH="1">
            <a:off x="2050560" y="1700280"/>
            <a:ext cx="201636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31"/>
          <p:cNvSpPr/>
          <p:nvPr/>
        </p:nvSpPr>
        <p:spPr>
          <a:xfrm flipH="1">
            <a:off x="3276720" y="573408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33"/>
          <p:cNvSpPr/>
          <p:nvPr/>
        </p:nvSpPr>
        <p:spPr>
          <a:xfrm>
            <a:off x="2050920" y="4653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92360" y="5877000"/>
            <a:ext cx="1871640" cy="83664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Hyd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427640" y="3429000"/>
            <a:ext cx="73080" cy="24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500720" y="4437000"/>
            <a:ext cx="1366560" cy="14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40360" y="443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643280" y="4437000"/>
            <a:ext cx="1368720" cy="14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292720" y="58770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CO</a:t>
            </a:r>
            <a:r>
              <a:rPr b="0" lang="da-DK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 and temperature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143000" y="1600200"/>
            <a:ext cx="6858000" cy="495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flipV="1">
            <a:off x="7924680" y="1523880"/>
            <a:ext cx="0" cy="914400"/>
          </a:xfrm>
          <a:prstGeom prst="line">
            <a:avLst/>
          </a:prstGeom>
          <a:ln w="38160">
            <a:solidFill>
              <a:srgbClr val="e86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924680" y="129528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da-DK" sz="14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Times New Roman"/>
              </a:rPr>
              <a:t>(386 pp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7924680" y="4647960"/>
            <a:ext cx="0" cy="759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080" y="-3586680"/>
            <a:ext cx="6660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Rectangle 3" descr=""/>
          <p:cNvPicPr/>
          <p:nvPr/>
        </p:nvPicPr>
        <p:blipFill>
          <a:blip r:embed="rId2"/>
          <a:stretch/>
        </p:blipFill>
        <p:spPr>
          <a:xfrm>
            <a:off x="684360" y="907920"/>
            <a:ext cx="7921440" cy="541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fig1"/>
          <p:cNvPicPr/>
          <p:nvPr/>
        </p:nvPicPr>
        <p:blipFill>
          <a:blip r:embed="rId2"/>
          <a:srcRect l="13660" t="0" r="0" b="7130"/>
          <a:stretch/>
        </p:blipFill>
        <p:spPr>
          <a:xfrm>
            <a:off x="1511280" y="1327320"/>
            <a:ext cx="5691240" cy="46940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4973760" y="3467160"/>
            <a:ext cx="2514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tmospheric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ＭＳ Ｐゴシック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5759280" y="49338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048360" y="432288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037040" y="17002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fossil fuel e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5076720" y="2846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fore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7381800" y="2052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7.5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8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7381800" y="30844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1.5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1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7381800" y="37306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4.2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4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7381800" y="49896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2.3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2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7381800" y="44496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2.6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2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7360920" y="1285920"/>
            <a:ext cx="157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2000-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6"/>
          <p:cNvSpPr/>
          <p:nvPr/>
        </p:nvSpPr>
        <p:spPr>
          <a:xfrm rot="16200000">
            <a:off x="-239400" y="3166200"/>
            <a:ext cx="221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Arial Narrow"/>
                <a:ea typeface="ＭＳ Ｐゴシック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flux (Pg C y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 Narrow"/>
                <a:ea typeface="ＭＳ Ｐゴシック"/>
              </a:rPr>
              <a:t>-1</a:t>
            </a:r>
            <a:r>
              <a:rPr b="0" lang="en-AU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7"/>
          <p:cNvSpPr/>
          <p:nvPr/>
        </p:nvSpPr>
        <p:spPr>
          <a:xfrm rot="16200000">
            <a:off x="1021680" y="3953520"/>
            <a:ext cx="58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8"/>
          <p:cNvSpPr/>
          <p:nvPr/>
        </p:nvSpPr>
        <p:spPr>
          <a:xfrm rot="16200000">
            <a:off x="894960" y="2680560"/>
            <a:ext cx="8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3925440" y="587700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Time 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5"/>
          <p:cNvSpPr/>
          <p:nvPr/>
        </p:nvSpPr>
        <p:spPr>
          <a:xfrm>
            <a:off x="1266480" y="260280"/>
            <a:ext cx="70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Human perturbation of the global carbon 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6"/>
          <p:cNvSpPr/>
          <p:nvPr/>
        </p:nvSpPr>
        <p:spPr>
          <a:xfrm>
            <a:off x="3302640" y="6504120"/>
            <a:ext cx="207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Global Carbon Project (200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7"/>
          <p:cNvSpPr/>
          <p:nvPr/>
        </p:nvSpPr>
        <p:spPr>
          <a:xfrm>
            <a:off x="7786800" y="164304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G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Land carbon cyc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299360" y="2276640"/>
            <a:ext cx="85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ectangle 3" descr=""/>
          <p:cNvPicPr/>
          <p:nvPr/>
        </p:nvPicPr>
        <p:blipFill>
          <a:blip r:embed="rId2"/>
          <a:stretch/>
        </p:blipFill>
        <p:spPr>
          <a:xfrm>
            <a:off x="1619280" y="1484280"/>
            <a:ext cx="5688000" cy="4848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85800" y="6021000"/>
            <a:ext cx="69840" cy="7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Modelled land carbon storages as functions of</a:t>
            </a:r>
            <a:br>
              <a:rPr sz="2800"/>
            </a:b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 pCO</a:t>
            </a:r>
            <a:r>
              <a:rPr b="0" lang="da-DK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 and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1619280" y="1197000"/>
            <a:ext cx="5977080" cy="54831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7632720" y="6021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Gerber et 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(2004), GC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333360"/>
            <a:ext cx="821520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Climate-carbon model sensitivities to CO</a:t>
            </a:r>
            <a:r>
              <a:rPr b="0" lang="da-DK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 and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8786880" cy="32655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6072120" y="592920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Friedensten et 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(2006), J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cean chlorophyll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Rectangle 3" descr=""/>
          <p:cNvPicPr/>
          <p:nvPr/>
        </p:nvPicPr>
        <p:blipFill>
          <a:blip r:embed="rId2"/>
          <a:stretch/>
        </p:blipFill>
        <p:spPr>
          <a:xfrm>
            <a:off x="1116000" y="907920"/>
            <a:ext cx="6913440" cy="5950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0T13:50:50Z</dcterms:created>
  <dc:creator>MBK</dc:creator>
  <dc:description/>
  <dc:language>en-US</dc:language>
  <cp:lastModifiedBy>Gary Shaffer</cp:lastModifiedBy>
  <dcterms:modified xsi:type="dcterms:W3CDTF">2009-10-06T16:24:58Z</dcterms:modified>
  <cp:revision>362</cp:revision>
  <dc:subject/>
  <dc:title>The Role of Deep-decoupling Oscillations in Glacial Climate Variability</dc:title>
</cp:coreProperties>
</file>