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2.png" ContentType="image/png"/>
  <Override PartName="/ppt/media/image6.wmf" ContentType="image/x-wmf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5.wmf" ContentType="image/x-wmf"/>
  <Override PartName="/ppt/media/image23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36760" y="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532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0908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36760" y="910908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F2BF94D-DD3E-4D2F-A3FA-3D58B206B2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37120" y="9107640"/>
            <a:ext cx="3165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5363A0E-1D12-4001-B46E-050FBB510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795560" cy="3597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tmospheric CO2 accumulation is meaure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source terms are estimated from energy consumption and defores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ocean sink is mode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land sink is the residual from closing the balance (it is not directly measur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re details are: http://lgmacweb.env.uea.ac.uk/lequere/co2/carbon_budget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326-455D-4C17-BCDB-862EB482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025-D08F-4CAF-9364-A1F82B8F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2D4-CD29-45B0-915B-BC42B486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98D-2081-4624-8285-1BAF52B2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0C0-0A1A-487F-A55A-0F05120B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ED7-CA43-4EFF-922C-3F0350BE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A55-49BA-41AD-B9F0-549B87C5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EF8-771A-49C1-8CD5-6D4430A4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841-F7CA-4D22-A15B-ACCBC80A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F01-9151-4EAA-8C3B-86D9B044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99A-D56F-49C6-AF35-D1C667F7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6CE-0437-49AD-B6BD-B51BB24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/11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6247-22D3-41D8-A7FA-992FE2024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755640" y="1735200"/>
            <a:ext cx="7345440" cy="4433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-anthropogenic C cycle and recent perturb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Air-sea exchange of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from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1640" y="1084320"/>
            <a:ext cx="7345440" cy="50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served” ocean uptake of anthropogenic C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684360" y="1639800"/>
            <a:ext cx="748800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Earth System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324720" y="3749040"/>
            <a:ext cx="730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68360" y="162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7"/>
          <p:cNvSpPr/>
          <p:nvPr/>
        </p:nvSpPr>
        <p:spPr>
          <a:xfrm>
            <a:off x="3348000" y="2492280"/>
            <a:ext cx="230364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5580000" y="3645000"/>
            <a:ext cx="2305080" cy="914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5508720" y="5229360"/>
            <a:ext cx="2448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971640" y="3716280"/>
            <a:ext cx="237636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900000" y="5229360"/>
            <a:ext cx="237672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4067280" y="1125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50072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916000" y="3429000"/>
            <a:ext cx="1368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 flipV="1">
            <a:off x="3059280" y="3429000"/>
            <a:ext cx="1368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580000" y="306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 flipH="1" flipV="1">
            <a:off x="5508360" y="3141720"/>
            <a:ext cx="718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6804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V="1">
            <a:off x="665964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6"/>
          <p:cNvSpPr/>
          <p:nvPr/>
        </p:nvSpPr>
        <p:spPr>
          <a:xfrm flipV="1">
            <a:off x="3203640" y="4365360"/>
            <a:ext cx="25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7"/>
          <p:cNvSpPr/>
          <p:nvPr/>
        </p:nvSpPr>
        <p:spPr>
          <a:xfrm flipH="1">
            <a:off x="2626920" y="314172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8"/>
          <p:cNvSpPr/>
          <p:nvPr/>
        </p:nvSpPr>
        <p:spPr>
          <a:xfrm flipV="1">
            <a:off x="2843280" y="3212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4932360" y="177336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 flipH="1">
            <a:off x="2050560" y="1700280"/>
            <a:ext cx="2016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1"/>
          <p:cNvSpPr/>
          <p:nvPr/>
        </p:nvSpPr>
        <p:spPr>
          <a:xfrm flipH="1">
            <a:off x="3276720" y="57340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3"/>
          <p:cNvSpPr/>
          <p:nvPr/>
        </p:nvSpPr>
        <p:spPr>
          <a:xfrm>
            <a:off x="205092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645336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haffer et al (2008) in Geoscientific Model Develop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odel geometry and some compon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Globe"/>
          <p:cNvPicPr/>
          <p:nvPr/>
        </p:nvPicPr>
        <p:blipFill>
          <a:blip r:embed="rId2"/>
          <a:stretch/>
        </p:blipFill>
        <p:spPr>
          <a:xfrm>
            <a:off x="2357280" y="1071720"/>
            <a:ext cx="4349880" cy="4809960"/>
          </a:xfrm>
          <a:prstGeom prst="rect">
            <a:avLst/>
          </a:prstGeom>
          <a:ln w="0">
            <a:noFill/>
          </a:ln>
        </p:spPr>
      </p:pic>
      <p:sp>
        <p:nvSpPr>
          <p:cNvPr id="123" name="Right Arrow 6"/>
          <p:cNvSpPr/>
          <p:nvPr/>
        </p:nvSpPr>
        <p:spPr>
          <a:xfrm>
            <a:off x="3500280" y="4214880"/>
            <a:ext cx="357480" cy="71280"/>
          </a:xfrm>
          <a:prstGeom prst="rightArrow">
            <a:avLst>
              <a:gd name="adj1" fmla="val 50000"/>
              <a:gd name="adj2" fmla="val 50152"/>
            </a:avLst>
          </a:pr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143080" y="4000680"/>
            <a:ext cx="15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River in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Up-Down Arrow 8"/>
          <p:cNvSpPr/>
          <p:nvPr/>
        </p:nvSpPr>
        <p:spPr>
          <a:xfrm>
            <a:off x="4500720" y="2000160"/>
            <a:ext cx="45720" cy="78588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00cc99"/>
          </a:solidFill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644720" y="2143080"/>
            <a:ext cx="1043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2357280" y="3643200"/>
            <a:ext cx="127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We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Isosceles Triangle 12"/>
          <p:cNvSpPr/>
          <p:nvPr/>
        </p:nvSpPr>
        <p:spPr>
          <a:xfrm>
            <a:off x="3143160" y="2357280"/>
            <a:ext cx="233280" cy="233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Isosceles Triangle 14"/>
          <p:cNvSpPr/>
          <p:nvPr/>
        </p:nvSpPr>
        <p:spPr>
          <a:xfrm>
            <a:off x="3429000" y="2357280"/>
            <a:ext cx="177840" cy="179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2571840" y="2500200"/>
            <a:ext cx="107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Isosceles Triangle 14"/>
          <p:cNvSpPr/>
          <p:nvPr/>
        </p:nvSpPr>
        <p:spPr>
          <a:xfrm>
            <a:off x="2571840" y="314316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2857680" y="3071880"/>
            <a:ext cx="121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Volcanic   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Isosceles Triangle 13"/>
          <p:cNvSpPr/>
          <p:nvPr/>
        </p:nvSpPr>
        <p:spPr>
          <a:xfrm>
            <a:off x="3286080" y="24289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Ocean and ocean sediment sub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990800"/>
            <a:ext cx="878544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imes New Roman"/>
              </a:rPr>
              <a:t>Model fit to ocean data for standard parameter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plotprof.jpg"/>
          <p:cNvPicPr/>
          <p:nvPr/>
        </p:nvPicPr>
        <p:blipFill>
          <a:blip r:embed="rId2"/>
          <a:stretch/>
        </p:blipFill>
        <p:spPr>
          <a:xfrm>
            <a:off x="1116000" y="836640"/>
            <a:ext cx="679140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62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model simulation from 1765 to 2000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2"/>
          <a:stretch/>
        </p:blipFill>
        <p:spPr>
          <a:xfrm>
            <a:off x="1116000" y="1120680"/>
            <a:ext cx="6696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278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model simulation from 1765 to 2000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2"/>
          <a:stretch/>
        </p:blipFill>
        <p:spPr>
          <a:xfrm>
            <a:off x="1042920" y="1192320"/>
            <a:ext cx="669780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heat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7192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37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trol of atmospheric pC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n different time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628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cale              Components                  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-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9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yrs            lithosphere               volcanism, burial,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biosphere                     we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-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yrs            hydrosphere            ocean circulation and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biosphere               biogeochemical cycling,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carbonate dis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 –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yrs             biosphere                 fossil fuel burn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land ecosystem shifts,                                      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  land use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heat nor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7192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ome positive climate feedbacks via oceanic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916280"/>
            <a:ext cx="871380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solubility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P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reci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, winds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dus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MH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DIC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595008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(* included in the DCESS Earth System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ome negative climate feedbacks via oceanic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628640"/>
            <a:ext cx="87138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 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sea ice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weathering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runoff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 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Alk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8680" y="566100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(* included in the DCESS Earth System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cenario greenhouse gas and aerosol forc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 rot="10800000">
            <a:off x="464832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786280" y="1125360"/>
            <a:ext cx="32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anthropog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emissions (G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72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1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153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8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Content Placeholder 14" descr="Forcing.jpg"/>
          <p:cNvPicPr/>
          <p:nvPr/>
        </p:nvPicPr>
        <p:blipFill>
          <a:blip r:embed="rId2"/>
          <a:stretch/>
        </p:blipFill>
        <p:spPr>
          <a:xfrm>
            <a:off x="571680" y="714240"/>
            <a:ext cx="5000400" cy="6143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722920" y="5516640"/>
            <a:ext cx="31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missions by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522 G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Future Earth System projections for SRES B1 and A2 fo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050920" y="836640"/>
            <a:ext cx="5378760" cy="6761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415640" y="5805360"/>
            <a:ext cx="178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haffer et al. (200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Nature Geoscie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5 million year run for doubling lithospher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utg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Rectangle 3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528336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ethane 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6360" y="2276640"/>
            <a:ext cx="376236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estimates of MH in the ocean sediment center around 10000 G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parison, available fossil fuel resources are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G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ethaneHyrdate1"/>
          <p:cNvPicPr/>
          <p:nvPr/>
        </p:nvPicPr>
        <p:blipFill>
          <a:blip r:embed="rId2"/>
          <a:stretch/>
        </p:blipFill>
        <p:spPr>
          <a:xfrm>
            <a:off x="685800" y="1523880"/>
            <a:ext cx="401796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H release and ocean w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487656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57440" y="16765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MH release leads to increased GHG forcing (CH</a:t>
            </a:r>
            <a:r>
              <a:rPr b="0" lang="da-DK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 and its oxidation product CO</a:t>
            </a:r>
            <a:r>
              <a:rPr b="0" lang="da-DK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) and warmer 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armer climate promotes the release of more MH as the ocean is warmed fur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arming in the ocean leads to release of MH in ocean sed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034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96640" y="5943600"/>
            <a:ext cx="38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Dickens 2003, Earth and Planetary Science Let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Earth System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68360" y="162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3348000" y="2492280"/>
            <a:ext cx="230364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580000" y="3645000"/>
            <a:ext cx="2305080" cy="914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5508720" y="5229360"/>
            <a:ext cx="2448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971640" y="3716280"/>
            <a:ext cx="237636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900000" y="5229360"/>
            <a:ext cx="237672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4067280" y="1125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450072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7"/>
          <p:cNvSpPr/>
          <p:nvPr/>
        </p:nvSpPr>
        <p:spPr>
          <a:xfrm flipH="1">
            <a:off x="2916000" y="3429000"/>
            <a:ext cx="1368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8"/>
          <p:cNvSpPr/>
          <p:nvPr/>
        </p:nvSpPr>
        <p:spPr>
          <a:xfrm flipV="1">
            <a:off x="3059280" y="3429000"/>
            <a:ext cx="1368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5580000" y="306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0"/>
          <p:cNvSpPr/>
          <p:nvPr/>
        </p:nvSpPr>
        <p:spPr>
          <a:xfrm flipH="1" flipV="1">
            <a:off x="5508360" y="3141720"/>
            <a:ext cx="718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6804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4"/>
          <p:cNvSpPr/>
          <p:nvPr/>
        </p:nvSpPr>
        <p:spPr>
          <a:xfrm flipV="1">
            <a:off x="665964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6"/>
          <p:cNvSpPr/>
          <p:nvPr/>
        </p:nvSpPr>
        <p:spPr>
          <a:xfrm flipV="1">
            <a:off x="3203640" y="4365360"/>
            <a:ext cx="25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7"/>
          <p:cNvSpPr/>
          <p:nvPr/>
        </p:nvSpPr>
        <p:spPr>
          <a:xfrm flipH="1">
            <a:off x="2626920" y="314172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8"/>
          <p:cNvSpPr/>
          <p:nvPr/>
        </p:nvSpPr>
        <p:spPr>
          <a:xfrm flipV="1">
            <a:off x="2843280" y="3212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9"/>
          <p:cNvSpPr/>
          <p:nvPr/>
        </p:nvSpPr>
        <p:spPr>
          <a:xfrm>
            <a:off x="4932360" y="177336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0"/>
          <p:cNvSpPr/>
          <p:nvPr/>
        </p:nvSpPr>
        <p:spPr>
          <a:xfrm flipH="1">
            <a:off x="2050560" y="1700280"/>
            <a:ext cx="2016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1"/>
          <p:cNvSpPr/>
          <p:nvPr/>
        </p:nvSpPr>
        <p:spPr>
          <a:xfrm flipH="1">
            <a:off x="3276720" y="57340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205092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2360" y="5877000"/>
            <a:ext cx="1871640" cy="836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27640" y="3429000"/>
            <a:ext cx="7308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4437000"/>
            <a:ext cx="13665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643280" y="4437000"/>
            <a:ext cx="136872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292720" y="5877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emperature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1600200"/>
            <a:ext cx="685800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7924680" y="1523880"/>
            <a:ext cx="0" cy="914400"/>
          </a:xfrm>
          <a:prstGeom prst="line">
            <a:avLst/>
          </a:prstGeom>
          <a:ln w="38160">
            <a:solidFill>
              <a:srgbClr val="e86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12952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(386 pp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924680" y="4647960"/>
            <a:ext cx="0" cy="75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080" y="-3586680"/>
            <a:ext cx="666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92144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g1"/>
          <p:cNvPicPr/>
          <p:nvPr/>
        </p:nvPicPr>
        <p:blipFill>
          <a:blip r:embed="rId2"/>
          <a:srcRect l="13660" t="0" r="0" b="7130"/>
          <a:stretch/>
        </p:blipFill>
        <p:spPr>
          <a:xfrm>
            <a:off x="1511280" y="1327320"/>
            <a:ext cx="5691240" cy="4694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973760" y="3467160"/>
            <a:ext cx="2514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tmospheric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759280" y="4933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48360" y="43228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037040" y="1700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ossil fuel 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076720" y="284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fore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7381800" y="2052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7.5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381800" y="30844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.5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381800" y="37306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4.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381800" y="49896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.3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7381800" y="44496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.6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360920" y="128592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000-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 rot="16200000">
            <a:off x="-239400" y="3166200"/>
            <a:ext cx="221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flux (Pg C y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 Narrow"/>
                <a:ea typeface="ＭＳ Ｐゴシック"/>
              </a:rPr>
              <a:t>-1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 rot="16200000">
            <a:off x="1021680" y="3953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 rot="16200000">
            <a:off x="894960" y="26805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925440" y="58770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ime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1266480" y="260280"/>
            <a:ext cx="70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Human perturbation of the global carbon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3302640" y="650412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lobal Carbon Project (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7786800" y="1643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G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Land carbon 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9360" y="2276640"/>
            <a:ext cx="8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5688000" cy="4848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6021000"/>
            <a:ext cx="69840" cy="7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odelled land carbon storages as functions of</a:t>
            </a:r>
            <a:br>
              <a:rPr sz="2800"/>
            </a:b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p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977080" cy="548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7632720" y="602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Gerber et 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2004), G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333360"/>
            <a:ext cx="82152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limate-carbon model sensitivities to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86880" cy="3265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6072120" y="592920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Friedensten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2006), 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cean chlorophyll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6913440" cy="595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50:50Z</dcterms:created>
  <dc:creator>MBK</dc:creator>
  <dc:description/>
  <dc:language>en-US</dc:language>
  <cp:lastModifiedBy>Gary Shaffer</cp:lastModifiedBy>
  <dcterms:modified xsi:type="dcterms:W3CDTF">2009-10-06T16:24:58Z</dcterms:modified>
  <cp:revision>362</cp:revision>
  <dc:subject/>
  <dc:title>The Role of Deep-decoupling Oscillations in Glacial Climate Variability</dc:title>
</cp:coreProperties>
</file>