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67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532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67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4141189-81D7-4932-A8E4-295F957A1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37120" y="9107640"/>
            <a:ext cx="3165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AAC2F6F-25FE-41E8-859E-21140B8BD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95560" cy="3597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tmospheric CO2 accumulation is meaur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ource terms are estimated from energy consumption and defores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ocean sink is mode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and sink is the residual from closing the balance (it is not directly measur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e details are: http://lgmacweb.env.uea.ac.uk/lequere/co2/carbon_budget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ADE-828F-4CBC-B636-948FC339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CF6-B47C-4A7F-8146-B74E94EC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F39-57CD-4148-A463-63AAEB04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D3B-ABD4-4575-AE83-A6EBB911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B9D-F82E-4B76-9692-4DC3C3EF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3B7-5E9D-4178-B4EA-26AF779D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9CE-ED19-4C53-A1FD-95FC635A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265-21FE-4C6E-BF74-88F8AF9F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8D5-35B1-43E8-84DD-A753C2BA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FD8-3FDC-4102-903C-FD4DF62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5B2-4C20-499E-9A12-5929305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9A9-5F64-4FE4-94DB-E41671F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5E4A-AB2B-4EAC-9EA4-8259C8228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755640" y="1735200"/>
            <a:ext cx="7345440" cy="443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-anthropogenic C cycle and recent perturb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Air-sea exchange of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from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1084320"/>
            <a:ext cx="7345440" cy="50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served” ocean uptake of anthropogenic C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684360" y="1639800"/>
            <a:ext cx="74880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324720" y="374904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6453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 (2008) in Geoscientific Model Develop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 geometry and some compon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Globe"/>
          <p:cNvPicPr/>
          <p:nvPr/>
        </p:nvPicPr>
        <p:blipFill>
          <a:blip r:embed="rId2"/>
          <a:stretch/>
        </p:blipFill>
        <p:spPr>
          <a:xfrm>
            <a:off x="2357280" y="1071720"/>
            <a:ext cx="4349880" cy="480996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6"/>
          <p:cNvSpPr/>
          <p:nvPr/>
        </p:nvSpPr>
        <p:spPr>
          <a:xfrm>
            <a:off x="3500280" y="4214880"/>
            <a:ext cx="357480" cy="71280"/>
          </a:xfrm>
          <a:prstGeom prst="rightArrow">
            <a:avLst>
              <a:gd name="adj1" fmla="val 50000"/>
              <a:gd name="adj2" fmla="val 50152"/>
            </a:avLst>
          </a:pr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3080" y="400068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River in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Up-Down Arrow 8"/>
          <p:cNvSpPr/>
          <p:nvPr/>
        </p:nvSpPr>
        <p:spPr>
          <a:xfrm>
            <a:off x="4500720" y="2000160"/>
            <a:ext cx="45720" cy="7858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644720" y="2143080"/>
            <a:ext cx="1043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2357280" y="3643200"/>
            <a:ext cx="12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Isosceles Triangle 12"/>
          <p:cNvSpPr/>
          <p:nvPr/>
        </p:nvSpPr>
        <p:spPr>
          <a:xfrm>
            <a:off x="3143160" y="2357280"/>
            <a:ext cx="233280" cy="233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sosceles Triangle 14"/>
          <p:cNvSpPr/>
          <p:nvPr/>
        </p:nvSpPr>
        <p:spPr>
          <a:xfrm>
            <a:off x="3429000" y="2357280"/>
            <a:ext cx="177840" cy="179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571840" y="2500200"/>
            <a:ext cx="107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Isosceles Triangle 14"/>
          <p:cNvSpPr/>
          <p:nvPr/>
        </p:nvSpPr>
        <p:spPr>
          <a:xfrm>
            <a:off x="257184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857680" y="3071880"/>
            <a:ext cx="121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Volcanic   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Isosceles Triangle 13"/>
          <p:cNvSpPr/>
          <p:nvPr/>
        </p:nvSpPr>
        <p:spPr>
          <a:xfrm>
            <a:off x="3286080" y="24289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Ocean and ocean sediment sub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990800"/>
            <a:ext cx="878544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Model fit to ocean data for standard parameter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plotprof.jpg"/>
          <p:cNvPicPr/>
          <p:nvPr/>
        </p:nvPicPr>
        <p:blipFill>
          <a:blip r:embed="rId2"/>
          <a:stretch/>
        </p:blipFill>
        <p:spPr>
          <a:xfrm>
            <a:off x="1116000" y="836640"/>
            <a:ext cx="679140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62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2"/>
          <a:stretch/>
        </p:blipFill>
        <p:spPr>
          <a:xfrm>
            <a:off x="1116000" y="1120680"/>
            <a:ext cx="6696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278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2"/>
          <a:stretch/>
        </p:blipFill>
        <p:spPr>
          <a:xfrm>
            <a:off x="1042920" y="1192320"/>
            <a:ext cx="669780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37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trol of atmospheric p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n different time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cale              Components                  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9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yrs            lithosphere               volcanism, burial,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      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hydrosphere            ocean circulation and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biogeochemical cycling,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carbonate dis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 –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 biosphere                 fossil fuel burn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land ecosystem shifts,                     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land use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nor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posi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16280"/>
            <a:ext cx="871380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solubility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reci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, winds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us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MH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IC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595008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nega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628640"/>
            <a:ext cx="87138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sea ice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weathering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runoff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Alk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8680" y="566100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enario greenhouse gas and aerosol forc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 rot="10800000">
            <a:off x="464832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786280" y="1125360"/>
            <a:ext cx="32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nthrop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emissions (G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7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1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15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8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Content Placeholder 14" descr="Forcing.jpg"/>
          <p:cNvPicPr/>
          <p:nvPr/>
        </p:nvPicPr>
        <p:blipFill>
          <a:blip r:embed="rId2"/>
          <a:stretch/>
        </p:blipFill>
        <p:spPr>
          <a:xfrm>
            <a:off x="571680" y="714240"/>
            <a:ext cx="5000400" cy="6143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22920" y="551664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missions b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522 G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Future Earth System projections for SRES B1 and A2 fo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5378760" cy="6761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415640" y="5805360"/>
            <a:ext cx="17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. (200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Nature Geosci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5 million year run for doubling lithospher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utg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28336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6360" y="2276640"/>
            <a:ext cx="376236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estimates of MH in the ocean sediment center around 10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parison, available fossil fuel resources are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ethaneHyrdate1"/>
          <p:cNvPicPr/>
          <p:nvPr/>
        </p:nvPicPr>
        <p:blipFill>
          <a:blip r:embed="rId2"/>
          <a:stretch/>
        </p:blipFill>
        <p:spPr>
          <a:xfrm>
            <a:off x="685800" y="1523880"/>
            <a:ext cx="401796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H release and ocean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87656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5744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MH release leads to increased GHG forcing (CH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and its oxidation product CO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) and warmer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er climate promotes the release of more MH as the ocean is warmed fur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ing in the ocean leads to release of MH in ocean sed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03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6640" y="59436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Dickens 2003, Earth and Planetary Science Let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5877000"/>
            <a:ext cx="1871640" cy="836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27640" y="3429000"/>
            <a:ext cx="7308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4437000"/>
            <a:ext cx="13665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43280" y="4437000"/>
            <a:ext cx="136872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92720" y="5877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emperature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7924680" y="1523880"/>
            <a:ext cx="0" cy="914400"/>
          </a:xfrm>
          <a:prstGeom prst="line">
            <a:avLst/>
          </a:prstGeom>
          <a:ln w="38160">
            <a:solidFill>
              <a:srgbClr val="e86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12952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(386 pp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924680" y="4647960"/>
            <a:ext cx="0" cy="75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080" y="-3586680"/>
            <a:ext cx="66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92144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g1"/>
          <p:cNvPicPr/>
          <p:nvPr/>
        </p:nvPicPr>
        <p:blipFill>
          <a:blip r:embed="rId2"/>
          <a:srcRect l="13660" t="0" r="0" b="7130"/>
          <a:stretch/>
        </p:blipFill>
        <p:spPr>
          <a:xfrm>
            <a:off x="1511280" y="1327320"/>
            <a:ext cx="5691240" cy="4694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973760" y="3467160"/>
            <a:ext cx="2514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tmospheric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759280" y="493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48360" y="4322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037040" y="1700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ssil fuel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76720" y="284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for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381800" y="2052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7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381800" y="30844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381800" y="3730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381800" y="498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381800" y="444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360920" y="12859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0-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 rot="16200000">
            <a:off x="-239400" y="3166200"/>
            <a:ext cx="22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flux (Pg C y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 rot="16200000">
            <a:off x="1021680" y="3953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 rot="16200000">
            <a:off x="894960" y="26805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925440" y="58770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im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266480" y="260280"/>
            <a:ext cx="70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Human perturbation of the global carbon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302640" y="650412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lobal Carbon Project (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7786800" y="1643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G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Land carbon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9360" y="2276640"/>
            <a:ext cx="8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688000" cy="484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6021000"/>
            <a:ext cx="69840" cy="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led land carbon storages as functions of</a:t>
            </a:r>
            <a:br>
              <a:rPr sz="2800"/>
            </a:b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p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977080" cy="548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7632720" y="602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Gerber et 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4), G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33360"/>
            <a:ext cx="82152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limate-carbon model sensitivities to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86880" cy="3265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6072120" y="5929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Friedenste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6), 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cean chlorophyl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913440" cy="595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Gary Shaffer</cp:lastModifiedBy>
  <dcterms:modified xsi:type="dcterms:W3CDTF">2009-10-06T16:24:58Z</dcterms:modified>
  <cp:revision>362</cp:revision>
  <dc:subject/>
  <dc:title>The Role of Deep-decoupling Oscillations in Glacial Climate Variability</dc:title>
</cp:coreProperties>
</file>