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11.png" ContentType="image/png"/>
  <Override PartName="/ppt/media/image12.png" ContentType="image/png"/>
  <Override PartName="/ppt/media/image7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6A0-FB05-4411-ADE1-C0CC88DA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F7D-FE65-4007-B31F-A6000EEB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9A2-3FAA-4534-A7B3-02537D7B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375-04D6-4D75-9FEE-5CC4E188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984-1006-4831-A2F4-6FD34D98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017-6417-4583-865B-FAB0EB63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D5B-45C5-4A9D-A83F-D7CA437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B25-68EF-4B93-9123-6FBE1AC9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689-12D7-475D-A714-EE401B0E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DB7-C895-4EEC-A996-A139C06A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856-65CB-4345-8584-DF589573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DCE-8A0A-4943-B3B9-CAF99ED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EC7D-1B74-4A03-8083-2E63D4AA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3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iliar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locidades de On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a de Terremotos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smogra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184720" cy="216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92360" y="4292640"/>
            <a:ext cx="2303280" cy="10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08720" y="5084640"/>
            <a:ext cx="21589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x. 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708360" y="4868640"/>
            <a:ext cx="194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Por qué Magnitud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12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Magn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5370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1040" y="2127240"/>
            <a:ext cx="56419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453708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436840" cy="649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2736720" cy="57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345780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900000" y="4581360"/>
            <a:ext cx="331308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364000" y="1557360"/>
            <a:ext cx="3457800" cy="10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372360" y="4149720"/>
            <a:ext cx="1871640" cy="71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24360" y="5516640"/>
            <a:ext cx="3457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la más uti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516720" y="472428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5219640" y="2421000"/>
            <a:ext cx="3240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532400" cy="439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527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itud Mo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1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ipocentro queda definido por cuatro parámetros. (x,y,z,t), llamado foco o hipo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yección en superficie del hipocentro es el epi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72000" y="1484280"/>
            <a:ext cx="52210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utenberg-Ri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itud y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emoto Pakist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terremoto puede tener diferentes estimaciones según, la magnitud uti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todas ellas buscan medir la energía libe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de Ocurren los Terremo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as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05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as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erentes D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8421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s de O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56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móme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5:10:47Z</dcterms:created>
  <dc:creator>Soledad Muñoz</dc:creator>
  <dc:description/>
  <dc:language>en-US</dc:language>
  <cp:lastModifiedBy>Soledad Muñoz</cp:lastModifiedBy>
  <dcterms:modified xsi:type="dcterms:W3CDTF">2009-09-10T18:25:39Z</dcterms:modified>
  <cp:revision>24</cp:revision>
  <dc:subject/>
  <dc:title>Diapositiva 1</dc:title>
</cp:coreProperties>
</file>