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11D-4FA4-44C4-A64D-EC82BE2D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D0F-4796-4824-ACAE-634DEDF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0CD-33A5-4F6D-B03F-42681195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292-561D-497C-ACD6-69512C37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953-0CF0-4F2E-A075-59C495C5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C5D-05C6-4B6E-8002-F31C495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3EB-0173-45B3-A6E6-ED1ECB5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BAE-0FFA-44FC-8418-A4E8F87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9E7-5EE1-4E71-91CD-745FAE3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8A9-9170-4BEA-98DD-8A755B5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FB1-6A33-4D5F-8039-598A566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7CD-6A9F-473F-BECB-8B1B48E8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E50F-7400-46CF-869C-722BD921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locidades de On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a de Terremotos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smogra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184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230328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08720" y="5084640"/>
            <a:ext cx="2158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x.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708360" y="4868640"/>
            <a:ext cx="194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¿Por qué Magnitud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Magn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5370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1040" y="2127240"/>
            <a:ext cx="5641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453708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436840" cy="649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45780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331308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364000" y="1557360"/>
            <a:ext cx="345780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72360" y="4149720"/>
            <a:ext cx="1871640" cy="71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5516640"/>
            <a:ext cx="3457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la más uti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516720" y="472428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219640" y="2421000"/>
            <a:ext cx="324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532400" cy="439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52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itud Mo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ipocentro queda definido por cuatro parámetros. (x,y,z,t), llamado foco o hipo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yección en superficie del hipocentro es el epi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72000" y="1484280"/>
            <a:ext cx="5221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utenberg-Ri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itud y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emoto Pakis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terremoto puede tener diferentes estimaciones según, la magnitud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todas ellas buscan medir la energía libe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de Ocurren los Terremo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as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erentes D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842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s de O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móm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5:10:47Z</dcterms:created>
  <dc:creator>Soledad Muñoz</dc:creator>
  <dc:description/>
  <dc:language>en-US</dc:language>
  <cp:lastModifiedBy>Soledad Muñoz</cp:lastModifiedBy>
  <dcterms:modified xsi:type="dcterms:W3CDTF">2009-09-10T18:25:39Z</dcterms:modified>
  <cp:revision>24</cp:revision>
  <dc:subject/>
  <dc:title>Diapositiva 1</dc:title>
</cp:coreProperties>
</file>