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3.png" ContentType="image/png"/>
  <Override PartName="/ppt/media/image4.png" ContentType="image/png"/>
  <Override PartName="/ppt/media/image6.wmf" ContentType="image/x-wmf"/>
  <Override PartName="/ppt/media/image11.png" ContentType="image/png"/>
  <Override PartName="/ppt/media/image12.png" ContentType="image/png"/>
  <Override PartName="/ppt/media/image7.wmf" ContentType="image/x-wmf"/>
  <Override PartName="/ppt/media/image28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25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png" ContentType="image/png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A82-D712-45AA-ACDA-3817C7B4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1A1-E74A-414D-B589-FB3FA019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BC6-CDF6-4CBC-B417-4D4A102B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39E-CACC-4755-B2C9-7E41AD7F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5E5-8867-4262-87AD-FFD40BB9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DBB-9529-4B62-A27E-73C8DE54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770-FCAA-4D2B-B01C-83CAF43C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2CE-595B-437C-BBB5-9C3743A3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995-6000-4AD5-A632-9AE26447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C7B-B52D-45EF-9232-C0006AFE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1BD-E92B-4FC4-89A7-493921FE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AC7-2428-45B7-A85E-6F3DBB7C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CC13-E873-4293-9E2A-5E6EE21AA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3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xiliar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locidades de On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20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a de Terremotos más Gran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138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smogram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184720" cy="2160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92360" y="4292640"/>
            <a:ext cx="2303280" cy="108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08720" y="5084640"/>
            <a:ext cx="21589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x. 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708360" y="4868640"/>
            <a:ext cx="194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¿Por qué Magnitud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129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Magn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4038480" cy="280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45370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1040" y="2127240"/>
            <a:ext cx="56419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453708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2436840" cy="649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2736720" cy="57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345780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900000" y="4581360"/>
            <a:ext cx="331308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364000" y="1557360"/>
            <a:ext cx="3457800" cy="10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372360" y="4149720"/>
            <a:ext cx="1871640" cy="71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24360" y="5516640"/>
            <a:ext cx="345744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la más util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516720" y="4724280"/>
            <a:ext cx="719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5219640" y="2421000"/>
            <a:ext cx="3240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532400" cy="439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03640" y="2060640"/>
            <a:ext cx="3527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itud Mo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1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6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oc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ipocentro queda definido por cuatro parámetros. (x,y,z,t), llamado foco o hipo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yección en superficie del hipocentro es el epi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1128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72000" y="1484280"/>
            <a:ext cx="52210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utenberg-Ri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0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itud y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emoto Pakist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terremoto puede tener diferentes estimaciones según, la magnitud uti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todas ellas buscan medir la energía liber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600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nde Ocurren los Terremo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as 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05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as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erentes D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8421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s de O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561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móme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9850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5:10:47Z</dcterms:created>
  <dc:creator>Soledad Muñoz</dc:creator>
  <dc:description/>
  <dc:language>en-US</dc:language>
  <cp:lastModifiedBy>Soledad Muñoz</cp:lastModifiedBy>
  <dcterms:modified xsi:type="dcterms:W3CDTF">2009-09-10T18:25:39Z</dcterms:modified>
  <cp:revision>24</cp:revision>
  <dc:subject/>
  <dc:title>Diapositiva 1</dc:title>
</cp:coreProperties>
</file>