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D9A-977A-4393-84C2-7286AAE3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23C-BA80-44C8-9584-A8E03B7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E02-C41F-4922-AD35-01E917D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7CA-C14D-4784-BAD0-5AF250C3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C46-EB03-4B64-8FA3-4739CD85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9A4-198E-4398-A8F0-C0B3DDC5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57B-F3B4-4CCC-933C-CDBC0BA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DA7-DE8D-4922-A57C-73CFBA6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034-4EED-4EE7-84F6-A2342650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37C-C8D9-4367-8641-63E1BFE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90D-E641-4846-B488-69499C1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396-4AFB-4453-A16B-42108E3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05B-41E9-4C2B-A382-0FC5F94F1B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física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Sacar Mas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sost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40040" y="1852560"/>
            <a:ext cx="52624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40040" y="2584440"/>
            <a:ext cx="52624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ones Gravi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567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por la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98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ción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malía de Aire Li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rrección de Bougu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29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omalía de Boug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3020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acar el Geoi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acar A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7360" y="1600200"/>
            <a:ext cx="65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38:17Z</dcterms:created>
  <dc:creator>Soledad Muñoz</dc:creator>
  <dc:description/>
  <dc:language>en-US</dc:language>
  <cp:lastModifiedBy>Soledad Muñoz</cp:lastModifiedBy>
  <dcterms:modified xsi:type="dcterms:W3CDTF">2009-08-24T14:10:12Z</dcterms:modified>
  <cp:revision>5</cp:revision>
  <dc:subject/>
  <dc:title>Auxiliar 3.</dc:title>
</cp:coreProperties>
</file>