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3F9B-6CB5-4996-B4EF-4C50FFFF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1AC-E530-464D-8DB5-0771928A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12FA-47A7-475F-B7A1-D893D5DF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9DE-111F-4625-B536-8FC6003E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43A6-E6AA-4347-A831-049CD24A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44C-6FDA-4099-8547-1CF2B8BD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2BC-7D8F-4C9F-90A8-C8BCDAB3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C4A-7EE5-4251-8715-2081362F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2EF-E27E-4EAC-B2D2-0B6EC42C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6808-5AF7-4F0A-8FAC-962DA685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3EB4-C5CE-4841-8718-8ADC4CAC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1DA-6819-4A0D-8AFF-37E6040B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DFC7-3C79-4B0A-90C6-9D8DA40FB1C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xiliar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31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física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Sacar Mas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072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sosta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40040" y="1852560"/>
            <a:ext cx="526248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913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05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40040" y="2584440"/>
            <a:ext cx="526248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rrecciones Gravimé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05672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ción por la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6985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ción de Aire Lib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488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malía de Aire Lib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769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rrección de Bougu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129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nomalía de Bougu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53020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Sacar el Geoi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82296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Sacar Ai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87360" y="1600200"/>
            <a:ext cx="65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03:38:17Z</dcterms:created>
  <dc:creator>Soledad Muñoz</dc:creator>
  <dc:description/>
  <dc:language>en-US</dc:language>
  <cp:lastModifiedBy>Soledad Muñoz</cp:lastModifiedBy>
  <dcterms:modified xsi:type="dcterms:W3CDTF">2009-08-24T14:10:12Z</dcterms:modified>
  <cp:revision>5</cp:revision>
  <dc:subject/>
  <dc:title>Auxiliar 3.</dc:title>
</cp:coreProperties>
</file>