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7F7-B6BD-49CF-92A5-5D7FEDDD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31E-FCC1-447D-89D2-C5D0B2A7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9AA-05AD-4446-8F0E-6E8CD0E0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F0C-A540-4BA7-B7FA-C5582A43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289-CF22-4DD2-99B1-3E8865D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ACE-972E-447B-8A1C-5AB757BB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990-513A-44A9-A619-E838B9F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389-01B8-4BED-A40F-B8AE8757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C36-DAB3-4256-BD74-9200842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FEE-4A7C-466B-BBA6-00544B5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37C-47B6-49A5-BB61-37614C6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A00-958B-4E07-87CB-0D35B1DC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A40-2CB6-4E0C-A050-0F126363F6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física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Sacar Mas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ost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40040" y="1852560"/>
            <a:ext cx="52624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40040" y="2584440"/>
            <a:ext cx="5262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ones Gravi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567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por la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98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malía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ón de Bougu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omalía de Boug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302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acar el Geoi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acar 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7360" y="1600200"/>
            <a:ext cx="65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38:17Z</dcterms:created>
  <dc:creator>Soledad Muñoz</dc:creator>
  <dc:description/>
  <dc:language>en-US</dc:language>
  <cp:lastModifiedBy>Soledad Muñoz</cp:lastModifiedBy>
  <dcterms:modified xsi:type="dcterms:W3CDTF">2009-08-24T14:10:12Z</dcterms:modified>
  <cp:revision>5</cp:revision>
  <dc:subject/>
  <dc:title>Auxiliar 3.</dc:title>
</cp:coreProperties>
</file>