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CEC-39AB-4145-92A5-C03D7D16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D02-DBCC-4A06-89C9-03E07ECD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408-0B26-4E7D-880C-35C147C0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9E8-60BD-40E0-B71F-82E56F7D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ABE-45AF-4D6D-8572-D2CD5072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4D1-CCBB-49CB-8A57-683CE52C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776-F3E6-44B2-8F29-E8D01011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D6D-6A9B-4EA8-AF50-B7F2DB29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2CE-1ABB-44E6-89C7-4A58C8BD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01E-8A83-481F-AEF9-90D56FF7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BFF-EE78-4F6C-A385-F99F3327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996-96A3-4623-9B42-A0C809F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FB27-7663-44EB-9D02-5D34B7495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31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vidimos la esfera en discos de radio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 y de espesor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d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El momento de inercia de cada uno de los discos elementales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masa de cada uno de los discos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omento de inercia de la esfera, es la suma de los momentos de inercia de todos los discos ele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708360" y="1628640"/>
            <a:ext cx="1440000" cy="64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16360" y="3141720"/>
            <a:ext cx="316836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411280" y="4941720"/>
            <a:ext cx="3961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resolver la integral tenemos que relacionar la variable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con la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Como vemos en la figura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+z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=R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5925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Gra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aceleración gravitacional para un cuerpo achatado y simétrico en sus ejes horizontales, se puede calcular con la forma simplificada de la 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fórmula de MacCullag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Donde G es la constante de gravitación universal; M es la masa del cuerpo; r es el radio; f es la latitud y C y A son los momento de inercia con respecto a los ejes z y x respectivam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168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nos Momento de Inercia de Planet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08000" y="1844640"/>
          <a:ext cx="5688000" cy="3528720"/>
        </p:xfrm>
        <a:graphic>
          <a:graphicData uri="http://schemas.openxmlformats.org/drawingml/2006/table">
            <a:tbl>
              <a:tblPr/>
              <a:tblGrid>
                <a:gridCol w="1153080"/>
                <a:gridCol w="4534920"/>
              </a:tblGrid>
              <a:tr h="56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mento de Inercia respecto al eje de rot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4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335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65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pi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6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ptu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 M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ut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ructura de la T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56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Gra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88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Sism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Geomagnet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345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C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7058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os de Ine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. Momento de inercia de un d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s a calcular el momento de inercia de un disco de masa 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 y radio 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 respecto de un eje perpendicular al plano del disco y que pasa por su ce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84360" y="3933720"/>
          <a:ext cx="4399200" cy="21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933720"/>
                    <a:ext cx="439920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mamos un elemento de masa que dista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 del eje de rotación. El elemento es un anillo de radio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 y de anchura 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Si recortamos el anillo y lo extendemos, se convierte en un rectángulo de longitud 2p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x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chura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 d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uya masa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88000" y="907920"/>
            <a:ext cx="38988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omento de inercia del disco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4032000" cy="1152360"/>
          </a:xfrm>
          <a:prstGeom prst="rect">
            <a:avLst/>
          </a:prstGeom>
          <a:ln w="0">
            <a:noFill/>
          </a:ln>
        </p:spPr>
      </p:pic>
      <p:pic>
        <p:nvPicPr>
          <p:cNvPr id="61" name="Image7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08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os de Ine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. Momento de inercia de una e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os a calcular el momento de inercia de una esfera de masa 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 y radio R respecto de uno de sus di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68360" y="3141720"/>
          <a:ext cx="421020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141720"/>
                    <a:ext cx="421020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6:04:38Z</dcterms:created>
  <dc:creator>Soledad Muñoz</dc:creator>
  <dc:description/>
  <dc:language>en-US</dc:language>
  <cp:lastModifiedBy>alumnodii</cp:lastModifiedBy>
  <dcterms:modified xsi:type="dcterms:W3CDTF">2009-03-26T17:46:32Z</dcterms:modified>
  <cp:revision>5</cp:revision>
  <dc:subject/>
  <dc:title>Diapositiva 1</dc:title>
</cp:coreProperties>
</file>