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445-45AD-4114-880A-2F4B663A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84A-B009-420A-9345-5C3C21A1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F55-EE7F-4920-A86B-54235638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612-A75B-47BF-806E-707B3D92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E50-5476-4CF9-A04D-63FE158F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4B3-8580-4447-83B1-23F99363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BEF-6CFD-47E6-B4A0-7F9C52BD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59D-E74B-406E-8003-D536F337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C15-C07A-4865-9B01-C803A95A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035-49EC-4F3E-97DF-B275EA75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C9A-E593-4299-9BC3-F1557C7A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F57-4707-4055-AA5D-4B66322C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BA77-126C-4B8C-A0B4-7FD380455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31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vidimos la esfera en discos de radio 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 y de espesor 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d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El momento de inercia de cada uno de los discos elementales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masa de cada uno de los discos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omento de inercia de la esfera, es la suma de los momentos de inercia de todos los discos ele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708360" y="1628640"/>
            <a:ext cx="1440000" cy="64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916360" y="3141720"/>
            <a:ext cx="3168360" cy="952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411280" y="4941720"/>
            <a:ext cx="3961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resolver la integral tenemos que relacionar la variable 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con la 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Como vemos en la figura 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+z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=R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5925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Grave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celeración gravitacional para un cuerpo achatado y simétrico en sus ejes horizontales, se puede calcular con la forma simplificada de la 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órmula de MacCullag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onde G es la constante de gravitación universal; M es la masa del cuerpo; r es el radio; f es la latitud y C y A son los momento de inercia con respecto a los ejes z y x respectivam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987640" y="3141720"/>
            <a:ext cx="3168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unos Momento de Inercia de Planet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08000" y="1844640"/>
          <a:ext cx="5688000" cy="3528720"/>
        </p:xfrm>
        <a:graphic>
          <a:graphicData uri="http://schemas.openxmlformats.org/drawingml/2006/table">
            <a:tbl>
              <a:tblPr/>
              <a:tblGrid>
                <a:gridCol w="1153080"/>
                <a:gridCol w="4534920"/>
              </a:tblGrid>
              <a:tr h="56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mento de Inercia respecto al eje de rot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4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r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335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65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pi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6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5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3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ptu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3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ut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ctura de la T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560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Grave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88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Sism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56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Geomagnet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345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C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7058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os de Iner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. Momento de inercia de un d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s a calcular el momento de inercia de un disco de masa 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 y radio 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 respecto de un eje perpendicular al plano del disco y que pasa por su ce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84360" y="3933720"/>
          <a:ext cx="4399200" cy="21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933720"/>
                    <a:ext cx="439920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mamos un elemento de masa que dista 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 del eje de rotación. El elemento es un anillo de radio 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 y de anchura 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Si recortamos el anillo y lo extendemos, se convierte en un rectángulo de longitud 2p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x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chura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 d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uya masa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88000" y="907920"/>
            <a:ext cx="38988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omento de inercia del disco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4653000"/>
            <a:ext cx="4032000" cy="1152360"/>
          </a:xfrm>
          <a:prstGeom prst="rect">
            <a:avLst/>
          </a:prstGeom>
          <a:ln w="0">
            <a:noFill/>
          </a:ln>
        </p:spPr>
      </p:pic>
      <p:pic>
        <p:nvPicPr>
          <p:cNvPr id="61" name="Image7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808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os de Iner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. Momento de inercia de una esf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os a calcular el momento de inercia de una esfera de masa 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y radio R respecto de uno de sus di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68360" y="3141720"/>
          <a:ext cx="421020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141720"/>
                    <a:ext cx="421020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6:04:38Z</dcterms:created>
  <dc:creator>Soledad Muñoz</dc:creator>
  <dc:description/>
  <dc:language>en-US</dc:language>
  <cp:lastModifiedBy>alumnodii</cp:lastModifiedBy>
  <dcterms:modified xsi:type="dcterms:W3CDTF">2009-03-26T17:46:32Z</dcterms:modified>
  <cp:revision>5</cp:revision>
  <dc:subject/>
  <dc:title>Diapositiva 1</dc:title>
</cp:coreProperties>
</file>