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dt" idx="9"/>
          </p:nvPr>
        </p:nvSpPr>
        <p:spPr>
          <a:xfrm>
            <a:off x="4021200" y="0"/>
            <a:ext cx="3068640" cy="50328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2"/>
          <p:cNvSpPr>
            <a:spLocks noGrp="1"/>
          </p:cNvSpPr>
          <p:nvPr>
            <p:ph type="sldImg"/>
          </p:nvPr>
        </p:nvSpPr>
        <p:spPr>
          <a:xfrm>
            <a:off x="990360" y="767880"/>
            <a:ext cx="5110200" cy="38293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8" name="PlaceHolder 3"/>
          <p:cNvSpPr>
            <a:spLocks noGrp="1"/>
          </p:cNvSpPr>
          <p:nvPr>
            <p:ph type="body"/>
          </p:nvPr>
        </p:nvSpPr>
        <p:spPr>
          <a:xfrm>
            <a:off x="709560" y="4861080"/>
            <a:ext cx="5672160" cy="459720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4"/>
          <p:cNvSpPr>
            <a:spLocks noGrp="1"/>
          </p:cNvSpPr>
          <p:nvPr>
            <p:ph type="sldNum" idx="10"/>
          </p:nvPr>
        </p:nvSpPr>
        <p:spPr>
          <a:xfrm>
            <a:off x="4021200" y="9721800"/>
            <a:ext cx="3068640" cy="50328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A6CEBA-1EDC-4509-A300-9E4D68AB9BB7}"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AFAD54-2C8B-407C-A6F8-B98F55488DC2}"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4DD821-D8C7-43B5-B8F8-61DB42A1FC9B}"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CFBAA-57AF-4B02-80CA-010B2B050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5170D-DCF1-4ACB-A991-E7B3E8CA6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B25590-0414-4706-9FDF-9AE00EB82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2B264-60D0-4F8D-9998-D3D5E19B5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8973AB-FE06-4DE5-BE58-61005FB83B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8CD8B6-8379-4F7B-B60A-A7896F4F4B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CDD37C-F6BD-4365-80D1-6042853244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723D67D-B57E-4339-BF10-07E330B595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DE34741B-9977-4941-9F97-CC7AD0503F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EB2329-654E-4E8C-A6F6-5513477746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BB9D2D-660E-4BBD-A10C-6F3A844FA4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3A0B-6D95-4589-8145-655E76241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3A2FC9-0227-4A31-BE87-151C48906C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1DA231-3276-4103-B511-52A9B38A20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01B871-B587-42CC-A596-89C9A466F9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95FC25-5A33-467A-AB7D-58E655890F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CF19472-C150-4C8C-86C6-A4031961B8F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3ECC46-A0BA-4385-AEAD-F9D5342AA8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7E2FD8-7C82-48B9-BD1E-E263907977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D46C62-345B-41B1-B59F-5B6C408DF4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D78BB6-2DC6-417E-A994-23140E65AA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174859DB-603D-44EE-AC29-B010CDC905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62E0B-331A-42C4-931C-A1FED1F86F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7560225-C7FB-4459-ACB3-1D1359A668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6CC5F7A-E910-4BCC-A275-832D7948E4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BED9A63-00AD-4D54-AB1E-45C1453A96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45869AF-02D0-4464-BD67-162B21201C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05FAC83-C6F8-4098-99E5-3A4E604F1E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85E463B-ACD0-4487-9DBE-59A74B064B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48E3317-0EF9-4F3A-85F6-8B3D47DCBE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6BCE05-9050-4F08-8327-1F26588E4F6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2A5FC2-FFE6-4E8E-B94B-8A2E871C1B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F3C84F-565B-481A-9162-8A18E6E7F2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A4006-1C54-436E-B42E-5EA8E2BE19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4CA7F-F131-496F-B709-6F3CD1AD5C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A4398BB9-5404-410E-B5A5-7D5BA8E80F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596E14C-0C0F-4C0B-818D-082AFAE31C9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21AF7-C6B1-4FF7-BBB3-DC90F238177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73EC2-92CE-48FC-B1CE-6D0C109BE3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A4319-E200-4E38-A355-9EDB3DD4C1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0E146-CA34-4CD6-98AE-70F085D8DF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0608DE-4693-41F0-A0F4-9F6A6D2AE3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28679D-0D53-4C1A-8F74-4788F6A0DA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99F220-8A02-45D4-A9FB-1125682CBF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33BD278C-C755-4398-82D4-A41F927C31B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9BD7A80-C986-4B2A-92FA-BF84E5CFB3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A283BC2-38B0-4273-A288-C29B91F10C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A737971-00CF-413F-AF02-C4DF95FF7E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196C4BB6-618F-41C8-9BF8-1ABD8B8220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C8BA1B8-C3BC-4E4A-9446-EF3F2405E8B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D06432D-FD14-46B3-B86F-586D3F3052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4FD41F7-C9B0-4D6D-815D-A06CB5F59B7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F7718B3-5D99-4770-B2F1-0DF20A4CC9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414FCF5-6846-4FE7-9B9F-6CA918BD991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FBFEBC77-F22A-47FC-9488-7FB1301ABB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A41CFF-8769-4C51-9912-76AEF9215E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416981BF-7F23-4557-A489-213B4982926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FE88B2A-134B-4703-A9FD-BBEBC599159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798863E-4336-486B-AFB0-CE40B8789DB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6D65695-E867-47DB-80EB-FB7BC489B0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3D7B220-9B2C-4EBA-95BE-674FD845B8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3683DB2F-1747-4946-B4F6-F5DED63D650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39FA37A-0BE1-461A-9267-F65265E294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81841F6-DE80-4ABA-979E-852D0455C5A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74886C2-FBFA-4E4A-AA6B-1ED5F024296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52C0571-B862-40AE-9D25-F9C72278B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904F4-6138-4459-900F-20E63C90C6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827FB2B-AFDF-46D4-A095-9B3E753C02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A6CFC65-899A-485C-80AC-119217017AA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CF1E671-0BE8-4D59-9903-248EC1390D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00DE462-EBDE-47A6-96A5-5AC2D301BC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C0269104-682A-40BC-ABBB-7B22B42442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F1C2071E-2909-483C-A96E-EA88D866553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61E3E2F5-0F44-4D56-AE3E-6C62CA5329F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73E7C660-0176-4C1D-9F3F-74549375FEC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72372EED-1E06-4D86-ADC8-43996D3DFE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0F8FA3F3-081D-450E-89FC-D2E6A7FB4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38A9D-A9E4-48C9-85E4-31A6D222320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12F456F5-73C6-43DB-9ABB-D6626984D85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6C19EFDC-52D9-4D14-A755-AFC6FB3FD1E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F4B87923-48B2-4D4C-BC44-1C445D251E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4F44D67E-0AC0-497E-96C3-47E76A666F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600D8632-BA27-4A17-B646-79F91CC998D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6C8EBB-263D-469C-9A42-EB55D99E1E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D5B993D-10A8-470B-A7BF-FCF1DD35AA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49EAFA6-3F60-4353-98C6-DBED30C029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65B8D2C-1DDF-4195-9FA8-7313A40148E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DCA99483-3BEE-457D-ADCB-AEF229DE0D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8B71F-F8F0-4666-90C0-C4F7E71AD64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A525CBB-1BBB-4F7D-8CF7-A9734CBAF57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DD451B6-4DA6-48E4-BF97-D444854E7B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22CC371-565D-428E-8D8D-30460A2820A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5BFD878-E6AC-48FB-80C0-25CD3FF320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623F2A1-1CAF-4063-953E-42AB878333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5C12EAF8-BBA5-4064-A038-9F02A73139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1950B86-B26A-49FE-B00F-B4899376BC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4920"/>
            <a:ext cx="2125800" cy="468360"/>
          </a:xfrm>
          <a:prstGeom prst="rect">
            <a:avLst/>
          </a:prstGeom>
          <a:noFill/>
          <a:ln w="0">
            <a:noFill/>
          </a:ln>
        </p:spPr>
        <p:txBody>
          <a:bodyPr lIns="90000" rIns="90000" tIns="46800" bIns="46800" anchor="b">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_tradnl" sz="1200" spc="-1" strike="noStrike">
                <a:solidFill>
                  <a:srgbClr val="b5a788"/>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F94BDF-1CC9-4341-A25F-0B7B410C4457}"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70000" cy="1170000"/>
            <a:chOff x="165240" y="1036800"/>
            <a:chExt cx="1170000" cy="1170000"/>
          </a:xfrm>
        </p:grpSpPr>
        <p:pic>
          <p:nvPicPr>
            <p:cNvPr id="44" name="" descr=""/>
            <p:cNvPicPr/>
            <p:nvPr/>
          </p:nvPicPr>
          <p:blipFill>
            <a:blip r:embed="rId3"/>
            <a:stretch/>
          </p:blipFill>
          <p:spPr>
            <a:xfrm>
              <a:off x="165240" y="1036800"/>
              <a:ext cx="1170000" cy="1170000"/>
            </a:xfrm>
            <a:prstGeom prst="rect">
              <a:avLst/>
            </a:prstGeom>
            <a:ln w="0">
              <a:noFill/>
            </a:ln>
          </p:spPr>
        </p:pic>
        <p:sp>
          <p:nvSpPr>
            <p:cNvPr id="4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1840" cy="225720"/>
            <a:chOff x="914400" y="1407960"/>
            <a:chExt cx="231840" cy="225720"/>
          </a:xfrm>
        </p:grpSpPr>
        <p:pic>
          <p:nvPicPr>
            <p:cNvPr id="49" name="" descr=""/>
            <p:cNvPicPr/>
            <p:nvPr/>
          </p:nvPicPr>
          <p:blipFill>
            <a:blip r:embed="rId4"/>
            <a:stretch/>
          </p:blipFill>
          <p:spPr>
            <a:xfrm>
              <a:off x="914400" y="1407960"/>
              <a:ext cx="231840" cy="22572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E086DA-E5CE-4903-A7A0-7D53262A6A91}"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1840" cy="225360"/>
            <a:chOff x="2163600" y="2809800"/>
            <a:chExt cx="231840" cy="225360"/>
          </a:xfrm>
        </p:grpSpPr>
        <p:pic>
          <p:nvPicPr>
            <p:cNvPr id="96" name="" descr=""/>
            <p:cNvPicPr/>
            <p:nvPr/>
          </p:nvPicPr>
          <p:blipFill>
            <a:blip r:embed="rId3"/>
            <a:stretch/>
          </p:blipFill>
          <p:spPr>
            <a:xfrm>
              <a:off x="2163600" y="2809800"/>
              <a:ext cx="231840" cy="225360"/>
            </a:xfrm>
            <a:prstGeom prst="rect">
              <a:avLst/>
            </a:prstGeom>
            <a:ln w="0">
              <a:noFill/>
            </a:ln>
          </p:spPr>
        </p:pic>
        <p:sp>
          <p:nvSpPr>
            <p:cNvPr id="97" name=""/>
            <p:cNvSpPr/>
            <p:nvPr/>
          </p:nvSpPr>
          <p:spPr>
            <a:xfrm>
              <a:off x="2203560" y="2844720"/>
              <a:ext cx="14760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DB7EAB-4B75-4D19-98CC-7B8887C89556}"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DE48C6-0A31-4E25-935C-F51F9B3DAB15}"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5B830E-B430-4B83-AB24-32671BE91138}"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865785-06E8-432E-AA8F-0DFFB98D48C4}"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3840" cy="4802400"/>
            <a:chOff x="646200" y="969840"/>
            <a:chExt cx="4803840" cy="4802400"/>
          </a:xfrm>
        </p:grpSpPr>
        <p:pic>
          <p:nvPicPr>
            <p:cNvPr id="266" name="" descr=""/>
            <p:cNvPicPr/>
            <p:nvPr/>
          </p:nvPicPr>
          <p:blipFill>
            <a:blip r:embed="rId3"/>
            <a:stretch/>
          </p:blipFill>
          <p:spPr>
            <a:xfrm>
              <a:off x="646200" y="969840"/>
              <a:ext cx="4803840" cy="4802400"/>
            </a:xfrm>
            <a:prstGeom prst="rect">
              <a:avLst/>
            </a:prstGeom>
            <a:ln w="0">
              <a:noFill/>
            </a:ln>
          </p:spPr>
        </p:pic>
        <p:sp>
          <p:nvSpPr>
            <p:cNvPr id="267" name=""/>
            <p:cNvSpPr/>
            <p:nvPr/>
          </p:nvSpPr>
          <p:spPr>
            <a:xfrm>
              <a:off x="762120" y="1066680"/>
              <a:ext cx="4572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4464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E5DA52-7D80-44DE-ACBD-F8E96FB50E2A}"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70000" cy="1170000"/>
            <a:chOff x="165240" y="1036800"/>
            <a:chExt cx="1170000" cy="1170000"/>
          </a:xfrm>
        </p:grpSpPr>
        <p:pic>
          <p:nvPicPr>
            <p:cNvPr id="314" name="" descr=""/>
            <p:cNvPicPr/>
            <p:nvPr/>
          </p:nvPicPr>
          <p:blipFill>
            <a:blip r:embed="rId3"/>
            <a:stretch/>
          </p:blipFill>
          <p:spPr>
            <a:xfrm>
              <a:off x="165240" y="1036800"/>
              <a:ext cx="1170000" cy="1170000"/>
            </a:xfrm>
            <a:prstGeom prst="rect">
              <a:avLst/>
            </a:prstGeom>
            <a:ln w="0">
              <a:noFill/>
            </a:ln>
          </p:spPr>
        </p:pic>
        <p:sp>
          <p:nvSpPr>
            <p:cNvPr id="31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4920"/>
            <a:ext cx="212580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b5a788"/>
                </a:solidFill>
                <a:latin typeface="Times New Roman"/>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50971CE-86AE-481E-A9E4-1A23501231E4}"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914400" y="217188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s-ES_tradnl" sz="4000" spc="-1" strike="noStrike">
                <a:solidFill>
                  <a:srgbClr val="572314"/>
                </a:solidFill>
                <a:latin typeface="Gill Sans MT"/>
              </a:rPr>
              <a:t>Unidad 5C Oscilaciones forzadas</a:t>
            </a:r>
            <a:endParaRPr b="0" lang="en-US" sz="4000" spc="-1" strike="noStrike">
              <a:solidFill>
                <a:srgbClr val="000000"/>
              </a:solidFill>
              <a:latin typeface="Arial"/>
            </a:endParaRPr>
          </a:p>
        </p:txBody>
      </p:sp>
      <p:sp>
        <p:nvSpPr>
          <p:cNvPr id="372" name="PlaceHolder 1"/>
          <p:cNvSpPr>
            <a:spLocks noGrp="1"/>
          </p:cNvSpPr>
          <p:nvPr>
            <p:ph type="title"/>
          </p:nvPr>
        </p:nvSpPr>
        <p:spPr>
          <a:xfrm>
            <a:off x="1434600" y="141120"/>
            <a:ext cx="7494840" cy="1501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16000" y="128520"/>
            <a:ext cx="842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n la experiencia de hoy estudiaremos oscilaciones forzadas (con una componente de amortiguamiento) utilizando un carrito afirmado entre dos resortes.  Más abajo se muestra la solución analítica x(t) (cómo se mueve el carrito) a este problema.</a:t>
            </a:r>
            <a:endParaRPr b="0" lang="en-US" sz="1800" spc="-1" strike="noStrike">
              <a:solidFill>
                <a:srgbClr val="000000"/>
              </a:solidFill>
              <a:latin typeface="Arial"/>
            </a:endParaRPr>
          </a:p>
        </p:txBody>
      </p:sp>
      <p:pic>
        <p:nvPicPr>
          <p:cNvPr id="374" name="" descr=""/>
          <p:cNvPicPr/>
          <p:nvPr/>
        </p:nvPicPr>
        <p:blipFill>
          <a:blip r:embed="rId2"/>
          <a:stretch/>
        </p:blipFill>
        <p:spPr>
          <a:xfrm>
            <a:off x="360360" y="1265400"/>
            <a:ext cx="8323200" cy="1914480"/>
          </a:xfrm>
          <a:prstGeom prst="rect">
            <a:avLst/>
          </a:prstGeom>
          <a:ln w="0">
            <a:noFill/>
          </a:ln>
        </p:spPr>
      </p:pic>
      <p:sp>
        <p:nvSpPr>
          <p:cNvPr id="375" name=""/>
          <p:cNvSpPr/>
          <p:nvPr/>
        </p:nvSpPr>
        <p:spPr>
          <a:xfrm>
            <a:off x="360360" y="3600360"/>
            <a:ext cx="8424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 [3 puntos] explique por qué a la solución de la parte amortiguada se le considera como un transient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b) [3 puntos] ¿en qué consiste el fenómeno de resonancia? Explíquelo en términos de la amplitud B.</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Experiencia de hoy</a:t>
            </a:r>
            <a:endParaRPr b="0" lang="en-US" sz="3800" spc="-1" strike="noStrike">
              <a:solidFill>
                <a:srgbClr val="000000"/>
              </a:solidFill>
              <a:latin typeface="Arial"/>
            </a:endParaRPr>
          </a:p>
        </p:txBody>
      </p:sp>
      <p:sp>
        <p:nvSpPr>
          <p:cNvPr id="377"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78" name="" descr=""/>
          <p:cNvPicPr/>
          <p:nvPr/>
        </p:nvPicPr>
        <p:blipFill>
          <a:blip r:embed="rId2"/>
          <a:stretch/>
        </p:blipFill>
        <p:spPr>
          <a:xfrm>
            <a:off x="2770200" y="1508040"/>
            <a:ext cx="3611520" cy="2689200"/>
          </a:xfrm>
          <a:prstGeom prst="rect">
            <a:avLst/>
          </a:prstGeom>
          <a:ln w="0">
            <a:noFill/>
          </a:ln>
        </p:spPr>
      </p:pic>
      <p:sp>
        <p:nvSpPr>
          <p:cNvPr id="379" name=""/>
          <p:cNvSpPr/>
          <p:nvPr/>
        </p:nvSpPr>
        <p:spPr>
          <a:xfrm>
            <a:off x="696960" y="4284720"/>
            <a:ext cx="773892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el Centro de Masa</a:t>
            </a:r>
            <a:endParaRPr b="0" lang="en-US" sz="2900" spc="-1" strike="noStrike">
              <a:solidFill>
                <a:srgbClr val="000000"/>
              </a:solidFill>
              <a:latin typeface="Arial"/>
            </a:endParaRPr>
          </a:p>
        </p:txBody>
      </p:sp>
      <p:pic>
        <p:nvPicPr>
          <p:cNvPr id="380" name="" descr=""/>
          <p:cNvPicPr/>
          <p:nvPr/>
        </p:nvPicPr>
        <p:blipFill>
          <a:blip r:embed="rId3"/>
          <a:stretch/>
        </p:blipFill>
        <p:spPr>
          <a:xfrm>
            <a:off x="617400" y="5165640"/>
            <a:ext cx="3727440" cy="982800"/>
          </a:xfrm>
          <a:prstGeom prst="rect">
            <a:avLst/>
          </a:prstGeom>
          <a:ln w="0">
            <a:noFill/>
          </a:ln>
        </p:spPr>
      </p:pic>
      <p:pic>
        <p:nvPicPr>
          <p:cNvPr id="381" name="" descr=""/>
          <p:cNvPicPr/>
          <p:nvPr/>
        </p:nvPicPr>
        <p:blipFill>
          <a:blip r:embed="rId4"/>
          <a:stretch/>
        </p:blipFill>
        <p:spPr>
          <a:xfrm>
            <a:off x="5668920" y="5051520"/>
            <a:ext cx="2846520" cy="1211040"/>
          </a:xfrm>
          <a:prstGeom prst="rect">
            <a:avLst/>
          </a:prstGeom>
          <a:ln w="0">
            <a:noFill/>
          </a:ln>
        </p:spPr>
      </p:pic>
      <p:sp>
        <p:nvSpPr>
          <p:cNvPr id="382" name=""/>
          <p:cNvSpPr/>
          <p:nvPr/>
        </p:nvSpPr>
        <p:spPr>
          <a:xfrm>
            <a:off x="4801680" y="5435280"/>
            <a:ext cx="10296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t>
            </a:r>
            <a:endParaRPr b="0" lang="en-US" sz="2900" spc="-1" strike="noStrike">
              <a:solidFill>
                <a:srgbClr val="000000"/>
              </a:solidFill>
              <a:latin typeface="Arial"/>
            </a:endParaRPr>
          </a:p>
        </p:txBody>
      </p:sp>
      <p:pic>
        <p:nvPicPr>
          <p:cNvPr id="383" name="" descr=""/>
          <p:cNvPicPr/>
          <p:nvPr/>
        </p:nvPicPr>
        <p:blipFill>
          <a:blip r:embed="rId5"/>
          <a:stretch/>
        </p:blipFill>
        <p:spPr>
          <a:xfrm>
            <a:off x="5967360" y="1554120"/>
            <a:ext cx="1668600" cy="34308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85"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86" name="" descr=""/>
          <p:cNvPicPr/>
          <p:nvPr/>
        </p:nvPicPr>
        <p:blipFill>
          <a:blip r:embed="rId2"/>
          <a:stretch/>
        </p:blipFill>
        <p:spPr>
          <a:xfrm>
            <a:off x="266760" y="2390760"/>
            <a:ext cx="8732880" cy="1028880"/>
          </a:xfrm>
          <a:prstGeom prst="rect">
            <a:avLst/>
          </a:prstGeom>
          <a:ln w="0">
            <a:noFill/>
          </a:ln>
        </p:spPr>
      </p:pic>
      <p:sp>
        <p:nvSpPr>
          <p:cNvPr id="387" name=""/>
          <p:cNvSpPr/>
          <p:nvPr/>
        </p:nvSpPr>
        <p:spPr>
          <a:xfrm>
            <a:off x="262080" y="1701720"/>
            <a:ext cx="468612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CM:</a:t>
            </a:r>
            <a:endParaRPr b="0" lang="en-US" sz="2900" spc="-1" strike="noStrike">
              <a:solidFill>
                <a:srgbClr val="000000"/>
              </a:solidFill>
              <a:latin typeface="Arial"/>
            </a:endParaRPr>
          </a:p>
        </p:txBody>
      </p:sp>
      <p:pic>
        <p:nvPicPr>
          <p:cNvPr id="388" name="" descr=""/>
          <p:cNvPicPr/>
          <p:nvPr/>
        </p:nvPicPr>
        <p:blipFill>
          <a:blip r:embed="rId3"/>
          <a:stretch/>
        </p:blipFill>
        <p:spPr>
          <a:xfrm>
            <a:off x="2057400" y="4240080"/>
            <a:ext cx="5018040" cy="879480"/>
          </a:xfrm>
          <a:prstGeom prst="rect">
            <a:avLst/>
          </a:prstGeom>
          <a:ln w="0">
            <a:noFill/>
          </a:ln>
        </p:spPr>
      </p:pic>
      <p:sp>
        <p:nvSpPr>
          <p:cNvPr id="389" name=""/>
          <p:cNvSpPr/>
          <p:nvPr/>
        </p:nvSpPr>
        <p:spPr>
          <a:xfrm>
            <a:off x="262080" y="3714840"/>
            <a:ext cx="261756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Reordenando:</a:t>
            </a:r>
            <a:endParaRPr b="0" lang="en-US" sz="2900" spc="-1" strike="noStrike">
              <a:solidFill>
                <a:srgbClr val="000000"/>
              </a:solidFill>
              <a:latin typeface="Arial"/>
            </a:endParaRPr>
          </a:p>
        </p:txBody>
      </p:sp>
      <p:sp>
        <p:nvSpPr>
          <p:cNvPr id="390" name=""/>
          <p:cNvSpPr/>
          <p:nvPr/>
        </p:nvSpPr>
        <p:spPr>
          <a:xfrm>
            <a:off x="263520" y="5234040"/>
            <a:ext cx="84600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on:</a:t>
            </a:r>
            <a:endParaRPr b="0" lang="en-US" sz="2900" spc="-1" strike="noStrike">
              <a:solidFill>
                <a:srgbClr val="000000"/>
              </a:solidFill>
              <a:latin typeface="Arial"/>
            </a:endParaRPr>
          </a:p>
        </p:txBody>
      </p:sp>
      <p:pic>
        <p:nvPicPr>
          <p:cNvPr id="391" name="" descr=""/>
          <p:cNvPicPr/>
          <p:nvPr/>
        </p:nvPicPr>
        <p:blipFill>
          <a:blip r:embed="rId4"/>
          <a:stretch/>
        </p:blipFill>
        <p:spPr>
          <a:xfrm>
            <a:off x="971640" y="5862600"/>
            <a:ext cx="7200720" cy="47952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93"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sp>
        <p:nvSpPr>
          <p:cNvPr id="394" name=""/>
          <p:cNvSpPr/>
          <p:nvPr/>
        </p:nvSpPr>
        <p:spPr>
          <a:xfrm>
            <a:off x="650880" y="1657440"/>
            <a:ext cx="181764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Finalmente:</a:t>
            </a:r>
            <a:endParaRPr b="0" lang="en-US" sz="2900" spc="-1" strike="noStrike">
              <a:solidFill>
                <a:srgbClr val="000000"/>
              </a:solidFill>
              <a:latin typeface="Arial"/>
            </a:endParaRPr>
          </a:p>
        </p:txBody>
      </p:sp>
      <p:pic>
        <p:nvPicPr>
          <p:cNvPr id="395" name="" descr=""/>
          <p:cNvPicPr/>
          <p:nvPr/>
        </p:nvPicPr>
        <p:blipFill>
          <a:blip r:embed="rId2"/>
          <a:stretch/>
        </p:blipFill>
        <p:spPr>
          <a:xfrm>
            <a:off x="1692360" y="2286000"/>
            <a:ext cx="5761080" cy="949320"/>
          </a:xfrm>
          <a:prstGeom prst="rect">
            <a:avLst/>
          </a:prstGeom>
          <a:ln w="0">
            <a:noFill/>
          </a:ln>
        </p:spPr>
      </p:pic>
      <p:sp>
        <p:nvSpPr>
          <p:cNvPr id="396" name=""/>
          <p:cNvSpPr/>
          <p:nvPr/>
        </p:nvSpPr>
        <p:spPr>
          <a:xfrm>
            <a:off x="536400" y="3382920"/>
            <a:ext cx="477864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Misma solución analítica pero:</a:t>
            </a:r>
            <a:endParaRPr b="0" lang="en-US" sz="2900" spc="-1" strike="noStrike">
              <a:solidFill>
                <a:srgbClr val="000000"/>
              </a:solidFill>
              <a:latin typeface="Arial"/>
            </a:endParaRPr>
          </a:p>
        </p:txBody>
      </p:sp>
      <p:pic>
        <p:nvPicPr>
          <p:cNvPr id="397" name="" descr=""/>
          <p:cNvPicPr/>
          <p:nvPr/>
        </p:nvPicPr>
        <p:blipFill>
          <a:blip r:embed="rId3"/>
          <a:stretch/>
        </p:blipFill>
        <p:spPr>
          <a:xfrm>
            <a:off x="2239920" y="4011480"/>
            <a:ext cx="4754520" cy="479520"/>
          </a:xfrm>
          <a:prstGeom prst="rect">
            <a:avLst/>
          </a:prstGeom>
          <a:ln w="0">
            <a:noFill/>
          </a:ln>
        </p:spPr>
      </p:pic>
      <p:sp>
        <p:nvSpPr>
          <p:cNvPr id="398" name=""/>
          <p:cNvSpPr/>
          <p:nvPr/>
        </p:nvSpPr>
        <p:spPr>
          <a:xfrm>
            <a:off x="765360" y="4659120"/>
            <a:ext cx="2872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y:</a:t>
            </a:r>
            <a:endParaRPr b="0" lang="en-US" sz="2900" spc="-1" strike="noStrike">
              <a:solidFill>
                <a:srgbClr val="000000"/>
              </a:solidFill>
              <a:latin typeface="Arial"/>
            </a:endParaRPr>
          </a:p>
        </p:txBody>
      </p:sp>
      <p:pic>
        <p:nvPicPr>
          <p:cNvPr id="399" name="" descr=""/>
          <p:cNvPicPr/>
          <p:nvPr/>
        </p:nvPicPr>
        <p:blipFill>
          <a:blip r:embed="rId4"/>
          <a:stretch/>
        </p:blipFill>
        <p:spPr>
          <a:xfrm>
            <a:off x="1920960" y="5141880"/>
            <a:ext cx="5235480" cy="1347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42360" y="298440"/>
            <a:ext cx="8413200" cy="530100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Desarrollo del experimento</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Experiencia 1: Obtener la frecuencia natural w0 </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Tabla 1</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ada mesa</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1: amplitud 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2: amplitud 7.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3: amplitud 10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 ¿Cuál es el error de la medición?</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b) fijen en número de oscilaciones a 10</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 f=oscilaciones/segundo → w=2PI*f → k </a:t>
            </a:r>
            <a:endParaRPr b="0" lang="en-US" sz="29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8920" y="245520"/>
            <a:ext cx="9054720" cy="640368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Experiencia 2: mientras un grupo trabaja con el carrito los otros do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trabajan en la 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Amplitud de oscilación vs. frecue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1. Primero vean como la frecuencia cambia (brazo) con el voltaje (1-10 V):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dibujen la curva frecuencia lineal (ciclos/tiempo) vs. voltaje.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obtenga un orden de magnitud de la amplitud cuando el sistema entra en</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resona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2. Luego, trabajen en voltajes alrededor del voltaje de resonancia, V0. Así</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n cada mesa se debe hacer</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1: V0-0.5 V - V0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2: V0 - V0+0.5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3: V0+0.5V - V0+1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1 compañero mide la amplitud</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1 compañero mide la frecuencia → w</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Comienzen a medir la amplitud después de un tiempo fijo, por ejemplo despué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De 30 segundos.</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47320" y="2202840"/>
            <a:ext cx="8737920" cy="2744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ajen los archivos de u-cursos: OscForzado.m y VerletOscForzado.m</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Para hacerlos andar: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pongan ambos archivos en la misma carpet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haga correr OscForzado.m (debug → run) dando los parámetros de entrad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a:t>
            </a:r>
            <a:r>
              <a:rPr b="0" lang="en-US" sz="2000" spc="-1" strike="noStrike">
                <a:solidFill>
                  <a:srgbClr val="000000"/>
                </a:solidFill>
                <a:latin typeface="Arial"/>
                <a:ea typeface="Gill Sans"/>
              </a:rPr>
              <a:t>En la pantalla de trabajo de matlab</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varíe y0 o b para obtener la amplitud a la frecuencia de resonancia medida</a:t>
            </a:r>
            <a:endParaRPr b="0" lang="en-US" sz="2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5T14:23:51Z</dcterms:modified>
  <cp:revision>177</cp:revision>
  <dc:subject/>
  <dc:title>Diapositiva 1</dc:title>
</cp:coreProperties>
</file>