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dt" idx="9"/>
          </p:nvPr>
        </p:nvSpPr>
        <p:spPr>
          <a:xfrm>
            <a:off x="4021200" y="0"/>
            <a:ext cx="3068640" cy="50328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7" name="PlaceHolder 2"/>
          <p:cNvSpPr>
            <a:spLocks noGrp="1"/>
          </p:cNvSpPr>
          <p:nvPr>
            <p:ph type="sldImg"/>
          </p:nvPr>
        </p:nvSpPr>
        <p:spPr>
          <a:xfrm>
            <a:off x="990360" y="767880"/>
            <a:ext cx="5110200" cy="382932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8" name="PlaceHolder 3"/>
          <p:cNvSpPr>
            <a:spLocks noGrp="1"/>
          </p:cNvSpPr>
          <p:nvPr>
            <p:ph type="body"/>
          </p:nvPr>
        </p:nvSpPr>
        <p:spPr>
          <a:xfrm>
            <a:off x="709560" y="4861080"/>
            <a:ext cx="5672160" cy="459720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9"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4"/>
          <p:cNvSpPr>
            <a:spLocks noGrp="1"/>
          </p:cNvSpPr>
          <p:nvPr>
            <p:ph type="sldNum" idx="10"/>
          </p:nvPr>
        </p:nvSpPr>
        <p:spPr>
          <a:xfrm>
            <a:off x="4021200" y="9721800"/>
            <a:ext cx="3068640" cy="50328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D5A649-0F34-4103-95BB-A763EAB94409}"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C41F4C-A1F0-428D-9A09-607960EAFD46}"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0161E6-AAD5-4139-AA2E-9FB9B33DC009}"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40410-B63E-4D8B-A505-471BD2FE03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A51E9-23F1-4F37-8CA2-9A57185AE1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6593EF-E3BD-47C3-B456-4025BA22F1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CC00D0-57CE-41FA-BA21-23C0A4B149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C9FC31-AF52-41EB-8807-595933C798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4C1E9-2053-4A37-8B48-6F8CCB7519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4A012-D299-4574-A39A-F17AB4E146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3689847-F35F-4EDB-95DA-9DF1C14E8A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F87F0138-2F84-4F5E-9971-AC2EC72DC9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19C1F75-2662-4495-B9AA-9F8A2D44FD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FA93E0-147C-48F7-9DA6-D59ED1BD5C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855E4-235C-4008-8E57-E5D3406341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B18A834-5FA7-4EBE-9758-05640728A3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B7E85D-FB63-4B62-9EFB-AEDD7C0EF3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0D5172-1456-4359-AEF9-5F13D6263B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46FFA85-85C3-4AD9-831A-93D4D2CC85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857900D-5835-4893-AFD1-DBABB2B5947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5BF1F8-F121-409C-90B5-16AA476CD0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2706D6-AD9D-4DBF-95B6-0BDC37FAEC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3EBFD3F-D265-4DD2-BA18-A7A7ABECD9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F74387D-0504-4109-A5D6-9E23B25BCC3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ED320B73-E8D4-4C7E-ACC0-E2566B8C7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6754-EDF2-4B5C-9C48-94AB07E9206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DFD3834-9119-41AC-8492-3AC2DEF27A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750D1FC-E985-428C-8F2C-2333B51F0A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45823CF-9A23-4DDB-A69E-056063C5AD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A5E003D-C3C4-4E27-8C85-A2C264074D4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7F7FBB0-5380-4438-8884-FC828427B64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54905A2-49EA-4BF6-9F9B-C62D3C7D9D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F20097E-5D1A-40EF-90F9-9AAD8165E0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A93867-1801-44B6-8DF4-7E95E13E3BA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E27DA3-77C0-40CB-8D4D-1C8A617433F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A6E0B8-DBDB-4FAB-8B3A-D76592F828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509CC-1028-46BA-A46D-B5A7DAC0C29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2FBBFF-BCF3-4700-AE28-E1DBA1698AF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EF6500BC-C9F8-408C-9A4D-B4DB119E958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9F93618-64E1-4825-BD75-01E50920A4C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51BE2-1287-48AC-9D8E-B850A510E52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A92B0-FF5E-47BE-8434-E19497F67C8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17A9D0-004B-4693-B568-8D80DC30554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01DFC3-EFCD-4F7A-A188-2D27F3EC44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4A8A9B-0F0B-4724-A1A5-309C3B8EEE7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0E484F-7196-4113-AE49-8E4DD63EA7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9864EC-268A-4002-AF07-954408B7C9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1A1BFCCA-27E9-407A-80A8-CE0F01DA5E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3481A71-7B1D-458B-8E77-2DDD6FC7A7B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EE59139-4EAD-4044-89B3-A2C07841583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89822CF-17E6-4024-BBF0-E1728D2C2BF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36495AFC-60E8-45F0-9F98-8B7A4493AD1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3F737A4-EA54-42ED-A4C9-3D449BFC877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BBD8A4D-E33D-4ACD-A735-52883011E22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884E275-5421-4EF7-8801-DC7A064EE20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8EC1A1F-F4C0-44AC-8683-364772616F8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933AB3D-EF48-418B-8003-26B4A70042A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BBAC6F9A-8514-4E7D-87C8-20C9074F60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BF6B2E2-1AC1-4013-A620-810B95A92F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BBD131F1-B95E-46C8-982C-435F5FEA8B2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1AAA82-62F1-4E13-9C15-F82F430019A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6387D0D-80A9-49E7-9C9A-48F28A9EFF0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C4575CB-3892-4D2B-8FB1-2E9643FD386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5F53CE2-75B1-4820-8832-20DBAE9720B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E8C520A6-65A8-42FD-893B-A74655E2B11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8EAAC281-1A20-40F8-AF2E-33BBE74A848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8D9F758-CB9B-41CC-8EF9-6C470224459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9F9A5D4-31FB-4D1E-80B1-67CA49F24BF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EDA14BA-EE86-4099-9A6D-DE76CF7CC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2D246-A555-4917-A242-48923743E08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F0CBC8C-BD26-467A-AFCC-652C8C5F8D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0E11D1F-770C-45DF-A200-1B069BC7CCB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E4B66C6-7C46-4221-BB54-158706C2638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5CA523C-DCF3-404D-B236-8ED83DD3CDD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C38D435F-46F5-432A-857E-775B3A8EAD6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E2DFDC92-55EF-4BEE-B63D-260C7916B5C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6195A68E-38A5-4EB3-80A2-2B8F6C5C58F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CBFC00F5-181D-41EE-BF2A-278AC325214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68460D50-EEAF-4662-ADDF-047B0BA32F6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51256D74-D6A6-4C06-8983-022BAF747F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F5047-18EE-4250-87A9-3311EBAF63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EEA37D7A-CE25-4D25-B749-131175E272C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0A6E4511-1991-467A-B057-06F3881525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4C7D15E2-8C98-49F6-BD75-F7B36A27EAB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41B0FA29-3979-49FC-AD89-D2504772114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B903FBAF-B1C1-4916-BE2D-C9E4DF69463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0D3D89-9C82-494E-91DA-796B69B7E03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7503C5C-0715-45B8-B282-50FF29B8370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20E1B15-A7D6-4F37-B5AE-3E06E086C3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661E4A8-5381-45B8-B751-62CCCF4D6EE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57E4A6C4-0642-4416-A7BB-4B0316D3C0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F5FDA-E358-4B86-8621-0E9D89F3A22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5938AA5E-5199-48CA-8A76-CA9171EE170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83980C7-D53B-4989-97B8-4011FE0C32F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B1C3FA6-5665-42F2-BECE-EC5E173222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4DB7582-7FEB-4B90-A18B-3C834C5E610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3FC6217-4B62-4881-94D6-EAC11E1653E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1A9AF86-B1AA-4BA7-88B6-A9B1E50D183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824E5B34-32FF-4210-8246-C0A4F56B9F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4920"/>
            <a:ext cx="2125800" cy="468360"/>
          </a:xfrm>
          <a:prstGeom prst="rect">
            <a:avLst/>
          </a:prstGeom>
          <a:noFill/>
          <a:ln w="0">
            <a:noFill/>
          </a:ln>
        </p:spPr>
        <p:txBody>
          <a:bodyPr lIns="90000" rIns="90000" tIns="46800" bIns="46800" anchor="b">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_tradnl" sz="1200" spc="-1" strike="noStrike">
                <a:solidFill>
                  <a:srgbClr val="b5a788"/>
                </a:solidFill>
                <a:latin typeface="Times New Roman"/>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457F7F-DB64-4116-A843-CD305E11A4C2}"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70000" cy="1170000"/>
            <a:chOff x="165240" y="1036800"/>
            <a:chExt cx="1170000" cy="1170000"/>
          </a:xfrm>
        </p:grpSpPr>
        <p:pic>
          <p:nvPicPr>
            <p:cNvPr id="44" name="" descr=""/>
            <p:cNvPicPr/>
            <p:nvPr/>
          </p:nvPicPr>
          <p:blipFill>
            <a:blip r:embed="rId3"/>
            <a:stretch/>
          </p:blipFill>
          <p:spPr>
            <a:xfrm>
              <a:off x="165240" y="1036800"/>
              <a:ext cx="1170000" cy="1170000"/>
            </a:xfrm>
            <a:prstGeom prst="rect">
              <a:avLst/>
            </a:prstGeom>
            <a:ln w="0">
              <a:noFill/>
            </a:ln>
          </p:spPr>
        </p:pic>
        <p:sp>
          <p:nvSpPr>
            <p:cNvPr id="4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1840" cy="225720"/>
            <a:chOff x="914400" y="1407960"/>
            <a:chExt cx="231840" cy="225720"/>
          </a:xfrm>
        </p:grpSpPr>
        <p:pic>
          <p:nvPicPr>
            <p:cNvPr id="49" name="" descr=""/>
            <p:cNvPicPr/>
            <p:nvPr/>
          </p:nvPicPr>
          <p:blipFill>
            <a:blip r:embed="rId4"/>
            <a:stretch/>
          </p:blipFill>
          <p:spPr>
            <a:xfrm>
              <a:off x="914400" y="1407960"/>
              <a:ext cx="231840" cy="225720"/>
            </a:xfrm>
            <a:prstGeom prst="rect">
              <a:avLst/>
            </a:prstGeom>
            <a:ln w="0">
              <a:noFill/>
            </a:ln>
          </p:spPr>
        </p:pic>
        <p:sp>
          <p:nvSpPr>
            <p:cNvPr id="50" name=""/>
            <p:cNvSpPr/>
            <p:nvPr/>
          </p:nvSpPr>
          <p:spPr>
            <a:xfrm>
              <a:off x="952560" y="1444680"/>
              <a:ext cx="149040" cy="149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B44FB34-E0F3-48FF-ACCD-9AA3966D6CC5}"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1840" cy="225360"/>
            <a:chOff x="2163600" y="2809800"/>
            <a:chExt cx="231840" cy="225360"/>
          </a:xfrm>
        </p:grpSpPr>
        <p:pic>
          <p:nvPicPr>
            <p:cNvPr id="96" name="" descr=""/>
            <p:cNvPicPr/>
            <p:nvPr/>
          </p:nvPicPr>
          <p:blipFill>
            <a:blip r:embed="rId3"/>
            <a:stretch/>
          </p:blipFill>
          <p:spPr>
            <a:xfrm>
              <a:off x="2163600" y="2809800"/>
              <a:ext cx="231840" cy="225360"/>
            </a:xfrm>
            <a:prstGeom prst="rect">
              <a:avLst/>
            </a:prstGeom>
            <a:ln w="0">
              <a:noFill/>
            </a:ln>
          </p:spPr>
        </p:pic>
        <p:sp>
          <p:nvSpPr>
            <p:cNvPr id="97" name=""/>
            <p:cNvSpPr/>
            <p:nvPr/>
          </p:nvSpPr>
          <p:spPr>
            <a:xfrm>
              <a:off x="2203560" y="2844720"/>
              <a:ext cx="147600" cy="14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86F81F-1162-451C-9A51-977F88F047F8}"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8E07E8-C4F6-4D1D-A6DE-06D1EC1C1292}"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9B2FBE-97E0-4940-B2DB-895F0810C8FB}"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B54A05B-8C82-4B6B-9146-BE9401764F3D}"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3840" cy="4802400"/>
            <a:chOff x="646200" y="969840"/>
            <a:chExt cx="4803840" cy="4802400"/>
          </a:xfrm>
        </p:grpSpPr>
        <p:pic>
          <p:nvPicPr>
            <p:cNvPr id="266" name="" descr=""/>
            <p:cNvPicPr/>
            <p:nvPr/>
          </p:nvPicPr>
          <p:blipFill>
            <a:blip r:embed="rId3"/>
            <a:stretch/>
          </p:blipFill>
          <p:spPr>
            <a:xfrm>
              <a:off x="646200" y="969840"/>
              <a:ext cx="4803840" cy="4802400"/>
            </a:xfrm>
            <a:prstGeom prst="rect">
              <a:avLst/>
            </a:prstGeom>
            <a:ln w="0">
              <a:noFill/>
            </a:ln>
          </p:spPr>
        </p:pic>
        <p:sp>
          <p:nvSpPr>
            <p:cNvPr id="267" name=""/>
            <p:cNvSpPr/>
            <p:nvPr/>
          </p:nvSpPr>
          <p:spPr>
            <a:xfrm>
              <a:off x="762120" y="1066680"/>
              <a:ext cx="45720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4464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B4D6B73-FB6C-4C4F-9791-A89DCA413BCD}"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70000" cy="1170000"/>
            <a:chOff x="165240" y="1036800"/>
            <a:chExt cx="1170000" cy="1170000"/>
          </a:xfrm>
        </p:grpSpPr>
        <p:pic>
          <p:nvPicPr>
            <p:cNvPr id="314" name="" descr=""/>
            <p:cNvPicPr/>
            <p:nvPr/>
          </p:nvPicPr>
          <p:blipFill>
            <a:blip r:embed="rId3"/>
            <a:stretch/>
          </p:blipFill>
          <p:spPr>
            <a:xfrm>
              <a:off x="165240" y="1036800"/>
              <a:ext cx="1170000" cy="1170000"/>
            </a:xfrm>
            <a:prstGeom prst="rect">
              <a:avLst/>
            </a:prstGeom>
            <a:ln w="0">
              <a:noFill/>
            </a:ln>
          </p:spPr>
        </p:pic>
        <p:sp>
          <p:nvSpPr>
            <p:cNvPr id="31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4920"/>
            <a:ext cx="212580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_tradnl" sz="1200" spc="-1" strike="noStrike">
                <a:solidFill>
                  <a:srgbClr val="b5a788"/>
                </a:solidFill>
                <a:latin typeface="Times New Roman"/>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79E85EF-4FBE-4747-A806-A8FA7F2B32E5}"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914400" y="2171880"/>
            <a:ext cx="8229600" cy="3747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s-ES_tradnl" sz="4000" spc="-1" strike="noStrike">
                <a:solidFill>
                  <a:srgbClr val="572314"/>
                </a:solidFill>
                <a:latin typeface="Gill Sans MT"/>
              </a:rPr>
              <a:t>Unidad 5C Oscilaciones forzadas</a:t>
            </a:r>
            <a:endParaRPr b="0" lang="en-US" sz="4000" spc="-1" strike="noStrike">
              <a:solidFill>
                <a:srgbClr val="000000"/>
              </a:solidFill>
              <a:latin typeface="Arial"/>
            </a:endParaRPr>
          </a:p>
        </p:txBody>
      </p:sp>
      <p:sp>
        <p:nvSpPr>
          <p:cNvPr id="372" name="PlaceHolder 1"/>
          <p:cNvSpPr>
            <a:spLocks noGrp="1"/>
          </p:cNvSpPr>
          <p:nvPr>
            <p:ph type="title"/>
          </p:nvPr>
        </p:nvSpPr>
        <p:spPr>
          <a:xfrm>
            <a:off x="1434600" y="141120"/>
            <a:ext cx="7494840" cy="15019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216000" y="128520"/>
            <a:ext cx="8424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n la experiencia de hoy estudiaremos oscilaciones forzadas (con una componente de amortiguamiento) utilizando un carrito afirmado entre dos resortes.  Más abajo se muestra la solución analítica x(t) (cómo se mueve el carrito) a este problema.</a:t>
            </a:r>
            <a:endParaRPr b="0" lang="en-US" sz="1800" spc="-1" strike="noStrike">
              <a:solidFill>
                <a:srgbClr val="000000"/>
              </a:solidFill>
              <a:latin typeface="Arial"/>
            </a:endParaRPr>
          </a:p>
        </p:txBody>
      </p:sp>
      <p:pic>
        <p:nvPicPr>
          <p:cNvPr id="374" name="" descr=""/>
          <p:cNvPicPr/>
          <p:nvPr/>
        </p:nvPicPr>
        <p:blipFill>
          <a:blip r:embed="rId2"/>
          <a:stretch/>
        </p:blipFill>
        <p:spPr>
          <a:xfrm>
            <a:off x="360360" y="1265400"/>
            <a:ext cx="8323200" cy="1914480"/>
          </a:xfrm>
          <a:prstGeom prst="rect">
            <a:avLst/>
          </a:prstGeom>
          <a:ln w="0">
            <a:noFill/>
          </a:ln>
        </p:spPr>
      </p:pic>
      <p:sp>
        <p:nvSpPr>
          <p:cNvPr id="375" name=""/>
          <p:cNvSpPr/>
          <p:nvPr/>
        </p:nvSpPr>
        <p:spPr>
          <a:xfrm>
            <a:off x="360360" y="3600360"/>
            <a:ext cx="8424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a) [3 puntos] explique por qué a la solución de la parte amortiguada se le considera como un transiente.</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b) [3 puntos] ¿en qué consiste el fenómeno de resonancia? Explíquelo en términos de la amplitud B.</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Experiencia de hoy</a:t>
            </a:r>
            <a:endParaRPr b="0" lang="en-US" sz="3800" spc="-1" strike="noStrike">
              <a:solidFill>
                <a:srgbClr val="000000"/>
              </a:solidFill>
              <a:latin typeface="Arial"/>
            </a:endParaRPr>
          </a:p>
        </p:txBody>
      </p:sp>
      <p:sp>
        <p:nvSpPr>
          <p:cNvPr id="377"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78" name="" descr=""/>
          <p:cNvPicPr/>
          <p:nvPr/>
        </p:nvPicPr>
        <p:blipFill>
          <a:blip r:embed="rId2"/>
          <a:stretch/>
        </p:blipFill>
        <p:spPr>
          <a:xfrm>
            <a:off x="2770200" y="1508040"/>
            <a:ext cx="3611520" cy="2689200"/>
          </a:xfrm>
          <a:prstGeom prst="rect">
            <a:avLst/>
          </a:prstGeom>
          <a:ln w="0">
            <a:noFill/>
          </a:ln>
        </p:spPr>
      </p:pic>
      <p:sp>
        <p:nvSpPr>
          <p:cNvPr id="379" name=""/>
          <p:cNvSpPr/>
          <p:nvPr/>
        </p:nvSpPr>
        <p:spPr>
          <a:xfrm>
            <a:off x="696960" y="4284720"/>
            <a:ext cx="773892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el Centro de Masa</a:t>
            </a:r>
            <a:endParaRPr b="0" lang="en-US" sz="2900" spc="-1" strike="noStrike">
              <a:solidFill>
                <a:srgbClr val="000000"/>
              </a:solidFill>
              <a:latin typeface="Arial"/>
            </a:endParaRPr>
          </a:p>
        </p:txBody>
      </p:sp>
      <p:pic>
        <p:nvPicPr>
          <p:cNvPr id="380" name="" descr=""/>
          <p:cNvPicPr/>
          <p:nvPr/>
        </p:nvPicPr>
        <p:blipFill>
          <a:blip r:embed="rId3"/>
          <a:stretch/>
        </p:blipFill>
        <p:spPr>
          <a:xfrm>
            <a:off x="617400" y="5165640"/>
            <a:ext cx="3727440" cy="982800"/>
          </a:xfrm>
          <a:prstGeom prst="rect">
            <a:avLst/>
          </a:prstGeom>
          <a:ln w="0">
            <a:noFill/>
          </a:ln>
        </p:spPr>
      </p:pic>
      <p:pic>
        <p:nvPicPr>
          <p:cNvPr id="381" name="" descr=""/>
          <p:cNvPicPr/>
          <p:nvPr/>
        </p:nvPicPr>
        <p:blipFill>
          <a:blip r:embed="rId4"/>
          <a:stretch/>
        </p:blipFill>
        <p:spPr>
          <a:xfrm>
            <a:off x="5668920" y="5051520"/>
            <a:ext cx="2846520" cy="1211040"/>
          </a:xfrm>
          <a:prstGeom prst="rect">
            <a:avLst/>
          </a:prstGeom>
          <a:ln w="0">
            <a:noFill/>
          </a:ln>
        </p:spPr>
      </p:pic>
      <p:sp>
        <p:nvSpPr>
          <p:cNvPr id="382" name=""/>
          <p:cNvSpPr/>
          <p:nvPr/>
        </p:nvSpPr>
        <p:spPr>
          <a:xfrm>
            <a:off x="4801680" y="5435280"/>
            <a:ext cx="10296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t>
            </a:r>
            <a:endParaRPr b="0" lang="en-US" sz="2900" spc="-1" strike="noStrike">
              <a:solidFill>
                <a:srgbClr val="000000"/>
              </a:solidFill>
              <a:latin typeface="Arial"/>
            </a:endParaRPr>
          </a:p>
        </p:txBody>
      </p:sp>
      <p:pic>
        <p:nvPicPr>
          <p:cNvPr id="383" name="" descr=""/>
          <p:cNvPicPr/>
          <p:nvPr/>
        </p:nvPicPr>
        <p:blipFill>
          <a:blip r:embed="rId5"/>
          <a:stretch/>
        </p:blipFill>
        <p:spPr>
          <a:xfrm>
            <a:off x="5967360" y="1554120"/>
            <a:ext cx="1668600" cy="34308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85"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86" name="" descr=""/>
          <p:cNvPicPr/>
          <p:nvPr/>
        </p:nvPicPr>
        <p:blipFill>
          <a:blip r:embed="rId2"/>
          <a:stretch/>
        </p:blipFill>
        <p:spPr>
          <a:xfrm>
            <a:off x="266760" y="2390760"/>
            <a:ext cx="8732880" cy="1028880"/>
          </a:xfrm>
          <a:prstGeom prst="rect">
            <a:avLst/>
          </a:prstGeom>
          <a:ln w="0">
            <a:noFill/>
          </a:ln>
        </p:spPr>
      </p:pic>
      <p:sp>
        <p:nvSpPr>
          <p:cNvPr id="387" name=""/>
          <p:cNvSpPr/>
          <p:nvPr/>
        </p:nvSpPr>
        <p:spPr>
          <a:xfrm>
            <a:off x="262080" y="1701720"/>
            <a:ext cx="468612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CM:</a:t>
            </a:r>
            <a:endParaRPr b="0" lang="en-US" sz="2900" spc="-1" strike="noStrike">
              <a:solidFill>
                <a:srgbClr val="000000"/>
              </a:solidFill>
              <a:latin typeface="Arial"/>
            </a:endParaRPr>
          </a:p>
        </p:txBody>
      </p:sp>
      <p:pic>
        <p:nvPicPr>
          <p:cNvPr id="388" name="" descr=""/>
          <p:cNvPicPr/>
          <p:nvPr/>
        </p:nvPicPr>
        <p:blipFill>
          <a:blip r:embed="rId3"/>
          <a:stretch/>
        </p:blipFill>
        <p:spPr>
          <a:xfrm>
            <a:off x="2057400" y="4240080"/>
            <a:ext cx="5018040" cy="879480"/>
          </a:xfrm>
          <a:prstGeom prst="rect">
            <a:avLst/>
          </a:prstGeom>
          <a:ln w="0">
            <a:noFill/>
          </a:ln>
        </p:spPr>
      </p:pic>
      <p:sp>
        <p:nvSpPr>
          <p:cNvPr id="389" name=""/>
          <p:cNvSpPr/>
          <p:nvPr/>
        </p:nvSpPr>
        <p:spPr>
          <a:xfrm>
            <a:off x="262080" y="3714840"/>
            <a:ext cx="261756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Reordenando:</a:t>
            </a:r>
            <a:endParaRPr b="0" lang="en-US" sz="2900" spc="-1" strike="noStrike">
              <a:solidFill>
                <a:srgbClr val="000000"/>
              </a:solidFill>
              <a:latin typeface="Arial"/>
            </a:endParaRPr>
          </a:p>
        </p:txBody>
      </p:sp>
      <p:sp>
        <p:nvSpPr>
          <p:cNvPr id="390" name=""/>
          <p:cNvSpPr/>
          <p:nvPr/>
        </p:nvSpPr>
        <p:spPr>
          <a:xfrm>
            <a:off x="263520" y="5234040"/>
            <a:ext cx="84600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on:</a:t>
            </a:r>
            <a:endParaRPr b="0" lang="en-US" sz="2900" spc="-1" strike="noStrike">
              <a:solidFill>
                <a:srgbClr val="000000"/>
              </a:solidFill>
              <a:latin typeface="Arial"/>
            </a:endParaRPr>
          </a:p>
        </p:txBody>
      </p:sp>
      <p:pic>
        <p:nvPicPr>
          <p:cNvPr id="391" name="" descr=""/>
          <p:cNvPicPr/>
          <p:nvPr/>
        </p:nvPicPr>
        <p:blipFill>
          <a:blip r:embed="rId4"/>
          <a:stretch/>
        </p:blipFill>
        <p:spPr>
          <a:xfrm>
            <a:off x="971640" y="5862600"/>
            <a:ext cx="7200720" cy="47952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93"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sp>
        <p:nvSpPr>
          <p:cNvPr id="394" name=""/>
          <p:cNvSpPr/>
          <p:nvPr/>
        </p:nvSpPr>
        <p:spPr>
          <a:xfrm>
            <a:off x="650880" y="1657440"/>
            <a:ext cx="181764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Finalmente:</a:t>
            </a:r>
            <a:endParaRPr b="0" lang="en-US" sz="2900" spc="-1" strike="noStrike">
              <a:solidFill>
                <a:srgbClr val="000000"/>
              </a:solidFill>
              <a:latin typeface="Arial"/>
            </a:endParaRPr>
          </a:p>
        </p:txBody>
      </p:sp>
      <p:pic>
        <p:nvPicPr>
          <p:cNvPr id="395" name="" descr=""/>
          <p:cNvPicPr/>
          <p:nvPr/>
        </p:nvPicPr>
        <p:blipFill>
          <a:blip r:embed="rId2"/>
          <a:stretch/>
        </p:blipFill>
        <p:spPr>
          <a:xfrm>
            <a:off x="1692360" y="2286000"/>
            <a:ext cx="5761080" cy="949320"/>
          </a:xfrm>
          <a:prstGeom prst="rect">
            <a:avLst/>
          </a:prstGeom>
          <a:ln w="0">
            <a:noFill/>
          </a:ln>
        </p:spPr>
      </p:pic>
      <p:sp>
        <p:nvSpPr>
          <p:cNvPr id="396" name=""/>
          <p:cNvSpPr/>
          <p:nvPr/>
        </p:nvSpPr>
        <p:spPr>
          <a:xfrm>
            <a:off x="536400" y="3382920"/>
            <a:ext cx="477864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Misma solución analítica pero:</a:t>
            </a:r>
            <a:endParaRPr b="0" lang="en-US" sz="2900" spc="-1" strike="noStrike">
              <a:solidFill>
                <a:srgbClr val="000000"/>
              </a:solidFill>
              <a:latin typeface="Arial"/>
            </a:endParaRPr>
          </a:p>
        </p:txBody>
      </p:sp>
      <p:pic>
        <p:nvPicPr>
          <p:cNvPr id="397" name="" descr=""/>
          <p:cNvPicPr/>
          <p:nvPr/>
        </p:nvPicPr>
        <p:blipFill>
          <a:blip r:embed="rId3"/>
          <a:stretch/>
        </p:blipFill>
        <p:spPr>
          <a:xfrm>
            <a:off x="2239920" y="4011480"/>
            <a:ext cx="4754520" cy="479520"/>
          </a:xfrm>
          <a:prstGeom prst="rect">
            <a:avLst/>
          </a:prstGeom>
          <a:ln w="0">
            <a:noFill/>
          </a:ln>
        </p:spPr>
      </p:pic>
      <p:sp>
        <p:nvSpPr>
          <p:cNvPr id="398" name=""/>
          <p:cNvSpPr/>
          <p:nvPr/>
        </p:nvSpPr>
        <p:spPr>
          <a:xfrm>
            <a:off x="765360" y="4659120"/>
            <a:ext cx="2872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y:</a:t>
            </a:r>
            <a:endParaRPr b="0" lang="en-US" sz="2900" spc="-1" strike="noStrike">
              <a:solidFill>
                <a:srgbClr val="000000"/>
              </a:solidFill>
              <a:latin typeface="Arial"/>
            </a:endParaRPr>
          </a:p>
        </p:txBody>
      </p:sp>
      <p:pic>
        <p:nvPicPr>
          <p:cNvPr id="399" name="" descr=""/>
          <p:cNvPicPr/>
          <p:nvPr/>
        </p:nvPicPr>
        <p:blipFill>
          <a:blip r:embed="rId4"/>
          <a:stretch/>
        </p:blipFill>
        <p:spPr>
          <a:xfrm>
            <a:off x="1920960" y="5141880"/>
            <a:ext cx="5235480" cy="13478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p:nvPr/>
        </p:nvSpPr>
        <p:spPr>
          <a:xfrm>
            <a:off x="342360" y="298440"/>
            <a:ext cx="8413200" cy="530100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Desarrollo del experimento</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Experiencia 1: Obtener la frecuencia natural w0 </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Tabla 1</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ada mesa</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1: amplitud 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2: amplitud 7.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3: amplitud 10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 ¿Cuál es el error de la medición?</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b) fijen en número de oscilaciones a 10</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 f=oscilaciones/segundo → w=2PI*f → k </a:t>
            </a:r>
            <a:endParaRPr b="0" lang="en-US" sz="29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88920" y="245520"/>
            <a:ext cx="9054720" cy="640368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Experiencia 2: mientras un grupo trabaja con el carrito los otros do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trabajan en la 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Amplitud de oscilación vs. frecue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1. Primero vean como la frecuencia cambia (brazo) con el voltaje (1-10 V):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dibujen la curva frecuencia lineal (ciclos/tiempo) vs. voltaje.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obtenga un orden de magnitud de la amplitud cuando el sistema entra en</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resona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2. Luego, trabajen en voltajes alrededor del voltaje de resonancia, V0. Así</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n cada mesa se debe hacer</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1: V0-0.5 V - V0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2: V0 - V0+0.5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3: V0+0.5V - V0+1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1 compañero mide la amplitud</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1 compañero mide la frecuencia → w</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Comienzen a medir la amplitud después de un tiempo fijo, por ejemplo despué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De 30 segundos.</a:t>
            </a:r>
            <a:endParaRPr b="0" lang="en-US" sz="20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47320" y="2202840"/>
            <a:ext cx="8737920" cy="274464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ajen los archivos de u-cursos: OscForzado.m y VerletOscForzado.m</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Para hacerlos andar: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pongan ambos archivos en la misma carpet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haga correr OscForzado.m (debug → run) dando los parámetros de entrad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a:t>
            </a:r>
            <a:r>
              <a:rPr b="0" lang="en-US" sz="2000" spc="-1" strike="noStrike">
                <a:solidFill>
                  <a:srgbClr val="000000"/>
                </a:solidFill>
                <a:latin typeface="Arial"/>
                <a:ea typeface="Gill Sans"/>
              </a:rPr>
              <a:t>En la pantalla de trabajo de matlab</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varíe y0 o b para obtener la amplitud a la frecuencia de resonancia medida</a:t>
            </a:r>
            <a:endParaRPr b="0" lang="en-US" sz="20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5T14:23:51Z</dcterms:modified>
  <cp:revision>177</cp:revision>
  <dc:subject/>
  <dc:title>Diapositiva 1</dc:title>
</cp:coreProperties>
</file>