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AutoShape 1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AutoShape 2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 Box 3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dt" idx="9"/>
          </p:nvPr>
        </p:nvSpPr>
        <p:spPr>
          <a:xfrm>
            <a:off x="4020840" y="-360"/>
            <a:ext cx="3073320" cy="5079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4880" cy="3834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7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sldNum" idx="10"/>
          </p:nvPr>
        </p:nvSpPr>
        <p:spPr>
          <a:xfrm>
            <a:off x="4020840" y="9721440"/>
            <a:ext cx="3073320" cy="5079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MX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0A0166-125F-434A-BF76-E7C38A0DED87}" type="slidenum">
              <a:rPr b="0" lang="es-MX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8"/>
          <p:cNvSpPr/>
          <p:nvPr/>
        </p:nvSpPr>
        <p:spPr>
          <a:xfrm>
            <a:off x="4021200" y="9721800"/>
            <a:ext cx="3073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B05E38-0DF4-4FC2-A9B4-A5DC232263C4}" type="slidenum">
              <a:rPr b="0" lang="es-MX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Text Box 1"/>
          <p:cNvSpPr/>
          <p:nvPr/>
        </p:nvSpPr>
        <p:spPr>
          <a:xfrm>
            <a:off x="992160" y="768240"/>
            <a:ext cx="51148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D844A0-B0B5-4681-9B48-1AC6C0D9E333}" type="slidenum">
              <a:rPr b="0" lang="es-MX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97A82-0BB6-424E-B585-7964FCE887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2334F-7342-4395-9F65-3DE9F99582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1B253-0AD2-4CCE-9102-58B2D70B79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74E96-675D-4163-AFC2-5731BBADC4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0B204-CDDA-4570-A8B7-EECA1ECDF9E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1B7A3-BB7C-436C-89E6-5262C0BD510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B5531-9353-4AC4-9278-D44B0FA3BF6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25C9B-3262-4466-84EA-EAC2090A7F7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D9C50-A103-45F0-8F54-DE922A82FFA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62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15F1D-E675-482E-84BA-C47B7638329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FCE03-B06E-488E-B524-93DE1570B8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9BE48-4CB4-48EE-962C-8B7410A999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D56C6-FA28-494D-AC3B-3ED4C9D09E0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C6FF4-D891-4E85-92B8-1B583DBB63A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661A8-48D5-4EC5-B5F0-F5E784B0CFB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B53F2-64B5-459F-B751-1FD3CC383AD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DE8DD-8D18-458F-AEDA-BB0A96875E6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7DD7-7211-49B9-BB21-D7D2B148BB3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876F-6759-415F-8BA3-2B204D30B0D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B6E7-D348-4DBC-80E4-EE6A032EE95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BD5E-CDBE-40CB-8A2D-2E0E5DA1A85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E4AA-BE16-43FE-AB29-DD1CC66EDF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4CD6D-DC9F-4051-8AB9-5D182FC5533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62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2DEE-CECC-49D7-A4E0-477EB401D91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5D37-8440-494D-83A3-7E3C0B1B539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A5A2-4682-4334-BB25-38B48D12379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54F1-E47B-422D-817D-24D40A3D4A4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AA0B-ABBC-40E0-ACEA-CA88775FA53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4A7F-E6E3-472E-975E-5CDD9BEE69B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A48E-575A-4E3C-8278-956595C6056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9758E0-46F2-4C70-95C2-CD97BEC5902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BF6069-1E6E-43B0-8440-21A908293B8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B05B56-B3B2-4EA1-ACEA-12367A31D8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BA645-138C-4490-B3D9-0225983727C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38F08B-CA47-46BF-947F-313AC1650F7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8C93AE-41C0-4359-BCDF-A19593766C9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62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BAFB02-F041-4569-AF96-17D61617E28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3FE5CA-9322-4FEA-B0AC-89E780B3B2D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1CFA57-9169-492F-9F9A-1B021565DEE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9F2CB8-6DD7-4A3C-929B-45B70F2E334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45B77C-9BB2-4E86-90F1-1DD28B0AD58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B5B695-E30B-4D50-BFA0-BD6122812B0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83446D-16DF-4DBF-A5EC-FC707D696C9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2527DE-B229-4817-9E45-4C56D55A46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356A8-2A6F-4192-A18B-D92591447F8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4B06F6-B784-4675-B9AF-92F98A19BB6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65AC03-2C39-4B7F-9A99-A781CBF1DFD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A4CAED-B240-4D2A-96E5-BF561C03252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41E5F9-9700-4424-AB18-633A16488DF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62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862046-0F45-4C59-AA8C-C2037570C0F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FEA391-4F1C-4A55-83D9-FFAFF056517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41ABF7-236E-4096-A58E-C64CAD8C393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A70300-9063-4349-A3E8-6212B373272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652B61-446B-4E85-9CF8-30B8BB0D843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4CC970-81BD-4594-BC12-9C01B0A26A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62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F9BB4-5844-4BCA-B0F7-033C84B351C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E3FE0F-F327-4948-B81F-CF0C503AA27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DF8C6-BC89-49E3-957E-F2F006EEB5B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75074-98F7-4781-96B1-C23DF0D2208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EF0D2-954F-48FB-B391-CC89BD79DE0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AFCEC-FC35-4379-83E9-99A997A980A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F9A21-D20A-4B4F-9D52-3E1542D2A07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62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1FF63-CF91-4D41-810B-9BD14C0F0C7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8E461-8DEA-41EE-B79F-D5EB9ABA90E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2C514-4D36-4FA9-987F-ED32503EF5C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47012-7A5B-47FC-8CB4-654FCCDBA1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F8B6A-25CA-42D5-A4BE-BCAE6B26C34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EB091-968F-4507-B81D-832B698B77D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D89F5-1FF7-4F54-BAF5-E25F3EEAC0B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B4CF1-D82D-46A9-8F96-590A21AB0B1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8CC10D-5966-4E31-9B3D-79800ED7720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924642-01CC-4F18-A34C-C9E355FEB43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9B4A77-D720-4937-9FD0-0C1BAD33983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A26F18-DE38-4980-9530-0E5DC372B10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0FD613-1F9C-4E2C-86A6-79FBE99F78C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62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AFA3DA-62A5-435A-8A03-DB9B0A6CBFB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B40849-217C-4568-B022-2C5920EDB4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E569A-E892-42A4-A555-8D6AC70BBF7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3109A7-498D-41FD-A9ED-705977D47CB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3B4DF9-3D72-4177-81C2-334287CFDF3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44AA12-8E82-41FB-8905-10853FE2180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2897FA-CF11-43C6-B2F0-18B523F4BF1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42ED3B-276F-43DE-85A8-CAA8F9C97E2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30067B-43BC-4CDE-B056-8B48CBFA226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B47B1C-88F7-453C-9D96-C1AC47C4EAB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857F6A-4BCA-4BC6-9202-C55E63D7A49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1A39EC-4DA1-410C-B5A6-9F8013F45AB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66AD79-99B3-44CB-95DA-C457606416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7F4E9-09F0-4579-8DD8-AA397A3E081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62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9BBEC3-6E03-426E-AAAF-4A3BB18A3CA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CEB509-483B-4729-ADF3-F1CCBC1BFC4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01947B-3B4A-4892-9D24-B00562846DA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2FC939-B60A-420D-A3C1-5AFA1AC027B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D1AEF7-F443-4E45-B1B4-9541C9F7790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59B73C-28FF-4FC3-B47B-FE6DE76DE63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4645CA-FA6F-4593-9AC2-DE318AE11C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8E2A41D-A6F3-4E90-9861-CEA0E83E40E5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Oval 2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" name="Group 3"/>
          <p:cNvGrpSpPr/>
          <p:nvPr/>
        </p:nvGrpSpPr>
        <p:grpSpPr>
          <a:xfrm>
            <a:off x="165240" y="1036800"/>
            <a:ext cx="1166760" cy="1166760"/>
            <a:chOff x="165240" y="1036800"/>
            <a:chExt cx="1166760" cy="1166760"/>
          </a:xfrm>
        </p:grpSpPr>
        <p:pic>
          <p:nvPicPr>
            <p:cNvPr id="44" name="Picture 4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6760" cy="11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5"/>
            <p:cNvSpPr/>
            <p:nvPr/>
          </p:nvSpPr>
          <p:spPr>
            <a:xfrm rot="2340000">
              <a:off x="350280" y="1213920"/>
              <a:ext cx="792360" cy="77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" name="Rectangle 6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914400" y="1407960"/>
            <a:ext cx="228600" cy="222480"/>
            <a:chOff x="914400" y="1407960"/>
            <a:chExt cx="228600" cy="222480"/>
          </a:xfrm>
        </p:grpSpPr>
        <p:pic>
          <p:nvPicPr>
            <p:cNvPr id="49" name="Picture 9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28600" cy="2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 Box 10"/>
            <p:cNvSpPr/>
            <p:nvPr/>
          </p:nvSpPr>
          <p:spPr>
            <a:xfrm>
              <a:off x="952200" y="1444320"/>
              <a:ext cx="146520" cy="14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Oval 11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w="12600">
            <a:solidFill>
              <a:srgbClr val="307f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4"/>
          <p:cNvSpPr/>
          <p:nvPr/>
        </p:nvSpPr>
        <p:spPr>
          <a:xfrm>
            <a:off x="3581280" y="6303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15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2"/>
          </p:nvPr>
        </p:nvSpPr>
        <p:spPr>
          <a:xfrm>
            <a:off x="8613360" y="6303960"/>
            <a:ext cx="45396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EC0CF7F-BD0A-43C3-99F8-A622A8947928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" name="Group 3"/>
          <p:cNvGrpSpPr/>
          <p:nvPr/>
        </p:nvGrpSpPr>
        <p:grpSpPr>
          <a:xfrm>
            <a:off x="2163600" y="2809800"/>
            <a:ext cx="228600" cy="222480"/>
            <a:chOff x="2163600" y="2809800"/>
            <a:chExt cx="228600" cy="222480"/>
          </a:xfrm>
        </p:grpSpPr>
        <p:pic>
          <p:nvPicPr>
            <p:cNvPr id="96" name="Picture 4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28600" cy="2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5"/>
            <p:cNvSpPr/>
            <p:nvPr/>
          </p:nvSpPr>
          <p:spPr>
            <a:xfrm>
              <a:off x="2203200" y="2844360"/>
              <a:ext cx="144360" cy="14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Oval 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w="12600">
            <a:solidFill>
              <a:srgbClr val="307f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3581280" y="6303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Num" idx="3"/>
          </p:nvPr>
        </p:nvSpPr>
        <p:spPr>
          <a:xfrm>
            <a:off x="8613360" y="6303960"/>
            <a:ext cx="45396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A19BBAA-32EC-471F-92BA-BDA56919A21B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3581280" y="6303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Num" idx="4"/>
          </p:nvPr>
        </p:nvSpPr>
        <p:spPr>
          <a:xfrm>
            <a:off x="8613360" y="6303960"/>
            <a:ext cx="45396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5541D12-9F91-44B1-B286-DCD201D198A8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3581280" y="6303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Num" idx="5"/>
          </p:nvPr>
        </p:nvSpPr>
        <p:spPr>
          <a:xfrm>
            <a:off x="8613360" y="6303960"/>
            <a:ext cx="45396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4E97992-A201-48FF-BADE-EFE1FADB0281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3581280" y="6303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sldNum" idx="6"/>
          </p:nvPr>
        </p:nvSpPr>
        <p:spPr>
          <a:xfrm>
            <a:off x="8613360" y="6303960"/>
            <a:ext cx="45396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4D50042-44F8-4833-B6AA-80338C0EAB44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Group 1"/>
          <p:cNvGrpSpPr/>
          <p:nvPr/>
        </p:nvGrpSpPr>
        <p:grpSpPr>
          <a:xfrm>
            <a:off x="646200" y="969840"/>
            <a:ext cx="4800600" cy="4799160"/>
            <a:chOff x="646200" y="969840"/>
            <a:chExt cx="4800600" cy="4799160"/>
          </a:xfrm>
        </p:grpSpPr>
        <p:pic>
          <p:nvPicPr>
            <p:cNvPr id="266" name="Picture 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0600" cy="479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Text Box 3"/>
            <p:cNvSpPr/>
            <p:nvPr/>
          </p:nvSpPr>
          <p:spPr>
            <a:xfrm>
              <a:off x="761760" y="1066320"/>
              <a:ext cx="4568760" cy="456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8" name="AutoShape 4"/>
          <p:cNvSpPr/>
          <p:nvPr/>
        </p:nvSpPr>
        <p:spPr>
          <a:xfrm rot="19440000">
            <a:off x="39672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AutoShape 5"/>
          <p:cNvSpPr/>
          <p:nvPr/>
        </p:nvSpPr>
        <p:spPr>
          <a:xfrm flipH="1" rot="2100000">
            <a:off x="5003640" y="939960"/>
            <a:ext cx="64944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3581280" y="6303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Num" idx="7"/>
          </p:nvPr>
        </p:nvSpPr>
        <p:spPr>
          <a:xfrm>
            <a:off x="8613360" y="6303960"/>
            <a:ext cx="45396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F5735D5-591A-46A9-8867-BDDF526460DE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AutoShape 1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Oval 2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3" name="Group 3"/>
          <p:cNvGrpSpPr/>
          <p:nvPr/>
        </p:nvGrpSpPr>
        <p:grpSpPr>
          <a:xfrm>
            <a:off x="165240" y="1036800"/>
            <a:ext cx="1166760" cy="1166760"/>
            <a:chOff x="165240" y="1036800"/>
            <a:chExt cx="1166760" cy="1166760"/>
          </a:xfrm>
        </p:grpSpPr>
        <p:pic>
          <p:nvPicPr>
            <p:cNvPr id="314" name="Picture 4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6760" cy="11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Text Box 5"/>
            <p:cNvSpPr/>
            <p:nvPr/>
          </p:nvSpPr>
          <p:spPr>
            <a:xfrm rot="2340000">
              <a:off x="350280" y="1213920"/>
              <a:ext cx="792360" cy="77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6" name="Rectangle 6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0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 Box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8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384CE30-1086-426D-8F5C-0AB947AC3BCE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1"/>
          <p:cNvSpPr/>
          <p:nvPr/>
        </p:nvSpPr>
        <p:spPr>
          <a:xfrm>
            <a:off x="914400" y="217188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000" spc="-1" strike="noStrike">
                <a:solidFill>
                  <a:srgbClr val="572314"/>
                </a:solidFill>
                <a:latin typeface="Gill Sans MT"/>
              </a:rPr>
              <a:t>FI1002 Sistemas Newtonianos</a:t>
            </a:r>
            <a:br>
              <a:rPr sz="4000"/>
            </a:br>
            <a:r>
              <a:rPr b="0" lang="es-ES_tradnl" sz="4000" spc="-1" strike="noStrike">
                <a:solidFill>
                  <a:srgbClr val="572314"/>
                </a:solidFill>
                <a:latin typeface="Gill Sans MT"/>
              </a:rPr>
              <a:t>Judit Lisoni</a:t>
            </a:r>
            <a:br>
              <a:rPr sz="4000"/>
            </a:br>
            <a:r>
              <a:rPr b="0" lang="es-ES_tradnl" sz="4000" spc="-1" strike="noStrike">
                <a:solidFill>
                  <a:srgbClr val="572314"/>
                </a:solidFill>
                <a:latin typeface="Gill Sans MT"/>
              </a:rPr>
              <a:t>Sección 6</a:t>
            </a:r>
            <a:br>
              <a:rPr sz="4000"/>
            </a:br>
            <a:br>
              <a:rPr sz="4000"/>
            </a:br>
            <a:r>
              <a:rPr b="0" lang="es-ES_tradnl" sz="2800" spc="-1" strike="noStrike" u="sng">
                <a:solidFill>
                  <a:srgbClr val="572314"/>
                </a:solidFill>
                <a:uFillTx/>
                <a:latin typeface="Gill Sans MT"/>
              </a:rPr>
              <a:t>Unidad 4D </a:t>
            </a:r>
            <a:r>
              <a:rPr b="0" lang="es-ES_tradnl" sz="2800" spc="-1" strike="noStrike">
                <a:solidFill>
                  <a:srgbClr val="572314"/>
                </a:solidFill>
                <a:latin typeface="Gill Sans MT"/>
              </a:rPr>
              <a:t>Sólidos rígidos: Rodadura o rodar sin resba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572314"/>
                </a:solidFill>
                <a:latin typeface="Gill Sans MT"/>
              </a:rPr>
              <a:t>Preparación para laboratorio 4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356840" y="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Arial"/>
              </a:rPr>
              <a:t>¿Qué debemos saber?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9" name="Object 2"/>
              <p:cNvSpPr txBox="1"/>
              <p:nvPr/>
            </p:nvSpPr>
            <p:spPr>
              <a:xfrm>
                <a:off x="1285920" y="1192320"/>
                <a:ext cx="3214800" cy="458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otaciona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raslació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/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/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M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00" name="3 CuadroTexto"/>
          <p:cNvSpPr/>
          <p:nvPr/>
        </p:nvSpPr>
        <p:spPr>
          <a:xfrm>
            <a:off x="4657320" y="4714920"/>
            <a:ext cx="237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onde K p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anillo=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ilindro=0.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fera=0.4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4 Cerrar llave"/>
          <p:cNvSpPr/>
          <p:nvPr/>
        </p:nvSpPr>
        <p:spPr>
          <a:xfrm>
            <a:off x="4643280" y="1214280"/>
            <a:ext cx="714600" cy="2000520"/>
          </a:xfrm>
          <a:custGeom>
            <a:avLst/>
            <a:gdLst>
              <a:gd name="textAreaLeft" fmla="*/ 0 w 714600"/>
              <a:gd name="textAreaRight" fmla="*/ 258120 w 714600"/>
              <a:gd name="textAreaTop" fmla="*/ 18360 h 2000520"/>
              <a:gd name="textAreaBottom" fmla="*/ 1982160 h 200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22"/>
                  <a:pt x="10800" y="643"/>
                </a:cubicBezTo>
                <a:lnTo>
                  <a:pt x="10800" y="10157"/>
                </a:lnTo>
                <a:cubicBezTo>
                  <a:pt x="10800" y="10479"/>
                  <a:pt x="16200" y="10800"/>
                  <a:pt x="21600" y="10800"/>
                </a:cubicBezTo>
                <a:cubicBezTo>
                  <a:pt x="16200" y="10800"/>
                  <a:pt x="10800" y="11122"/>
                  <a:pt x="10800" y="11443"/>
                </a:cubicBezTo>
                <a:lnTo>
                  <a:pt x="10800" y="20957"/>
                </a:lnTo>
                <a:cubicBezTo>
                  <a:pt x="10800" y="21279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5 CuadroTexto"/>
          <p:cNvSpPr/>
          <p:nvPr/>
        </p:nvSpPr>
        <p:spPr>
          <a:xfrm>
            <a:off x="5286240" y="1530360"/>
            <a:ext cx="3857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suma de ambos términos equivale al 10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6 Cerrar llave"/>
          <p:cNvSpPr/>
          <p:nvPr/>
        </p:nvSpPr>
        <p:spPr>
          <a:xfrm rot="10800000">
            <a:off x="3929040" y="4714560"/>
            <a:ext cx="714240" cy="1785960"/>
          </a:xfrm>
          <a:custGeom>
            <a:avLst/>
            <a:gdLst>
              <a:gd name="textAreaLeft" fmla="*/ 0 w 714240"/>
              <a:gd name="textAreaRight" fmla="*/ 257760 w 714240"/>
              <a:gd name="textAreaTop" fmla="*/ 18360 h 1785960"/>
              <a:gd name="textAreaBottom" fmla="*/ 1767600 h 178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60"/>
                  <a:pt x="10800" y="720"/>
                </a:cubicBezTo>
                <a:lnTo>
                  <a:pt x="10800" y="10080"/>
                </a:lnTo>
                <a:cubicBezTo>
                  <a:pt x="10800" y="10440"/>
                  <a:pt x="16200" y="10800"/>
                  <a:pt x="21600" y="10800"/>
                </a:cubicBezTo>
                <a:cubicBezTo>
                  <a:pt x="16200" y="10800"/>
                  <a:pt x="10800" y="11160"/>
                  <a:pt x="10800" y="11520"/>
                </a:cubicBezTo>
                <a:lnTo>
                  <a:pt x="10800" y="20880"/>
                </a:lnTo>
                <a:cubicBezTo>
                  <a:pt x="10800" y="2124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4" name=""/>
          <p:cNvGraphicFramePr/>
          <p:nvPr/>
        </p:nvGraphicFramePr>
        <p:xfrm>
          <a:off x="1285920" y="3286080"/>
          <a:ext cx="7191360" cy="3106800"/>
        </p:xfrm>
        <a:graphic>
          <a:graphicData uri="http://schemas.openxmlformats.org/drawingml/2006/table">
            <a:tbl>
              <a:tblPr/>
              <a:tblGrid>
                <a:gridCol w="1438200"/>
                <a:gridCol w="1438200"/>
                <a:gridCol w="1438560"/>
                <a:gridCol w="1438200"/>
                <a:gridCol w="1438200"/>
              </a:tblGrid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acción de energí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erp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mento de Inerc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tacio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sl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9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ill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</a:t>
                      </a:r>
                      <a:r>
                        <a:rPr b="0" lang="es-E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lind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</a:t>
                      </a:r>
                      <a:r>
                        <a:rPr b="0" lang="es-E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9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fer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MR</a:t>
                      </a:r>
                      <a:r>
                        <a:rPr b="0" lang="es-E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(1+K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505" name="Object 2"/>
              <p:cNvSpPr txBox="1"/>
              <p:nvPr/>
            </p:nvSpPr>
            <p:spPr>
              <a:xfrm>
                <a:off x="915840" y="0"/>
                <a:ext cx="7489800" cy="33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racción</m:t>
                        </m:r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considerando   </m:t>
                        </m:r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y   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M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6" name=""/>
          <p:cNvGraphicFramePr/>
          <p:nvPr/>
        </p:nvGraphicFramePr>
        <p:xfrm>
          <a:off x="1214280" y="357120"/>
          <a:ext cx="7191360" cy="3106800"/>
        </p:xfrm>
        <a:graphic>
          <a:graphicData uri="http://schemas.openxmlformats.org/drawingml/2006/table">
            <a:tbl>
              <a:tblPr/>
              <a:tblGrid>
                <a:gridCol w="1438560"/>
                <a:gridCol w="1438200"/>
                <a:gridCol w="1438200"/>
                <a:gridCol w="1438200"/>
                <a:gridCol w="1438200"/>
              </a:tblGrid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acción de energí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erp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mento de Inerc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tacio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sl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9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ill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</a:t>
                      </a:r>
                      <a:r>
                        <a:rPr b="0" lang="es-E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lind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</a:t>
                      </a:r>
                      <a:r>
                        <a:rPr b="0" lang="es-E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9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fer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MR</a:t>
                      </a:r>
                      <a:r>
                        <a:rPr b="0" lang="es-E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(1+K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sp>
        <p:nvSpPr>
          <p:cNvPr id="507" name="3 CuadroTexto"/>
          <p:cNvSpPr/>
          <p:nvPr/>
        </p:nvSpPr>
        <p:spPr>
          <a:xfrm>
            <a:off x="1143000" y="3786120"/>
            <a:ext cx="7286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sí, el cuerpo que tiene su masa más distribuida hacia el eje de rotación (esfera) rota mucho menos que lo que se traslada y viceversa (anill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omento de inercia </a:t>
            </a:r>
            <a:r>
              <a:rPr b="0" lang="es-E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oposición al rota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4 Flecha abajo"/>
          <p:cNvSpPr/>
          <p:nvPr/>
        </p:nvSpPr>
        <p:spPr>
          <a:xfrm>
            <a:off x="4429080" y="5572080"/>
            <a:ext cx="5716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Arial"/>
              </a:rPr>
              <a:t>Ejercicio de cálculo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510" name="1 Triángulo rectángulo"/>
          <p:cNvSpPr/>
          <p:nvPr/>
        </p:nvSpPr>
        <p:spPr>
          <a:xfrm>
            <a:off x="0" y="2714760"/>
            <a:ext cx="4214880" cy="1643040"/>
          </a:xfrm>
          <a:prstGeom prst="rtTriangl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3 Elipse"/>
          <p:cNvSpPr/>
          <p:nvPr/>
        </p:nvSpPr>
        <p:spPr>
          <a:xfrm rot="1503000">
            <a:off x="213840" y="1785960"/>
            <a:ext cx="1143000" cy="1214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2" name="4 Elipse" descr=""/>
          <p:cNvPicPr/>
          <p:nvPr/>
        </p:nvPicPr>
        <p:blipFill>
          <a:blip r:embed="rId1"/>
          <a:stretch/>
        </p:blipFill>
        <p:spPr>
          <a:xfrm>
            <a:off x="1523880" y="1974960"/>
            <a:ext cx="1200240" cy="1695240"/>
          </a:xfrm>
          <a:prstGeom prst="rect">
            <a:avLst/>
          </a:prstGeom>
          <a:ln w="0">
            <a:noFill/>
          </a:ln>
        </p:spPr>
      </p:pic>
      <p:pic>
        <p:nvPicPr>
          <p:cNvPr id="513" name="6 Elipse" descr=""/>
          <p:cNvPicPr/>
          <p:nvPr/>
        </p:nvPicPr>
        <p:blipFill>
          <a:blip r:embed="rId2"/>
          <a:stretch/>
        </p:blipFill>
        <p:spPr>
          <a:xfrm>
            <a:off x="2865600" y="2730600"/>
            <a:ext cx="2011320" cy="1573200"/>
          </a:xfrm>
          <a:prstGeom prst="rect">
            <a:avLst/>
          </a:prstGeom>
          <a:ln w="0">
            <a:noFill/>
          </a:ln>
        </p:spPr>
      </p:pic>
      <p:sp>
        <p:nvSpPr>
          <p:cNvPr id="514" name="7 CuadroTexto"/>
          <p:cNvSpPr/>
          <p:nvPr/>
        </p:nvSpPr>
        <p:spPr>
          <a:xfrm>
            <a:off x="4572000" y="1225440"/>
            <a:ext cx="457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una rampa caen tres cuerpos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TOD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masa M y radio 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 anil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 dis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a esfe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Y si ahora se sueltan los tres cuerpos desde el reposo y a la misma altura h y se dejan rodar sobre una pendiente, ¿cuál de los tres cuerpos llegará primero al final de la pendiente? Los cuerpos ruedan sin resba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19 Conector recto"/>
          <p:cNvSpPr/>
          <p:nvPr/>
        </p:nvSpPr>
        <p:spPr>
          <a:xfrm flipH="1">
            <a:off x="642960" y="3000240"/>
            <a:ext cx="1440" cy="1430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9 CuadroTexto"/>
          <p:cNvSpPr/>
          <p:nvPr/>
        </p:nvSpPr>
        <p:spPr>
          <a:xfrm>
            <a:off x="216360" y="35002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14 Conector recto"/>
          <p:cNvSpPr/>
          <p:nvPr/>
        </p:nvSpPr>
        <p:spPr>
          <a:xfrm>
            <a:off x="785880" y="1428840"/>
            <a:ext cx="3786120" cy="1643040"/>
          </a:xfrm>
          <a:prstGeom prst="line">
            <a:avLst/>
          </a:prstGeom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12 CuadroTexto"/>
          <p:cNvSpPr/>
          <p:nvPr/>
        </p:nvSpPr>
        <p:spPr>
          <a:xfrm>
            <a:off x="2075040" y="15717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17 CuadroTexto"/>
          <p:cNvSpPr/>
          <p:nvPr/>
        </p:nvSpPr>
        <p:spPr>
          <a:xfrm>
            <a:off x="2503440" y="3786120"/>
            <a:ext cx="44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356840" y="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Arial"/>
              </a:rPr>
              <a:t>¿Qué debemos saber?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Object 2"/>
              <p:cNvSpPr txBox="1"/>
              <p:nvPr/>
            </p:nvSpPr>
            <p:spPr>
              <a:xfrm>
                <a:off x="1285920" y="1285920"/>
                <a:ext cx="622440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ecánica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nética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rotación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nética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traslación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tencial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gravedad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522" name="7 CuadroTexto"/>
          <p:cNvSpPr/>
          <p:nvPr/>
        </p:nvSpPr>
        <p:spPr>
          <a:xfrm>
            <a:off x="1143000" y="4357800"/>
            <a:ext cx="757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icialmente los tres objetos sólo tienen energía potencial: M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tilizando lo que aprendimos del ejercicio anterior, evidentemente la esfera llegará prime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3" name="Object 3"/>
              <p:cNvSpPr txBox="1"/>
              <p:nvPr/>
            </p:nvSpPr>
            <p:spPr>
              <a:xfrm>
                <a:off x="1785960" y="2928960"/>
                <a:ext cx="4667400" cy="13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xsen</m:t>
                            </m:r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sub>
                            </m:s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xsen</m:t>
                            </m:r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24" name="9 CuadroTexto"/>
          <p:cNvSpPr/>
          <p:nvPr/>
        </p:nvSpPr>
        <p:spPr>
          <a:xfrm>
            <a:off x="1143000" y="2143080"/>
            <a:ext cx="757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mecánic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l sistema se conser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Arial"/>
              </a:rPr>
              <a:t>Experiencia 4D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526" name="2 CuadroTexto"/>
          <p:cNvSpPr/>
          <p:nvPr/>
        </p:nvSpPr>
        <p:spPr>
          <a:xfrm>
            <a:off x="0" y="13572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Páginas 217-220 del apu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erpos sólidos rotando y trasladánd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7 CuadroTexto"/>
          <p:cNvSpPr/>
          <p:nvPr/>
        </p:nvSpPr>
        <p:spPr>
          <a:xfrm>
            <a:off x="5857920" y="2714760"/>
            <a:ext cx="3286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ilindros iguales y plasticina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ambiar el momento de iner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prender el efecto de la distribución de masa en el momento de inercia de un siste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¿Quién ganará la carrer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mparar con lo predicción teór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Picture 6" descr=""/>
          <p:cNvPicPr/>
          <p:nvPr/>
        </p:nvPicPr>
        <p:blipFill>
          <a:blip r:embed="rId1"/>
          <a:stretch/>
        </p:blipFill>
        <p:spPr>
          <a:xfrm>
            <a:off x="0" y="3286080"/>
            <a:ext cx="2257560" cy="215280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8" descr=""/>
          <p:cNvPicPr/>
          <p:nvPr/>
        </p:nvPicPr>
        <p:blipFill>
          <a:blip r:embed="rId2"/>
          <a:stretch/>
        </p:blipFill>
        <p:spPr>
          <a:xfrm>
            <a:off x="2643120" y="3500280"/>
            <a:ext cx="2514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Arial"/>
              </a:rPr>
              <a:t>Movimiento de rodamiento</a:t>
            </a:r>
            <a:br>
              <a:rPr sz="4300"/>
            </a:br>
            <a:r>
              <a:rPr b="0" lang="es-ES" sz="4300" spc="-1" strike="noStrike">
                <a:solidFill>
                  <a:srgbClr val="572314"/>
                </a:solidFill>
                <a:latin typeface="Arial"/>
              </a:rPr>
              <a:t>Cuerpo rígido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70" name="2 Elipse"/>
          <p:cNvSpPr/>
          <p:nvPr/>
        </p:nvSpPr>
        <p:spPr>
          <a:xfrm>
            <a:off x="1857240" y="2214720"/>
            <a:ext cx="3286440" cy="3357360"/>
          </a:xfrm>
          <a:prstGeom prst="ellipse">
            <a:avLst/>
          </a:prstGeom>
          <a:solidFill>
            <a:srgbClr val="00b8ff">
              <a:alpha val="1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4 Conector recto"/>
          <p:cNvSpPr/>
          <p:nvPr/>
        </p:nvSpPr>
        <p:spPr>
          <a:xfrm>
            <a:off x="1143000" y="5572080"/>
            <a:ext cx="450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5 Y"/>
          <p:cNvSpPr/>
          <p:nvPr/>
        </p:nvSpPr>
        <p:spPr>
          <a:xfrm>
            <a:off x="3357720" y="3714840"/>
            <a:ext cx="214200" cy="214200"/>
          </a:xfrm>
          <a:prstGeom prst="flowChartSummingJunct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73" name="9 Conector recto de flecha"/>
          <p:cNvCxnSpPr/>
          <p:nvPr/>
        </p:nvCxnSpPr>
        <p:spPr>
          <a:xfrm>
            <a:off x="3456000" y="3830760"/>
            <a:ext cx="1286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74" name="10 CuadroTexto"/>
          <p:cNvSpPr/>
          <p:nvPr/>
        </p:nvSpPr>
        <p:spPr>
          <a:xfrm>
            <a:off x="3948480" y="3429000"/>
            <a:ext cx="538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C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11 Conector"/>
          <p:cNvSpPr/>
          <p:nvPr/>
        </p:nvSpPr>
        <p:spPr>
          <a:xfrm>
            <a:off x="3429000" y="5500800"/>
            <a:ext cx="142920" cy="142920"/>
          </a:xfrm>
          <a:prstGeom prst="flowChartConnector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12 CuadroTexto"/>
          <p:cNvSpPr/>
          <p:nvPr/>
        </p:nvSpPr>
        <p:spPr>
          <a:xfrm>
            <a:off x="3574440" y="5572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13 Conector"/>
          <p:cNvSpPr/>
          <p:nvPr/>
        </p:nvSpPr>
        <p:spPr>
          <a:xfrm>
            <a:off x="3429000" y="2143080"/>
            <a:ext cx="142920" cy="142920"/>
          </a:xfrm>
          <a:prstGeom prst="flowChartConnector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14 CuadroTexto"/>
          <p:cNvSpPr/>
          <p:nvPr/>
        </p:nvSpPr>
        <p:spPr>
          <a:xfrm>
            <a:off x="3574800" y="221472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15 Conector"/>
          <p:cNvSpPr/>
          <p:nvPr/>
        </p:nvSpPr>
        <p:spPr>
          <a:xfrm>
            <a:off x="2143080" y="3286080"/>
            <a:ext cx="142920" cy="142920"/>
          </a:xfrm>
          <a:prstGeom prst="flowChartConnector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16 CuadroTexto"/>
          <p:cNvSpPr/>
          <p:nvPr/>
        </p:nvSpPr>
        <p:spPr>
          <a:xfrm>
            <a:off x="2288160" y="33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81" name="17 Conector recto de flecha"/>
          <p:cNvCxnSpPr/>
          <p:nvPr/>
        </p:nvCxnSpPr>
        <p:spPr>
          <a:xfrm>
            <a:off x="3643200" y="2214720"/>
            <a:ext cx="1286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2" name="19 Conector recto de flecha"/>
          <p:cNvCxnSpPr>
            <a:stCxn id="379" idx="0"/>
          </p:cNvCxnSpPr>
          <p:nvPr/>
        </p:nvCxnSpPr>
        <p:spPr>
          <a:xfrm flipV="1">
            <a:off x="2214720" y="2714040"/>
            <a:ext cx="42912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83" name="16 CuadroTexto"/>
          <p:cNvSpPr/>
          <p:nvPr/>
        </p:nvSpPr>
        <p:spPr>
          <a:xfrm>
            <a:off x="5429160" y="3000240"/>
            <a:ext cx="3214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Qué movimiento sigue el C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cómo se mueve P`? Lo único que necesitamos es C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Arial"/>
              </a:rPr>
              <a:t>Condiciones para </a:t>
            </a:r>
            <a:r>
              <a:rPr b="0" lang="es-ES" sz="4300" spc="-1" strike="noStrike">
                <a:solidFill>
                  <a:srgbClr val="ff0000"/>
                </a:solidFill>
                <a:latin typeface="Arial"/>
              </a:rPr>
              <a:t>rodadura</a:t>
            </a:r>
            <a:br>
              <a:rPr sz="4300"/>
            </a:br>
            <a:r>
              <a:rPr b="0" lang="es-ES" sz="4300" spc="-1" strike="noStrike">
                <a:solidFill>
                  <a:srgbClr val="ff0000"/>
                </a:solidFill>
                <a:latin typeface="Arial"/>
              </a:rPr>
              <a:t>Se rueda sin deslizar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85" name="2 Elipse"/>
          <p:cNvSpPr/>
          <p:nvPr/>
        </p:nvSpPr>
        <p:spPr>
          <a:xfrm>
            <a:off x="1071720" y="2214720"/>
            <a:ext cx="3286080" cy="3357360"/>
          </a:xfrm>
          <a:prstGeom prst="ellipse">
            <a:avLst/>
          </a:prstGeom>
          <a:solidFill>
            <a:srgbClr val="00b8ff">
              <a:alpha val="1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4 Conector recto"/>
          <p:cNvSpPr/>
          <p:nvPr/>
        </p:nvSpPr>
        <p:spPr>
          <a:xfrm>
            <a:off x="357120" y="5572080"/>
            <a:ext cx="878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5 Y"/>
          <p:cNvSpPr/>
          <p:nvPr/>
        </p:nvSpPr>
        <p:spPr>
          <a:xfrm>
            <a:off x="2571840" y="3714840"/>
            <a:ext cx="214200" cy="214200"/>
          </a:xfrm>
          <a:prstGeom prst="flowChartSummingJunct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88" name="9 Conector recto de flecha"/>
          <p:cNvCxnSpPr/>
          <p:nvPr/>
        </p:nvCxnSpPr>
        <p:spPr>
          <a:xfrm>
            <a:off x="2670120" y="3830760"/>
            <a:ext cx="1286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89" name="10 CuadroTexto"/>
          <p:cNvSpPr/>
          <p:nvPr/>
        </p:nvSpPr>
        <p:spPr>
          <a:xfrm>
            <a:off x="3162600" y="3429000"/>
            <a:ext cx="538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C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11 Conector"/>
          <p:cNvSpPr/>
          <p:nvPr/>
        </p:nvSpPr>
        <p:spPr>
          <a:xfrm>
            <a:off x="2643120" y="5500800"/>
            <a:ext cx="142920" cy="142920"/>
          </a:xfrm>
          <a:prstGeom prst="flowChartConnector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12 CuadroTexto"/>
          <p:cNvSpPr/>
          <p:nvPr/>
        </p:nvSpPr>
        <p:spPr>
          <a:xfrm>
            <a:off x="2788560" y="5572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13 Conector"/>
          <p:cNvSpPr/>
          <p:nvPr/>
        </p:nvSpPr>
        <p:spPr>
          <a:xfrm>
            <a:off x="7500960" y="2571840"/>
            <a:ext cx="142920" cy="142920"/>
          </a:xfrm>
          <a:prstGeom prst="flowChartConnector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14 CuadroTexto"/>
          <p:cNvSpPr/>
          <p:nvPr/>
        </p:nvSpPr>
        <p:spPr>
          <a:xfrm>
            <a:off x="7646760" y="264312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2 Elipse"/>
          <p:cNvSpPr/>
          <p:nvPr/>
        </p:nvSpPr>
        <p:spPr>
          <a:xfrm>
            <a:off x="4857840" y="2214720"/>
            <a:ext cx="3286080" cy="3357360"/>
          </a:xfrm>
          <a:prstGeom prst="ellipse">
            <a:avLst/>
          </a:prstGeom>
          <a:solidFill>
            <a:srgbClr val="00b8ff">
              <a:alpha val="1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5 Y"/>
          <p:cNvSpPr/>
          <p:nvPr/>
        </p:nvSpPr>
        <p:spPr>
          <a:xfrm>
            <a:off x="6357960" y="3714840"/>
            <a:ext cx="214200" cy="214200"/>
          </a:xfrm>
          <a:prstGeom prst="flowChartSummingJunct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11 Conector"/>
          <p:cNvSpPr/>
          <p:nvPr/>
        </p:nvSpPr>
        <p:spPr>
          <a:xfrm>
            <a:off x="5214960" y="4929120"/>
            <a:ext cx="142920" cy="142920"/>
          </a:xfrm>
          <a:prstGeom prst="flowChartConnector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12 CuadroTexto"/>
          <p:cNvSpPr/>
          <p:nvPr/>
        </p:nvSpPr>
        <p:spPr>
          <a:xfrm>
            <a:off x="4931640" y="48578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33 Conector recto"/>
          <p:cNvSpPr/>
          <p:nvPr/>
        </p:nvSpPr>
        <p:spPr>
          <a:xfrm flipH="1">
            <a:off x="6474960" y="3840120"/>
            <a:ext cx="1800" cy="180036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35 Conector recto"/>
          <p:cNvSpPr/>
          <p:nvPr/>
        </p:nvSpPr>
        <p:spPr>
          <a:xfrm flipH="1">
            <a:off x="5336640" y="3830760"/>
            <a:ext cx="1135080" cy="122076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37 Flecha derecha"/>
          <p:cNvSpPr/>
          <p:nvPr/>
        </p:nvSpPr>
        <p:spPr>
          <a:xfrm>
            <a:off x="3857760" y="5929200"/>
            <a:ext cx="1643040" cy="57168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iemp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38 CuadroTexto"/>
          <p:cNvSpPr/>
          <p:nvPr/>
        </p:nvSpPr>
        <p:spPr>
          <a:xfrm>
            <a:off x="6150240" y="405936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39 Arco"/>
          <p:cNvSpPr/>
          <p:nvPr/>
        </p:nvSpPr>
        <p:spPr>
          <a:xfrm rot="17336400">
            <a:off x="5459040" y="1969560"/>
            <a:ext cx="1357560" cy="13572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12 CuadroTexto"/>
          <p:cNvSpPr/>
          <p:nvPr/>
        </p:nvSpPr>
        <p:spPr>
          <a:xfrm>
            <a:off x="6290280" y="1643040"/>
            <a:ext cx="4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04" name="42 Conector recto de flecha"/>
          <p:cNvCxnSpPr/>
          <p:nvPr/>
        </p:nvCxnSpPr>
        <p:spPr>
          <a:xfrm flipH="1" flipV="1">
            <a:off x="5785560" y="5785560"/>
            <a:ext cx="10724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05" name="12 CuadroTexto"/>
          <p:cNvSpPr/>
          <p:nvPr/>
        </p:nvSpPr>
        <p:spPr>
          <a:xfrm>
            <a:off x="6724800" y="557208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uerza de ro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12 CuadroTexto"/>
          <p:cNvSpPr/>
          <p:nvPr/>
        </p:nvSpPr>
        <p:spPr>
          <a:xfrm>
            <a:off x="5652000" y="278604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Arco S=R</a:t>
            </a:r>
            <a:r>
              <a:rPr b="1" lang="es-ES" sz="1800" spc="-1" strike="noStrike">
                <a:solidFill>
                  <a:srgbClr val="ff0000"/>
                </a:solidFill>
                <a:latin typeface="Symbol"/>
                <a:ea typeface="Symbol"/>
              </a:rPr>
              <a:t>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12 CuadroTexto"/>
          <p:cNvSpPr/>
          <p:nvPr/>
        </p:nvSpPr>
        <p:spPr>
          <a:xfrm>
            <a:off x="5574960" y="42148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47 Forma libre"/>
          <p:cNvSpPr/>
          <p:nvPr/>
        </p:nvSpPr>
        <p:spPr>
          <a:xfrm>
            <a:off x="5335560" y="5062680"/>
            <a:ext cx="1179720" cy="519120"/>
          </a:xfrm>
          <a:prstGeom prst="pie">
            <a:avLst/>
          </a:prstGeom>
          <a:noFill/>
          <a:ln w="38160">
            <a:solidFill>
              <a:srgbClr val="ff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Arial"/>
              </a:rPr>
              <a:t>Condiciones para caso de rodadura pura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410" name="13 Conector"/>
          <p:cNvSpPr/>
          <p:nvPr/>
        </p:nvSpPr>
        <p:spPr>
          <a:xfrm>
            <a:off x="3071880" y="2143080"/>
            <a:ext cx="142920" cy="142920"/>
          </a:xfrm>
          <a:prstGeom prst="flowChartConnector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14 CuadroTexto"/>
          <p:cNvSpPr/>
          <p:nvPr/>
        </p:nvSpPr>
        <p:spPr>
          <a:xfrm>
            <a:off x="3217680" y="221472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2 Elipse"/>
          <p:cNvSpPr/>
          <p:nvPr/>
        </p:nvSpPr>
        <p:spPr>
          <a:xfrm>
            <a:off x="428760" y="1785960"/>
            <a:ext cx="3286080" cy="3357720"/>
          </a:xfrm>
          <a:prstGeom prst="ellipse">
            <a:avLst/>
          </a:prstGeom>
          <a:solidFill>
            <a:srgbClr val="00b8ff">
              <a:alpha val="1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5 Y"/>
          <p:cNvSpPr/>
          <p:nvPr/>
        </p:nvSpPr>
        <p:spPr>
          <a:xfrm>
            <a:off x="1928880" y="3286080"/>
            <a:ext cx="214200" cy="214200"/>
          </a:xfrm>
          <a:prstGeom prst="flowChartSummingJunct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11 Conector"/>
          <p:cNvSpPr/>
          <p:nvPr/>
        </p:nvSpPr>
        <p:spPr>
          <a:xfrm>
            <a:off x="785880" y="4500720"/>
            <a:ext cx="142920" cy="142560"/>
          </a:xfrm>
          <a:prstGeom prst="flowChartConnector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12 CuadroTexto"/>
          <p:cNvSpPr/>
          <p:nvPr/>
        </p:nvSpPr>
        <p:spPr>
          <a:xfrm>
            <a:off x="502560" y="4429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8 Conector recto"/>
          <p:cNvSpPr/>
          <p:nvPr/>
        </p:nvSpPr>
        <p:spPr>
          <a:xfrm flipH="1">
            <a:off x="2045880" y="3411360"/>
            <a:ext cx="1800" cy="180036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9 Conector recto"/>
          <p:cNvSpPr/>
          <p:nvPr/>
        </p:nvSpPr>
        <p:spPr>
          <a:xfrm flipH="1">
            <a:off x="907560" y="3402000"/>
            <a:ext cx="1135080" cy="122076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10 CuadroTexto"/>
          <p:cNvSpPr/>
          <p:nvPr/>
        </p:nvSpPr>
        <p:spPr>
          <a:xfrm>
            <a:off x="1721160" y="363060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11 Arco"/>
          <p:cNvSpPr/>
          <p:nvPr/>
        </p:nvSpPr>
        <p:spPr>
          <a:xfrm rot="17336400">
            <a:off x="1029960" y="1541160"/>
            <a:ext cx="1357200" cy="13572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12 CuadroTexto"/>
          <p:cNvSpPr/>
          <p:nvPr/>
        </p:nvSpPr>
        <p:spPr>
          <a:xfrm>
            <a:off x="1860840" y="1214280"/>
            <a:ext cx="4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21" name="13 Conector recto de flecha"/>
          <p:cNvCxnSpPr/>
          <p:nvPr/>
        </p:nvCxnSpPr>
        <p:spPr>
          <a:xfrm flipH="1" flipV="1">
            <a:off x="1356480" y="5357520"/>
            <a:ext cx="10724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22" name="12 CuadroTexto"/>
          <p:cNvSpPr/>
          <p:nvPr/>
        </p:nvSpPr>
        <p:spPr>
          <a:xfrm>
            <a:off x="2295720" y="514368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uerza de ro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12 CuadroTexto"/>
          <p:cNvSpPr/>
          <p:nvPr/>
        </p:nvSpPr>
        <p:spPr>
          <a:xfrm>
            <a:off x="1222920" y="235728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Arco S=R</a:t>
            </a:r>
            <a:r>
              <a:rPr b="1" lang="es-ES" sz="1800" spc="-1" strike="noStrike">
                <a:solidFill>
                  <a:srgbClr val="ff0000"/>
                </a:solidFill>
                <a:latin typeface="Symbol"/>
                <a:ea typeface="Symbol"/>
              </a:rPr>
              <a:t>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12 CuadroTexto"/>
          <p:cNvSpPr/>
          <p:nvPr/>
        </p:nvSpPr>
        <p:spPr>
          <a:xfrm>
            <a:off x="1145880" y="3786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17 Forma libre"/>
          <p:cNvSpPr/>
          <p:nvPr/>
        </p:nvSpPr>
        <p:spPr>
          <a:xfrm>
            <a:off x="906480" y="4633920"/>
            <a:ext cx="1179360" cy="519120"/>
          </a:xfrm>
          <a:prstGeom prst="pie">
            <a:avLst/>
          </a:prstGeom>
          <a:noFill/>
          <a:ln w="38160">
            <a:solidFill>
              <a:srgbClr val="ff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4 Conector recto"/>
          <p:cNvSpPr/>
          <p:nvPr/>
        </p:nvSpPr>
        <p:spPr>
          <a:xfrm>
            <a:off x="357120" y="5143680"/>
            <a:ext cx="3643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7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Object 3"/>
              <p:cNvSpPr txBox="1"/>
              <p:nvPr/>
            </p:nvSpPr>
            <p:spPr>
              <a:xfrm>
                <a:off x="4643280" y="2643120"/>
                <a:ext cx="3938760" cy="20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R</m:t>
                        </m:r>
                        <m:f>
                          <m:num>
                            <m:r>
                              <m:t xml:space="preserve">dθ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ωR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R</m:t>
                        </m:r>
                        <m:f>
                          <m:num>
                            <m:r>
                              <m:t xml:space="preserve">d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α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Arial"/>
              </a:rPr>
              <a:t>Condiciones para caso de rodadura pura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430" name="13 Conector"/>
          <p:cNvSpPr/>
          <p:nvPr/>
        </p:nvSpPr>
        <p:spPr>
          <a:xfrm>
            <a:off x="3071880" y="2143080"/>
            <a:ext cx="142920" cy="142920"/>
          </a:xfrm>
          <a:prstGeom prst="flowChartConnector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14 CuadroTexto"/>
          <p:cNvSpPr/>
          <p:nvPr/>
        </p:nvSpPr>
        <p:spPr>
          <a:xfrm>
            <a:off x="3217680" y="221472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2 Elipse"/>
          <p:cNvSpPr/>
          <p:nvPr/>
        </p:nvSpPr>
        <p:spPr>
          <a:xfrm>
            <a:off x="428760" y="1785960"/>
            <a:ext cx="3286080" cy="3357720"/>
          </a:xfrm>
          <a:prstGeom prst="ellipse">
            <a:avLst/>
          </a:prstGeom>
          <a:solidFill>
            <a:srgbClr val="00b8ff">
              <a:alpha val="1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5 Y"/>
          <p:cNvSpPr/>
          <p:nvPr/>
        </p:nvSpPr>
        <p:spPr>
          <a:xfrm>
            <a:off x="1928880" y="3286080"/>
            <a:ext cx="214200" cy="214200"/>
          </a:xfrm>
          <a:prstGeom prst="flowChartSummingJunct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11 Conector"/>
          <p:cNvSpPr/>
          <p:nvPr/>
        </p:nvSpPr>
        <p:spPr>
          <a:xfrm>
            <a:off x="785880" y="4500720"/>
            <a:ext cx="142920" cy="142560"/>
          </a:xfrm>
          <a:prstGeom prst="flowChartConnector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12 CuadroTexto"/>
          <p:cNvSpPr/>
          <p:nvPr/>
        </p:nvSpPr>
        <p:spPr>
          <a:xfrm>
            <a:off x="502560" y="4429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8 Conector recto"/>
          <p:cNvSpPr/>
          <p:nvPr/>
        </p:nvSpPr>
        <p:spPr>
          <a:xfrm flipH="1">
            <a:off x="2045880" y="3411360"/>
            <a:ext cx="1800" cy="180036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9 Conector recto"/>
          <p:cNvSpPr/>
          <p:nvPr/>
        </p:nvSpPr>
        <p:spPr>
          <a:xfrm flipH="1">
            <a:off x="907560" y="3402000"/>
            <a:ext cx="1135080" cy="122076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10 CuadroTexto"/>
          <p:cNvSpPr/>
          <p:nvPr/>
        </p:nvSpPr>
        <p:spPr>
          <a:xfrm>
            <a:off x="1721160" y="363060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11 Arco"/>
          <p:cNvSpPr/>
          <p:nvPr/>
        </p:nvSpPr>
        <p:spPr>
          <a:xfrm rot="17336400">
            <a:off x="1029960" y="1541160"/>
            <a:ext cx="1357200" cy="13572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12 CuadroTexto"/>
          <p:cNvSpPr/>
          <p:nvPr/>
        </p:nvSpPr>
        <p:spPr>
          <a:xfrm>
            <a:off x="1860840" y="1214280"/>
            <a:ext cx="4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41" name="13 Conector recto de flecha"/>
          <p:cNvCxnSpPr/>
          <p:nvPr/>
        </p:nvCxnSpPr>
        <p:spPr>
          <a:xfrm flipH="1" flipV="1">
            <a:off x="1356480" y="5357520"/>
            <a:ext cx="10724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42" name="12 CuadroTexto"/>
          <p:cNvSpPr/>
          <p:nvPr/>
        </p:nvSpPr>
        <p:spPr>
          <a:xfrm>
            <a:off x="2295720" y="514368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uerza de ro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12 CuadroTexto"/>
          <p:cNvSpPr/>
          <p:nvPr/>
        </p:nvSpPr>
        <p:spPr>
          <a:xfrm>
            <a:off x="1222920" y="235728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Arco S=R</a:t>
            </a:r>
            <a:r>
              <a:rPr b="1" lang="es-ES" sz="1800" spc="-1" strike="noStrike">
                <a:solidFill>
                  <a:srgbClr val="ff0000"/>
                </a:solidFill>
                <a:latin typeface="Symbol"/>
                <a:ea typeface="Symbol"/>
              </a:rPr>
              <a:t>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12 CuadroTexto"/>
          <p:cNvSpPr/>
          <p:nvPr/>
        </p:nvSpPr>
        <p:spPr>
          <a:xfrm>
            <a:off x="1145880" y="3786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17 Forma libre"/>
          <p:cNvSpPr/>
          <p:nvPr/>
        </p:nvSpPr>
        <p:spPr>
          <a:xfrm>
            <a:off x="906480" y="4633920"/>
            <a:ext cx="1179360" cy="519120"/>
          </a:xfrm>
          <a:prstGeom prst="pie">
            <a:avLst/>
          </a:prstGeom>
          <a:noFill/>
          <a:ln w="38160">
            <a:solidFill>
              <a:srgbClr val="ff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4 Conector recto"/>
          <p:cNvSpPr/>
          <p:nvPr/>
        </p:nvSpPr>
        <p:spPr>
          <a:xfrm>
            <a:off x="357120" y="5143680"/>
            <a:ext cx="3643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48" name="22 CuadroTexto"/>
          <p:cNvSpPr/>
          <p:nvPr/>
        </p:nvSpPr>
        <p:spPr>
          <a:xfrm>
            <a:off x="4114440" y="1071720"/>
            <a:ext cx="500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nergía  cinética del cilind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9" name="Object 4"/>
              <p:cNvSpPr txBox="1"/>
              <p:nvPr/>
            </p:nvSpPr>
            <p:spPr>
              <a:xfrm>
                <a:off x="4786200" y="1643040"/>
                <a:ext cx="3929040" cy="480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50" name="5 Rectángulo"/>
          <p:cNvSpPr/>
          <p:nvPr/>
        </p:nvSpPr>
        <p:spPr>
          <a:xfrm>
            <a:off x="4286160" y="5500800"/>
            <a:ext cx="4429080" cy="1143000"/>
          </a:xfrm>
          <a:prstGeom prst="rect">
            <a:avLst/>
          </a:prstGeom>
          <a:solidFill>
            <a:srgbClr val="00b8ff">
              <a:alpha val="16000"/>
            </a:srgbClr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1 Triángulo rectángulo"/>
          <p:cNvSpPr/>
          <p:nvPr/>
        </p:nvSpPr>
        <p:spPr>
          <a:xfrm>
            <a:off x="0" y="2643120"/>
            <a:ext cx="3786120" cy="1571760"/>
          </a:xfrm>
          <a:prstGeom prst="rtTriangl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2 Elipse"/>
          <p:cNvSpPr/>
          <p:nvPr/>
        </p:nvSpPr>
        <p:spPr>
          <a:xfrm>
            <a:off x="571680" y="1857240"/>
            <a:ext cx="1143000" cy="1214640"/>
          </a:xfrm>
          <a:prstGeom prst="ellipse">
            <a:avLst/>
          </a:prstGeom>
          <a:solidFill>
            <a:srgbClr val="00b8ff">
              <a:alpha val="1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53" name="5 Conector recto de flecha"/>
          <p:cNvCxnSpPr/>
          <p:nvPr/>
        </p:nvCxnSpPr>
        <p:spPr>
          <a:xfrm flipH="1">
            <a:off x="1141200" y="2500200"/>
            <a:ext cx="2160" cy="12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4" name="7 Conector recto de flecha"/>
          <p:cNvCxnSpPr/>
          <p:nvPr/>
        </p:nvCxnSpPr>
        <p:spPr>
          <a:xfrm flipV="1">
            <a:off x="927720" y="2714040"/>
            <a:ext cx="143640" cy="2862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55" name="11 Conector recto de flecha"/>
          <p:cNvCxnSpPr/>
          <p:nvPr/>
        </p:nvCxnSpPr>
        <p:spPr>
          <a:xfrm flipH="1" flipV="1">
            <a:off x="285840" y="2785680"/>
            <a:ext cx="643320" cy="2865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56" name="14 Conector recto"/>
          <p:cNvSpPr/>
          <p:nvPr/>
        </p:nvSpPr>
        <p:spPr>
          <a:xfrm>
            <a:off x="1143000" y="2500200"/>
            <a:ext cx="2643120" cy="1143000"/>
          </a:xfrm>
          <a:prstGeom prst="line">
            <a:avLst/>
          </a:prstGeom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12 CuadroTexto"/>
          <p:cNvSpPr/>
          <p:nvPr/>
        </p:nvSpPr>
        <p:spPr>
          <a:xfrm>
            <a:off x="2432160" y="2643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2 Elipse"/>
          <p:cNvSpPr/>
          <p:nvPr/>
        </p:nvSpPr>
        <p:spPr>
          <a:xfrm>
            <a:off x="3286080" y="3000240"/>
            <a:ext cx="1143000" cy="12146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17 CuadroTexto"/>
          <p:cNvSpPr/>
          <p:nvPr/>
        </p:nvSpPr>
        <p:spPr>
          <a:xfrm>
            <a:off x="2646360" y="3786120"/>
            <a:ext cx="44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19 Conector recto"/>
          <p:cNvSpPr/>
          <p:nvPr/>
        </p:nvSpPr>
        <p:spPr>
          <a:xfrm flipH="1">
            <a:off x="999720" y="3071880"/>
            <a:ext cx="180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20 CuadroTexto"/>
          <p:cNvSpPr/>
          <p:nvPr/>
        </p:nvSpPr>
        <p:spPr>
          <a:xfrm>
            <a:off x="573840" y="35002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1 Título"/>
          <p:cNvSpPr/>
          <p:nvPr/>
        </p:nvSpPr>
        <p:spPr>
          <a:xfrm>
            <a:off x="0" y="0"/>
            <a:ext cx="91440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Arial"/>
              </a:rPr>
              <a:t>Conservación de la energía para caso de rodadura pura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22 CuadroTexto"/>
          <p:cNvSpPr/>
          <p:nvPr/>
        </p:nvSpPr>
        <p:spPr>
          <a:xfrm>
            <a:off x="109080" y="2857680"/>
            <a:ext cx="73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ro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23 CuadroTexto"/>
          <p:cNvSpPr/>
          <p:nvPr/>
        </p:nvSpPr>
        <p:spPr>
          <a:xfrm>
            <a:off x="646920" y="2428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24 CuadroTexto"/>
          <p:cNvSpPr/>
          <p:nvPr/>
        </p:nvSpPr>
        <p:spPr>
          <a:xfrm>
            <a:off x="4643280" y="1571760"/>
            <a:ext cx="4500720" cy="38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Se conserva la energía mecánica para el caso de rodadura pur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rmal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no ejerce trabaj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roc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no ejerce trabajo ya que el punto de contacto siempre está en reposos instantáne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s-ES" sz="2400" spc="-1" strike="noStrike" baseline="-25000">
                <a:solidFill>
                  <a:srgbClr val="ff0000"/>
                </a:solidFill>
                <a:latin typeface="Arial"/>
              </a:rPr>
              <a:t>mecánica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 si se conser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1 Triángulo rectángulo"/>
          <p:cNvSpPr/>
          <p:nvPr/>
        </p:nvSpPr>
        <p:spPr>
          <a:xfrm>
            <a:off x="0" y="2714760"/>
            <a:ext cx="4214880" cy="1643040"/>
          </a:xfrm>
          <a:prstGeom prst="rtTriangl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2 Elipse"/>
          <p:cNvSpPr/>
          <p:nvPr/>
        </p:nvSpPr>
        <p:spPr>
          <a:xfrm>
            <a:off x="571680" y="1857240"/>
            <a:ext cx="1143000" cy="1214640"/>
          </a:xfrm>
          <a:prstGeom prst="ellipse">
            <a:avLst/>
          </a:prstGeom>
          <a:solidFill>
            <a:srgbClr val="00b8ff">
              <a:alpha val="1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68" name="5 Conector recto de flecha"/>
          <p:cNvCxnSpPr/>
          <p:nvPr/>
        </p:nvCxnSpPr>
        <p:spPr>
          <a:xfrm flipH="1">
            <a:off x="1141200" y="2500200"/>
            <a:ext cx="2160" cy="12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69" name="7 Conector recto de flecha"/>
          <p:cNvCxnSpPr/>
          <p:nvPr/>
        </p:nvCxnSpPr>
        <p:spPr>
          <a:xfrm flipV="1">
            <a:off x="927720" y="2714040"/>
            <a:ext cx="143640" cy="2862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70" name="11 Conector recto de flecha"/>
          <p:cNvCxnSpPr/>
          <p:nvPr/>
        </p:nvCxnSpPr>
        <p:spPr>
          <a:xfrm flipH="1" flipV="1">
            <a:off x="285840" y="2785680"/>
            <a:ext cx="643320" cy="2865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71" name="14 Conector recto"/>
          <p:cNvSpPr/>
          <p:nvPr/>
        </p:nvSpPr>
        <p:spPr>
          <a:xfrm>
            <a:off x="1143000" y="2500200"/>
            <a:ext cx="1928880" cy="857520"/>
          </a:xfrm>
          <a:prstGeom prst="line">
            <a:avLst/>
          </a:prstGeom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12 CuadroTexto"/>
          <p:cNvSpPr/>
          <p:nvPr/>
        </p:nvSpPr>
        <p:spPr>
          <a:xfrm>
            <a:off x="2146680" y="25002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2 Elipse"/>
          <p:cNvSpPr/>
          <p:nvPr/>
        </p:nvSpPr>
        <p:spPr>
          <a:xfrm>
            <a:off x="2500200" y="2643120"/>
            <a:ext cx="1143000" cy="12146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17 CuadroTexto"/>
          <p:cNvSpPr/>
          <p:nvPr/>
        </p:nvSpPr>
        <p:spPr>
          <a:xfrm>
            <a:off x="3075120" y="3929040"/>
            <a:ext cx="44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19 Conector recto"/>
          <p:cNvSpPr/>
          <p:nvPr/>
        </p:nvSpPr>
        <p:spPr>
          <a:xfrm flipH="1">
            <a:off x="999720" y="3000240"/>
            <a:ext cx="1800" cy="1430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20 CuadroTexto"/>
          <p:cNvSpPr/>
          <p:nvPr/>
        </p:nvSpPr>
        <p:spPr>
          <a:xfrm>
            <a:off x="573840" y="35002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1 Título"/>
          <p:cNvSpPr/>
          <p:nvPr/>
        </p:nvSpPr>
        <p:spPr>
          <a:xfrm>
            <a:off x="0" y="0"/>
            <a:ext cx="91440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Arial"/>
              </a:rPr>
              <a:t>Conservación de la energía para caso de rodadura pura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22 CuadroTexto"/>
          <p:cNvSpPr/>
          <p:nvPr/>
        </p:nvSpPr>
        <p:spPr>
          <a:xfrm>
            <a:off x="109080" y="2857680"/>
            <a:ext cx="73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ro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23 CuadroTexto"/>
          <p:cNvSpPr/>
          <p:nvPr/>
        </p:nvSpPr>
        <p:spPr>
          <a:xfrm>
            <a:off x="646920" y="2428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0" name="Object 2"/>
              <p:cNvSpPr txBox="1"/>
              <p:nvPr/>
            </p:nvSpPr>
            <p:spPr>
              <a:xfrm>
                <a:off x="3143160" y="1643040"/>
                <a:ext cx="6000840" cy="422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icial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ravitaciona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xsen</m:t>
                        </m:r>
                        <m:r>
                          <m:t xml:space="preserve">θ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ina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ωR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ina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xsen</m:t>
                        </m:r>
                        <m:r>
                          <m:t xml:space="preserve">θ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gxsen</m:t>
                                </m:r>
                                <m:r>
                                  <m:t xml:space="preserve">θ</m:t>
                                </m:r>
                              </m:num>
                              <m:den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(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M</m:t>
                                        </m:r>
                                      </m:sub>
                                    </m:sSub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  <m:r>
                                  <m:t xml:space="preserve">+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gxsen</m:t>
                                </m:r>
                                <m:r>
                                  <m:t xml:space="preserve">θ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M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81" name="5 Rectángulo"/>
          <p:cNvSpPr/>
          <p:nvPr/>
        </p:nvSpPr>
        <p:spPr>
          <a:xfrm>
            <a:off x="2786040" y="4429080"/>
            <a:ext cx="6215040" cy="1571760"/>
          </a:xfrm>
          <a:prstGeom prst="rect">
            <a:avLst/>
          </a:prstGeom>
          <a:solidFill>
            <a:srgbClr val="00b8ff">
              <a:alpha val="16000"/>
            </a:srgbClr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2" descr="momentos de inercia de sistemas conocidos"/>
          <p:cNvPicPr/>
          <p:nvPr/>
        </p:nvPicPr>
        <p:blipFill>
          <a:blip r:embed="rId1"/>
          <a:stretch/>
        </p:blipFill>
        <p:spPr>
          <a:xfrm>
            <a:off x="1403280" y="1341360"/>
            <a:ext cx="7128000" cy="5091120"/>
          </a:xfrm>
          <a:prstGeom prst="rect">
            <a:avLst/>
          </a:prstGeom>
          <a:ln w="0">
            <a:noFill/>
          </a:ln>
        </p:spPr>
      </p:pic>
      <p:sp>
        <p:nvSpPr>
          <p:cNvPr id="483" name="1 Título"/>
          <p:cNvSpPr/>
          <p:nvPr/>
        </p:nvSpPr>
        <p:spPr>
          <a:xfrm>
            <a:off x="108000" y="0"/>
            <a:ext cx="903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Momentos de inercia de sistemas conoci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Text Box 4"/>
          <p:cNvSpPr/>
          <p:nvPr/>
        </p:nvSpPr>
        <p:spPr>
          <a:xfrm>
            <a:off x="1547640" y="1081080"/>
            <a:ext cx="20163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ilindro sólido o disco, ejes de simetrí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Text Box 5"/>
          <p:cNvSpPr/>
          <p:nvPr/>
        </p:nvSpPr>
        <p:spPr>
          <a:xfrm>
            <a:off x="3419640" y="1347840"/>
            <a:ext cx="2016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illo a través de su eje de simetrí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Text Box 6"/>
          <p:cNvSpPr/>
          <p:nvPr/>
        </p:nvSpPr>
        <p:spPr>
          <a:xfrm>
            <a:off x="5364000" y="1341360"/>
            <a:ext cx="1008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fera sól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Text Box 7"/>
          <p:cNvSpPr/>
          <p:nvPr/>
        </p:nvSpPr>
        <p:spPr>
          <a:xfrm>
            <a:off x="6948360" y="981000"/>
            <a:ext cx="20163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arilla alrededor de su centro de simetrí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Text Box 8"/>
          <p:cNvSpPr/>
          <p:nvPr/>
        </p:nvSpPr>
        <p:spPr>
          <a:xfrm>
            <a:off x="1476360" y="5877000"/>
            <a:ext cx="2016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ilindro sólido, diámetro cent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Text Box 9"/>
          <p:cNvSpPr/>
          <p:nvPr/>
        </p:nvSpPr>
        <p:spPr>
          <a:xfrm>
            <a:off x="3419640" y="5805360"/>
            <a:ext cx="1655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illo a través del diámet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Text Box 10"/>
          <p:cNvSpPr/>
          <p:nvPr/>
        </p:nvSpPr>
        <p:spPr>
          <a:xfrm>
            <a:off x="5292720" y="5877000"/>
            <a:ext cx="16556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squete esférico hue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Text Box 11"/>
          <p:cNvSpPr/>
          <p:nvPr/>
        </p:nvSpPr>
        <p:spPr>
          <a:xfrm>
            <a:off x="6948360" y="5805360"/>
            <a:ext cx="1656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arilla a través de un extre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Arial"/>
              </a:rPr>
              <a:t>Ejercicio de cálculo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493" name="1 Triángulo rectángulo"/>
          <p:cNvSpPr/>
          <p:nvPr/>
        </p:nvSpPr>
        <p:spPr>
          <a:xfrm>
            <a:off x="0" y="2714760"/>
            <a:ext cx="4214880" cy="1643040"/>
          </a:xfrm>
          <a:prstGeom prst="rtTriangl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3 Elipse"/>
          <p:cNvSpPr/>
          <p:nvPr/>
        </p:nvSpPr>
        <p:spPr>
          <a:xfrm rot="1503000">
            <a:off x="213840" y="1785960"/>
            <a:ext cx="1143000" cy="1214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4 Elipse" descr=""/>
          <p:cNvPicPr/>
          <p:nvPr/>
        </p:nvPicPr>
        <p:blipFill>
          <a:blip r:embed="rId1"/>
          <a:stretch/>
        </p:blipFill>
        <p:spPr>
          <a:xfrm>
            <a:off x="1523880" y="1974960"/>
            <a:ext cx="1200240" cy="1695240"/>
          </a:xfrm>
          <a:prstGeom prst="rect">
            <a:avLst/>
          </a:prstGeom>
          <a:ln w="0">
            <a:noFill/>
          </a:ln>
        </p:spPr>
      </p:pic>
      <p:pic>
        <p:nvPicPr>
          <p:cNvPr id="496" name="6 Elipse" descr=""/>
          <p:cNvPicPr/>
          <p:nvPr/>
        </p:nvPicPr>
        <p:blipFill>
          <a:blip r:embed="rId2"/>
          <a:stretch/>
        </p:blipFill>
        <p:spPr>
          <a:xfrm>
            <a:off x="2865600" y="2730600"/>
            <a:ext cx="2011320" cy="1573200"/>
          </a:xfrm>
          <a:prstGeom prst="rect">
            <a:avLst/>
          </a:prstGeom>
          <a:ln w="0">
            <a:noFill/>
          </a:ln>
        </p:spPr>
      </p:pic>
      <p:sp>
        <p:nvSpPr>
          <p:cNvPr id="497" name="7 CuadroTexto"/>
          <p:cNvSpPr/>
          <p:nvPr/>
        </p:nvSpPr>
        <p:spPr>
          <a:xfrm>
            <a:off x="5286240" y="1500120"/>
            <a:ext cx="3643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una rampa caen tres cuerpos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TOD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masa M y radio 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 anil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 dis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a esfe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Cuál es el porcentaje de energía cinética traslacional para cada cuerp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0T19:10:16Z</dcterms:created>
  <dc:creator>jlisoni</dc:creator>
  <dc:description/>
  <dc:language>en-US</dc:language>
  <cp:lastModifiedBy>jlisoni</cp:lastModifiedBy>
  <dcterms:modified xsi:type="dcterms:W3CDTF">2009-09-09T15:15:41Z</dcterms:modified>
  <cp:revision>357</cp:revision>
  <dc:subject/>
  <dc:title>Diapositiva 1</dc:title>
</cp:coreProperties>
</file>