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dt" idx="9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0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EA8B7-7BEF-4AD1-B1C3-1C520AEF068A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DF524-BE0B-42F4-BBD1-88ABCC19CB62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36FAB-4814-4C8B-A2E0-689A8A153770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87DA-5691-4E69-A560-A3CE59559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7A62-6CBA-4F5D-978D-38436F058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B47E-6D0E-4F12-BD69-38CD692EB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3E7C-77FC-4861-9BCB-545C35A47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D505-7620-46EC-A2BC-C90803AFD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A29E-5053-47D7-BFBF-6A4F266743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BC20-413B-4937-A47A-E19E1C450F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BAD7-7F46-4736-B57C-03DFBADBC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DB11-5292-4540-BCDC-68B8714672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9D9E-6772-4829-8E21-BB69F047A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D11D-9535-4DFE-8800-F591B6462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5A0A-90AC-437E-86BE-37B07FB63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DDB2-02E3-4D60-A3F1-7E69B14E5C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2D11-9E45-4C1D-9C48-4EE6A78052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35EA-5563-49AE-8BF6-CAF011913B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0CEF-E743-46A8-BB9D-2CF67D086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5E02-92B3-4923-A62D-CAE85C1E77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02D-CB90-4F46-91EA-FFA26380BC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9D6-24CC-4A36-AF4A-AECE1665C1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D29-FEFA-4369-9511-51263C5909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1FD-1012-4D4A-956C-2D4CB522F6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AB1-3D3C-487B-AC1C-AFFD21863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7CA0-4B72-431E-87BA-6411249AC2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FCC-7023-409E-99BB-AA728C33F1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355-A912-43B6-933F-7C8F925D56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92E-1649-4F39-A8E2-4D158CBA3D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C68-DA30-4710-9E60-D4945370F9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3E6-05AC-44D0-9EAF-D255ABF006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493-4742-408B-8C93-C1D7A256D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89A-9A21-4B95-AB05-F14CE791BC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E9C6-21EF-4CA3-B03A-EA0CDB17E9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F4CB7-F9D2-4E86-8A90-490FF19707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FF38F-9F18-4BF2-BEEA-B496B4708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C1DF-D78C-44F7-994E-B7B5AD3DC0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EFBE5-87CA-409D-A58D-E9631AC888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5B1A8-0245-4E02-978E-6D85A849CE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A048C-A604-4CF8-A8CA-366D9FF749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3F30B-D72B-4DEF-BCE5-49399D2DE3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2652A-36DE-4DAB-AA79-26395E1324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CFB1B-4286-4BC2-8185-4B047439F2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F91BB-06F2-4867-A9C6-520B4DFA2A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DFCB9-678E-4592-8188-83146302C4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6DC17-06E0-47EE-9E98-3255561696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F758F-2D13-48AD-89D1-773B49AA1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4919-3B57-4F50-97D5-AF4B2363587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7036F-2DE8-445C-9233-AE0BE716F3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2BC02-6D3D-45EC-AAC1-7FA17CD19C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57355-84B4-4F1B-85E1-D04101FB2C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EF80D-49D1-4504-A186-299DD949CD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BD243-7863-4DFC-983F-63171AE632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3282-A4EB-4ED7-83D0-31E16884C8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B5661-4007-4F2D-9A6D-0398D0326F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4A009-6D23-40D3-9589-A665C1892F7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757FC-F1BA-48D1-BF58-FF3238E9A6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53B44-7686-4329-8C11-F8C01E0B9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42D3-CCA9-4523-A961-9D8C0BA213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C34FF-A189-4310-ADD8-E54FDD6585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2C7D-EE65-4B0D-97DF-F72A6EFA81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114D-0B9C-47CE-84A1-3DDA9D6C4F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1E5A-CAB5-40AE-BB7B-F16BEA8472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F2EF-3586-40EF-A2C8-9CF663D206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C4A7-55FF-4A91-9F8A-EFD502C328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060D-2F26-4E04-9A2E-A8B95D19B1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0070-0C01-4DC2-AAAC-C185A8E1E4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05E1-D2BE-4B3F-A694-D91DD88FBA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6A0-A9CB-49E1-A189-CE4570664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2EC7-AA30-4754-B23B-2AF68AC30D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320C-024B-4CA9-934A-98FB479C9F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329C-4534-4591-A6DD-F2BC8C8B53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A4F3-4052-46AE-80A4-F7CF501251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A9089-5063-4DE5-8240-172F0EEDE4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745B0-E2A4-419C-A72E-111F9241D9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CB360-83FE-4603-B9DA-8DC1DEA581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771C2-EA76-493C-A69D-930887CDA5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55041-B769-4883-9526-D9EC2A2650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789A7-F604-4E88-B7ED-D8369475EC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D1CBD-5F97-45BA-9494-156F48EE9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57D8-BA0D-42D0-901E-11CDADC2A7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E9EF4-D616-4136-8FBD-A702DA7E6C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4BB12-1D58-4F5B-8583-17A9AFE63D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22574-91C8-4B2A-B1A8-02BDC4CF0C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7B7F8-9915-48E0-A22E-7679C0DD40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DF900D-18EB-4268-8072-E301920900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9AAAC-0EDF-4D32-A63C-B66AD33B236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17995-9D03-4D43-8B1F-DCF57CA50E4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DF4F3-2A21-42A6-AE1E-2B627B2F95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F25F1-E224-4765-A979-A9DCC5360E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8CB14-AE94-4DAC-AB32-518432843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C1A1-54FB-438A-AF80-7CED3A7E12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FBA40-2149-4AD8-B107-ECED84FDEB6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B6B60-5A00-4347-AE64-7B43A71269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4BF64-E995-4587-ABD2-04A8BC03D4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0AA98-DC46-4FC5-AF0E-0B3D1EE088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01C3E-265D-429D-A659-0839FD883B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B4F0F-B088-44F7-892F-0708E892CD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D0AE2-AAF8-40C9-BA71-22C8A550A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09D8A9-3F58-427B-B582-67594EAB6D4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6DC71C-DAE8-42CB-BF04-3C44C8EAD56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E95FCB-5A42-4203-BE60-E9C8F1473533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5F221E-2B25-476E-8B27-5773A531252C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BC72FC-0DC6-4F8D-8663-CF940CC5410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15F925-4194-4A5C-85B1-D5622D3B2B99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C97724-2952-442F-89EB-7468F39DE79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1F37A2-021B-43CC-858C-64ADE55A417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9144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2800" spc="-1" strike="noStrike" u="sng">
                <a:solidFill>
                  <a:srgbClr val="572314"/>
                </a:solidFill>
                <a:uFillTx/>
                <a:latin typeface="Gill Sans MT"/>
              </a:rPr>
              <a:t>Unidad 4D </a:t>
            </a: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Sólidos rígidos: Rodadura o rodar sin resba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Preparación para laboratorio 4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1285920" y="1192320"/>
                <a:ext cx="3214800" cy="45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acio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slació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3 CuadroTexto"/>
          <p:cNvSpPr/>
          <p:nvPr/>
        </p:nvSpPr>
        <p:spPr>
          <a:xfrm>
            <a:off x="4657320" y="471492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nde K p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nillo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lindro=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era=0.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4 Cerrar llave"/>
          <p:cNvSpPr/>
          <p:nvPr/>
        </p:nvSpPr>
        <p:spPr>
          <a:xfrm>
            <a:off x="4643280" y="1214280"/>
            <a:ext cx="714600" cy="200052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2000520"/>
              <a:gd name="textAreaBottom" fmla="*/ 198216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5 CuadroTexto"/>
          <p:cNvSpPr/>
          <p:nvPr/>
        </p:nvSpPr>
        <p:spPr>
          <a:xfrm>
            <a:off x="5286240" y="153036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uma de ambos términos equivale al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6 Cerrar llave"/>
          <p:cNvSpPr/>
          <p:nvPr/>
        </p:nvSpPr>
        <p:spPr>
          <a:xfrm rot="10800000">
            <a:off x="3929040" y="4714560"/>
            <a:ext cx="714240" cy="178596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1785960"/>
              <a:gd name="textAreaBottom" fmla="*/ 1767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1285920" y="328608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915840" y="0"/>
                <a:ext cx="7489800" cy="33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cción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iderando 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y  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214280" y="35712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560"/>
                <a:gridCol w="1438200"/>
                <a:gridCol w="143820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07" name="3 CuadroTexto"/>
          <p:cNvSpPr/>
          <p:nvPr/>
        </p:nvSpPr>
        <p:spPr>
          <a:xfrm>
            <a:off x="1143000" y="378612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el cuerpo que tiene su masa más distribuida hacia el eje de rotación (esfera) rota mucho menos que lo que se traslada y viceversa (anill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posición al rot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4 Flecha abajo"/>
          <p:cNvSpPr/>
          <p:nvPr/>
        </p:nvSpPr>
        <p:spPr>
          <a:xfrm>
            <a:off x="4429080" y="557208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0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513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514" name="7 CuadroTexto"/>
          <p:cNvSpPr/>
          <p:nvPr/>
        </p:nvSpPr>
        <p:spPr>
          <a:xfrm>
            <a:off x="457200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si ahora se sueltan los tres cuerpos desde el reposo y a la misma altura h y se dejan rodar sobre una pendiente, ¿cuál de los tres cuerpos llegará primero al final de la pendiente? Los cuerpos ruedan sin resba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19 Conector recto"/>
          <p:cNvSpPr/>
          <p:nvPr/>
        </p:nvSpPr>
        <p:spPr>
          <a:xfrm flipH="1">
            <a:off x="642960" y="3000240"/>
            <a:ext cx="144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9 CuadroTexto"/>
          <p:cNvSpPr/>
          <p:nvPr/>
        </p:nvSpPr>
        <p:spPr>
          <a:xfrm>
            <a:off x="21636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14 Conector recto"/>
          <p:cNvSpPr/>
          <p:nvPr/>
        </p:nvSpPr>
        <p:spPr>
          <a:xfrm>
            <a:off x="785880" y="1428840"/>
            <a:ext cx="3786120" cy="16430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12 CuadroTexto"/>
          <p:cNvSpPr/>
          <p:nvPr/>
        </p:nvSpPr>
        <p:spPr>
          <a:xfrm>
            <a:off x="2075040" y="157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17 CuadroTexto"/>
          <p:cNvSpPr/>
          <p:nvPr/>
        </p:nvSpPr>
        <p:spPr>
          <a:xfrm>
            <a:off x="250344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285920" y="1285920"/>
                <a:ext cx="6224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cánic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ot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rasl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encia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raveda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2" name="7 CuadroTexto"/>
          <p:cNvSpPr/>
          <p:nvPr/>
        </p:nvSpPr>
        <p:spPr>
          <a:xfrm>
            <a:off x="1143000" y="435780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almente los tres objetos sólo tienen energía potencial: M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ndo lo que aprendimos del ejercicio anterior, evidentemente la esfera llegará prim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1785960" y="2928960"/>
                <a:ext cx="46674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4" name="9 CuadroTexto"/>
          <p:cNvSpPr/>
          <p:nvPr/>
        </p:nvSpPr>
        <p:spPr>
          <a:xfrm>
            <a:off x="1143000" y="2143080"/>
            <a:ext cx="757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sistema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4D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26" name="2 CuadroTexto"/>
          <p:cNvSpPr/>
          <p:nvPr/>
        </p:nvSpPr>
        <p:spPr>
          <a:xfrm>
            <a:off x="0" y="13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17-220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s sólidos rotando y trasladán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7 CuadroTexto"/>
          <p:cNvSpPr/>
          <p:nvPr/>
        </p:nvSpPr>
        <p:spPr>
          <a:xfrm>
            <a:off x="5857920" y="2714760"/>
            <a:ext cx="328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lindros iguales y plasticin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mbiar el momento de ine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er el efecto de la distribución de masa en el momento de inercia de un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ién ganará la carre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arar con lo predicción teó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0" y="3286080"/>
            <a:ext cx="2257560" cy="215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2643120" y="3500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Movimiento de rodamiento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uerp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2 Elipse"/>
          <p:cNvSpPr/>
          <p:nvPr/>
        </p:nvSpPr>
        <p:spPr>
          <a:xfrm>
            <a:off x="1857240" y="2214720"/>
            <a:ext cx="328644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4 Conector recto"/>
          <p:cNvSpPr/>
          <p:nvPr/>
        </p:nvSpPr>
        <p:spPr>
          <a:xfrm>
            <a:off x="1143000" y="557208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5 Y"/>
          <p:cNvSpPr/>
          <p:nvPr/>
        </p:nvSpPr>
        <p:spPr>
          <a:xfrm>
            <a:off x="335772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9 Conector recto de flecha"/>
          <p:cNvCxnSpPr/>
          <p:nvPr/>
        </p:nvCxnSpPr>
        <p:spPr>
          <a:xfrm>
            <a:off x="345600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10 CuadroTexto"/>
          <p:cNvSpPr/>
          <p:nvPr/>
        </p:nvSpPr>
        <p:spPr>
          <a:xfrm>
            <a:off x="394848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1 Conector"/>
          <p:cNvSpPr/>
          <p:nvPr/>
        </p:nvSpPr>
        <p:spPr>
          <a:xfrm>
            <a:off x="342900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2 CuadroTexto"/>
          <p:cNvSpPr/>
          <p:nvPr/>
        </p:nvSpPr>
        <p:spPr>
          <a:xfrm>
            <a:off x="357444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13 Conector"/>
          <p:cNvSpPr/>
          <p:nvPr/>
        </p:nvSpPr>
        <p:spPr>
          <a:xfrm>
            <a:off x="342900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14 CuadroTexto"/>
          <p:cNvSpPr/>
          <p:nvPr/>
        </p:nvSpPr>
        <p:spPr>
          <a:xfrm>
            <a:off x="357480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5 Conector"/>
          <p:cNvSpPr/>
          <p:nvPr/>
        </p:nvSpPr>
        <p:spPr>
          <a:xfrm>
            <a:off x="2143080" y="3286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6 CuadroTexto"/>
          <p:cNvSpPr/>
          <p:nvPr/>
        </p:nvSpPr>
        <p:spPr>
          <a:xfrm>
            <a:off x="228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17 Conector recto de flecha"/>
          <p:cNvCxnSpPr/>
          <p:nvPr/>
        </p:nvCxnSpPr>
        <p:spPr>
          <a:xfrm>
            <a:off x="3643200" y="22147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19 Conector recto de flecha"/>
          <p:cNvCxnSpPr>
            <a:stCxn id="379" idx="0"/>
          </p:cNvCxnSpPr>
          <p:nvPr/>
        </p:nvCxnSpPr>
        <p:spPr>
          <a:xfrm flipV="1">
            <a:off x="2214720" y="2714040"/>
            <a:ext cx="429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3" name="16 CuadroTexto"/>
          <p:cNvSpPr/>
          <p:nvPr/>
        </p:nvSpPr>
        <p:spPr>
          <a:xfrm>
            <a:off x="5429160" y="30002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movimiento sigue el C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se mueve P`? Lo único que necesitamos es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</a:t>
            </a: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rodadura</a:t>
            </a:r>
            <a:br>
              <a:rPr sz="4300"/>
            </a:b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Se rueda sin deslizar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2 Elipse"/>
          <p:cNvSpPr/>
          <p:nvPr/>
        </p:nvSpPr>
        <p:spPr>
          <a:xfrm>
            <a:off x="107172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4 Conector recto"/>
          <p:cNvSpPr/>
          <p:nvPr/>
        </p:nvSpPr>
        <p:spPr>
          <a:xfrm>
            <a:off x="357120" y="5572080"/>
            <a:ext cx="878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5 Y"/>
          <p:cNvSpPr/>
          <p:nvPr/>
        </p:nvSpPr>
        <p:spPr>
          <a:xfrm>
            <a:off x="257184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9 Conector recto de flecha"/>
          <p:cNvCxnSpPr/>
          <p:nvPr/>
        </p:nvCxnSpPr>
        <p:spPr>
          <a:xfrm>
            <a:off x="267012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9" name="10 CuadroTexto"/>
          <p:cNvSpPr/>
          <p:nvPr/>
        </p:nvSpPr>
        <p:spPr>
          <a:xfrm>
            <a:off x="316260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11 Conector"/>
          <p:cNvSpPr/>
          <p:nvPr/>
        </p:nvSpPr>
        <p:spPr>
          <a:xfrm>
            <a:off x="264312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12 CuadroTexto"/>
          <p:cNvSpPr/>
          <p:nvPr/>
        </p:nvSpPr>
        <p:spPr>
          <a:xfrm>
            <a:off x="278856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13 Conector"/>
          <p:cNvSpPr/>
          <p:nvPr/>
        </p:nvSpPr>
        <p:spPr>
          <a:xfrm>
            <a:off x="7500960" y="257184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14 CuadroTexto"/>
          <p:cNvSpPr/>
          <p:nvPr/>
        </p:nvSpPr>
        <p:spPr>
          <a:xfrm>
            <a:off x="7646760" y="2643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2 Elipse"/>
          <p:cNvSpPr/>
          <p:nvPr/>
        </p:nvSpPr>
        <p:spPr>
          <a:xfrm>
            <a:off x="485784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5 Y"/>
          <p:cNvSpPr/>
          <p:nvPr/>
        </p:nvSpPr>
        <p:spPr>
          <a:xfrm>
            <a:off x="635796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11 Conector"/>
          <p:cNvSpPr/>
          <p:nvPr/>
        </p:nvSpPr>
        <p:spPr>
          <a:xfrm>
            <a:off x="5214960" y="492912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12 CuadroTexto"/>
          <p:cNvSpPr/>
          <p:nvPr/>
        </p:nvSpPr>
        <p:spPr>
          <a:xfrm>
            <a:off x="4931640" y="485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33 Conector recto"/>
          <p:cNvSpPr/>
          <p:nvPr/>
        </p:nvSpPr>
        <p:spPr>
          <a:xfrm flipH="1">
            <a:off x="6474960" y="384012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35 Conector recto"/>
          <p:cNvSpPr/>
          <p:nvPr/>
        </p:nvSpPr>
        <p:spPr>
          <a:xfrm flipH="1">
            <a:off x="5336640" y="383076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37 Flecha derecha"/>
          <p:cNvSpPr/>
          <p:nvPr/>
        </p:nvSpPr>
        <p:spPr>
          <a:xfrm>
            <a:off x="3857760" y="592920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38 CuadroTexto"/>
          <p:cNvSpPr/>
          <p:nvPr/>
        </p:nvSpPr>
        <p:spPr>
          <a:xfrm>
            <a:off x="6150240" y="4059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39 Arco"/>
          <p:cNvSpPr/>
          <p:nvPr/>
        </p:nvSpPr>
        <p:spPr>
          <a:xfrm rot="17336400">
            <a:off x="5459040" y="1969560"/>
            <a:ext cx="135756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2 CuadroTexto"/>
          <p:cNvSpPr/>
          <p:nvPr/>
        </p:nvSpPr>
        <p:spPr>
          <a:xfrm>
            <a:off x="6290280" y="164304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4" name="42 Conector recto de flecha"/>
          <p:cNvCxnSpPr/>
          <p:nvPr/>
        </p:nvCxnSpPr>
        <p:spPr>
          <a:xfrm flipH="1" flipV="1">
            <a:off x="5785560" y="5785560"/>
            <a:ext cx="1072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12 CuadroTexto"/>
          <p:cNvSpPr/>
          <p:nvPr/>
        </p:nvSpPr>
        <p:spPr>
          <a:xfrm>
            <a:off x="6724800" y="55720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2 CuadroTexto"/>
          <p:cNvSpPr/>
          <p:nvPr/>
        </p:nvSpPr>
        <p:spPr>
          <a:xfrm>
            <a:off x="5652000" y="27860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557496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47 Forma libre"/>
          <p:cNvSpPr/>
          <p:nvPr/>
        </p:nvSpPr>
        <p:spPr>
          <a:xfrm>
            <a:off x="5335560" y="5062680"/>
            <a:ext cx="117972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4643280" y="2643120"/>
                <a:ext cx="39387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3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8" name="22 CuadroTexto"/>
          <p:cNvSpPr/>
          <p:nvPr/>
        </p:nvSpPr>
        <p:spPr>
          <a:xfrm>
            <a:off x="4114440" y="10717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ergía  cinética del cilin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4786200" y="1643040"/>
                <a:ext cx="3929040" cy="48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0" name="5 Rectángulo"/>
          <p:cNvSpPr/>
          <p:nvPr/>
        </p:nvSpPr>
        <p:spPr>
          <a:xfrm>
            <a:off x="4286160" y="5500800"/>
            <a:ext cx="4429080" cy="114300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 Triángulo rectángulo"/>
          <p:cNvSpPr/>
          <p:nvPr/>
        </p:nvSpPr>
        <p:spPr>
          <a:xfrm>
            <a:off x="0" y="2643120"/>
            <a:ext cx="3786120" cy="157176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5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14 Conector recto"/>
          <p:cNvSpPr/>
          <p:nvPr/>
        </p:nvSpPr>
        <p:spPr>
          <a:xfrm>
            <a:off x="1143000" y="2500200"/>
            <a:ext cx="2643120" cy="11430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12 CuadroTexto"/>
          <p:cNvSpPr/>
          <p:nvPr/>
        </p:nvSpPr>
        <p:spPr>
          <a:xfrm>
            <a:off x="2432160" y="26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2 Elipse"/>
          <p:cNvSpPr/>
          <p:nvPr/>
        </p:nvSpPr>
        <p:spPr>
          <a:xfrm>
            <a:off x="3286080" y="300024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7 CuadroTexto"/>
          <p:cNvSpPr/>
          <p:nvPr/>
        </p:nvSpPr>
        <p:spPr>
          <a:xfrm>
            <a:off x="264636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19 Conector recto"/>
          <p:cNvSpPr/>
          <p:nvPr/>
        </p:nvSpPr>
        <p:spPr>
          <a:xfrm flipH="1">
            <a:off x="999720" y="3071880"/>
            <a:ext cx="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24 CuadroTexto"/>
          <p:cNvSpPr/>
          <p:nvPr/>
        </p:nvSpPr>
        <p:spPr>
          <a:xfrm>
            <a:off x="4643280" y="1571760"/>
            <a:ext cx="4500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Se conserva la energía mecánica para el caso de rodadura p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 ya que el punto de contacto siempre está en reposos instantán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si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0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1" name="14 Conector recto"/>
          <p:cNvSpPr/>
          <p:nvPr/>
        </p:nvSpPr>
        <p:spPr>
          <a:xfrm>
            <a:off x="1143000" y="2500200"/>
            <a:ext cx="192888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12 CuadroTexto"/>
          <p:cNvSpPr/>
          <p:nvPr/>
        </p:nvSpPr>
        <p:spPr>
          <a:xfrm>
            <a:off x="2146680" y="250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 Elipse"/>
          <p:cNvSpPr/>
          <p:nvPr/>
        </p:nvSpPr>
        <p:spPr>
          <a:xfrm>
            <a:off x="2500200" y="264312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17 CuadroTexto"/>
          <p:cNvSpPr/>
          <p:nvPr/>
        </p:nvSpPr>
        <p:spPr>
          <a:xfrm>
            <a:off x="3075120" y="39290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19 Conector recto"/>
          <p:cNvSpPr/>
          <p:nvPr/>
        </p:nvSpPr>
        <p:spPr>
          <a:xfrm flipH="1">
            <a:off x="999720" y="3000240"/>
            <a:ext cx="180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"/>
              <p:cNvSpPr txBox="1"/>
              <p:nvPr/>
            </p:nvSpPr>
            <p:spPr>
              <a:xfrm>
                <a:off x="3143160" y="1643040"/>
                <a:ext cx="6000840" cy="42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vitacio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5 Rectángulo"/>
          <p:cNvSpPr/>
          <p:nvPr/>
        </p:nvSpPr>
        <p:spPr>
          <a:xfrm>
            <a:off x="2786040" y="4429080"/>
            <a:ext cx="6215040" cy="157176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momentos de inercia de sistemas conocidos"/>
          <p:cNvPicPr/>
          <p:nvPr/>
        </p:nvPicPr>
        <p:blipFill>
          <a:blip r:embed="rId1"/>
          <a:stretch/>
        </p:blipFill>
        <p:spPr>
          <a:xfrm>
            <a:off x="1403280" y="1341360"/>
            <a:ext cx="7128000" cy="5091120"/>
          </a:xfrm>
          <a:prstGeom prst="rect">
            <a:avLst/>
          </a:prstGeom>
          <a:ln w="0">
            <a:noFill/>
          </a:ln>
        </p:spPr>
      </p:pic>
      <p:sp>
        <p:nvSpPr>
          <p:cNvPr id="483" name="1 Título"/>
          <p:cNvSpPr/>
          <p:nvPr/>
        </p:nvSpPr>
        <p:spPr>
          <a:xfrm>
            <a:off x="108000" y="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mentos de inercia de sistemas 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547640" y="108108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 o disco, ejes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419640" y="134784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 su eje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364000" y="134136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só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948360" y="98100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lrededor de su centro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1476360" y="587700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, diámetro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419640" y="5805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l diám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5292720" y="5877000"/>
            <a:ext cx="165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quete esférico hu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6948360" y="5805360"/>
            <a:ext cx="165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 través de un extr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3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496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497" name="7 CuadroTexto"/>
          <p:cNvSpPr/>
          <p:nvPr/>
        </p:nvSpPr>
        <p:spPr>
          <a:xfrm>
            <a:off x="5286240" y="1500120"/>
            <a:ext cx="36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el porcentaje de energía cinética traslacional para cada cuerp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9-09T15:15:41Z</dcterms:modified>
  <cp:revision>357</cp:revision>
  <dc:subject/>
  <dc:title>Diapositiva 1</dc:title>
</cp:coreProperties>
</file>