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000"/>
            <a:ext cx="297036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402B48A-99F6-4C42-A5A4-5DAD4A9AC94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5C126-03BA-4BFD-A9D3-01DB2FC4B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2FBB5-7EAB-4EC8-8CC5-767BB829C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D24A8-0A3D-43D5-93BB-518595151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12233-8254-4CFB-A51D-50D0A8C1F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98EB5-DCD9-4C87-B123-77FE4F57F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5A252-58F4-43D8-A6EA-426ED2E4D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59964-EA4F-400C-8411-9EBC7C14B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E80F3-7160-4389-9A7E-86346D0F3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AD410-AF2E-46B4-8682-B4576C700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70098-E1B4-4E7B-87E7-810233959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8B511-ED31-411B-A66D-CE8E6A5AE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A9059-5397-4D9F-8428-FCB02E479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FD38041-A25F-4D10-9709-AF85F750365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troducción a Matlab 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terial elaborado por el profesor Juan Alvarez del DCC y utilizado como material docente en el curso CC100 en 2007-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utilizado con autorización para el curso Sistemas Newtonian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&gt;&gt;x=linspace(-pi,pi,100); plot(x,sin(x)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urier New"/>
              </a:rPr>
              <a:t>title(‘seno’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urier New"/>
              </a:rPr>
              <a:t>xlabel(‘…’)    ylabel(‘…’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urier New"/>
              </a:rPr>
              <a:t>plot(x,y,’r’) %color r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plot(x,y,’k:’); %negro y pun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urier New"/>
              </a:rPr>
              <a:t>plot(x,y,’…’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Various line types, plot symbols and colors may be obtained wi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LOT(X,Y,S) where S is a character string made from one el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from any or all the following 3 column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b     blue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.     point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-     sol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g     green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o     circle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:     dot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     red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x     x-mark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-.    dashdo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     cyan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+     plus 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--    dashed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     magenta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*     star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(none)  no 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y     yellow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     squ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k     black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     diamo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v     triangle (dow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^     triangle (u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     triangle (lef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gt;     triangle (righ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     penta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h     hexa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For example, PLOT(X,Y,'c+:') plots a cyan dotted line with a plu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t each data point; PLOT(X,Y,'bd') plots blue diamond at each dat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oint but does not draw any lin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plot(linspace(-pi,pi,30),sin(x),'b:o'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unción gráf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507520" cy="48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%grafico(a,b,n): grafica f en n ptos de [a,b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grafico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(a,b,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x=linspace(a,b,n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y=f(x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color=input('''color''? '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marca=input('''marca de puntos''? '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s=sprintf('%s%s',color,marca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plot(x,y,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title(input('''titulo''? '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xlabel(input('''eje x''? '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ylabel(input('''eje y''? '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68400"/>
            <a:ext cx="82296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&gt;&gt; x=linspace(-pi,pi,20);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&gt;&gt; plot(x,sin(x),'r--*',x,cos(x),'b--o')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&gt;&gt; legend('seno','coseno'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68400"/>
            <a:ext cx="82296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hold on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plot(x,sin(x),'r--*')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plot(x,cos(x),'b--o')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legend('seno','coseno'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omputación numérica: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Area bajo la curv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79280" y="1557360"/>
            <a:ext cx="8785440" cy="60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urier New"/>
              </a:rPr>
              <a:t>%area(a,b,n): area de f en [a,b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urier New"/>
              </a:rPr>
              <a:t>%usando n p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urier New"/>
              </a:rPr>
              <a:t>function r = area(a,b,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x=linspace(a,b,n-1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y=f(x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suma=sum(y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r=(b-a)/(n-1)*suma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xis([-pi,pi,-1,1]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subplot(2,1,1), plot(x,sin(x),'r--*'), title('seno')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subplot(2,1,2), plot(x,cos(x),'r--*'), title('coseno'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&gt;&gt; rectangle('Curvature',[1 1]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&gt;&gt; help rectang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CTANGLE   Create rectangle, rounded-rectangle, or ellip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CTANGLE adds a default rectangle to the current ax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CTANGLE('Position', [x y w h]) adds a rectangle at th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pecified posi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CTANGLE('Curvature', [0 0], ...) creates a rectang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CTANGLE('Curvature', [1 1], ...) creates an ellip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CTANGLE('Curvature', [x y], ...) creates a rectangle wi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ounded corners where x and y are between 0 and 1 and repres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normalized amount of curvature.  Horizontal curvature (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s the fraction of the width of the position rectangle which 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urved.  Vertical curvature (y) is the fraction of the he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f the position rectangle which is curv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[x y z]=sphere(30);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mesh(x,y,z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urf(x,y,z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Evaluación de una fun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urier New"/>
              </a:rPr>
              <a:t>%f(x): f(x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urier New"/>
              </a:rPr>
              <a:t>function y=f(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y=sin(x);  %ejemp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urier New"/>
              </a:rPr>
              <a:t>&gt;&gt; area(0,pi,2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ans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1.88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57200" y="274680"/>
            <a:ext cx="814716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aíz por búsqueda binar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50920" y="1125360"/>
            <a:ext cx="8893080" cy="50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%raiz(a,b,eps): raiz de f en [a,b] c/prec 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function r=raiz(a,b,ep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while 0=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x=(a+b)/2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if b-a &lt;= eps r=x; return; 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y=f(x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if signo(y) == signo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a=x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b=x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unción sign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%signo(x) devuelve -1, 0 o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function r=signo(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if x&lt;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r = -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lseif x&gt;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r = 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r = 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&gt;&gt; raiz(2\pi,2\3*pi,0.000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ans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3.14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aíz por búsqueda recursiv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68680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%raiz(a,b,eps): raiz de f en [a,b] c/prec 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function r=raiz(a,b,ep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x=(a+b)/2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if b-a &lt;= 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r=x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y=f(x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if signo(y) == signo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r=raiz(x,b,ep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r=raiz(a,x,ep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Escritura” formateada a un str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S=sprintf(formato,X,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scribe el dato X en el string S bajo el control del string form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Ejemplo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 s=sprintf('x=%g',p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s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x=3.1415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No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%g se reempaza por el valor de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%s se usa para strings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78920" y="1557360"/>
            <a:ext cx="871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%Jalisco: nunca pier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n=input('n°? '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disp( sprintf('gano yo con %g',n+1) 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&gt;&gt; Jalis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n°?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gano yo con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Ejemplo con strin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a=rand(2,3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[filas cols]=size(a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for i=1:fil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linea=sprintf('fila %g ',i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for j=1:c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linea=sprintf('%s%g ',linea, a(i,j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disp(linea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fila 1: 0.921813 0.176266 0.93547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fila 2: 0.738207 0.405706 0.916904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Profesor</dc:creator>
  <dc:description/>
  <dc:language>en-US</dc:language>
  <cp:lastModifiedBy>jalvarez</cp:lastModifiedBy>
  <cp:revision>0</cp:revision>
  <dc:subject/>
  <dc:title>Diapositiva 1</dc:title>
</cp:coreProperties>
</file>