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3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52AA-9CC3-4C0F-8A12-717D4921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C813-012E-4D80-841D-BF5E65DD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446A-3319-42C3-AE6C-F4C370CB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EE9-3162-402C-9F42-D5079A3E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EB1-1AFE-44A4-A1A3-F23FDB67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649-00EE-4A3C-9FA7-745D226E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B42-7031-4456-A10D-0C847CC6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47D9-86CA-47D0-9F66-CB25DEE6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5883-BF8C-45B2-B9B3-033F85AA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20E-2799-45DC-81C2-FED86F54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8C14-E641-486E-9E1D-5F3006DF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8C9-9E9A-42FF-A02E-F31ECDA5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8915-2AE6-4410-BEAA-3572FAA05469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Mas sobre métodos numér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8 CuadroTexto"/>
          <p:cNvSpPr/>
          <p:nvPr/>
        </p:nvSpPr>
        <p:spPr>
          <a:xfrm>
            <a:off x="1025280" y="2143080"/>
            <a:ext cx="44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étodo de Euler: ecuaciones de primer or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785960" y="2786040"/>
            <a:ext cx="5724360" cy="2610000"/>
          </a:xfrm>
          <a:prstGeom prst="rect">
            <a:avLst/>
          </a:prstGeom>
          <a:ln w="0">
            <a:noFill/>
          </a:ln>
        </p:spPr>
      </p:pic>
      <p:sp>
        <p:nvSpPr>
          <p:cNvPr id="44" name="11 CuadroTexto"/>
          <p:cNvSpPr/>
          <p:nvPr/>
        </p:nvSpPr>
        <p:spPr>
          <a:xfrm>
            <a:off x="2643120" y="535788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=0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714240" y="1071720"/>
            <a:ext cx="7562880" cy="3476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857160" y="4500720"/>
            <a:ext cx="66866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stribución de Pois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plica a eventos discretos que ocurren en un cierto intervalo de tiempo. Por ejemplo: número de llamados telefónicos en un día, número de autos que pasan por una calle, número de decaimientos radiactivos, número de fotones captados por un fotodiodo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i el número de cuentas es N, lueg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357720" y="5000760"/>
            <a:ext cx="151416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Cifras significativ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=1,345</a:t>
            </a:r>
            <a:r>
              <a:rPr b="0" lang="es-CL" sz="3200" spc="-1" strike="noStrike">
                <a:solidFill>
                  <a:srgbClr val="ff0000"/>
                </a:solidFill>
                <a:latin typeface="Calibri"/>
              </a:rPr>
              <a:t>434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±  0.0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4 Conector recto de flecha"/>
          <p:cNvCxnSpPr/>
          <p:nvPr/>
        </p:nvCxnSpPr>
        <p:spPr>
          <a:xfrm flipV="1">
            <a:off x="2143080" y="2071440"/>
            <a:ext cx="2865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5 CuadroTexto"/>
          <p:cNvSpPr/>
          <p:nvPr/>
        </p:nvSpPr>
        <p:spPr>
          <a:xfrm>
            <a:off x="1162080" y="25002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Calibri"/>
              </a:rPr>
              <a:t>sin senti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7 CuadroTexto"/>
          <p:cNvSpPr/>
          <p:nvPr/>
        </p:nvSpPr>
        <p:spPr>
          <a:xfrm>
            <a:off x="317880" y="2928960"/>
            <a:ext cx="864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ecisión: mínima desviación estándar de u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medi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solución: mínima diferencia de valores medi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357280" y="5072040"/>
            <a:ext cx="1357560" cy="163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857760" y="5072040"/>
            <a:ext cx="13302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ar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Hacer ejercic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studiar LabView SignalExp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8572680" cy="4560840"/>
          </a:xfrm>
          <a:prstGeom prst="rect">
            <a:avLst/>
          </a:prstGeom>
          <a:ln w="0">
            <a:noFill/>
          </a:ln>
        </p:spPr>
      </p:pic>
      <p:sp>
        <p:nvSpPr>
          <p:cNvPr id="46" name="6 CuadroTexto"/>
          <p:cNvSpPr/>
          <p:nvPr/>
        </p:nvSpPr>
        <p:spPr>
          <a:xfrm>
            <a:off x="1167120" y="5715000"/>
            <a:ext cx="48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olución numérica a la ecuación y solución exac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cuación de segundo o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785880" y="1428840"/>
            <a:ext cx="77007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571680"/>
            <a:ext cx="8996400" cy="4786200"/>
          </a:xfrm>
          <a:prstGeom prst="rect">
            <a:avLst/>
          </a:prstGeom>
          <a:ln w="0">
            <a:noFill/>
          </a:ln>
        </p:spPr>
      </p:pic>
      <p:sp>
        <p:nvSpPr>
          <p:cNvPr id="50" name="3 CuadroTexto"/>
          <p:cNvSpPr/>
          <p:nvPr/>
        </p:nvSpPr>
        <p:spPr>
          <a:xfrm>
            <a:off x="1377720" y="5786280"/>
            <a:ext cx="38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olución obtenida por método de Eul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5429160" y="4130640"/>
            <a:ext cx="1857600" cy="272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7524720" y="3500280"/>
            <a:ext cx="161928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5072040" y="2714760"/>
            <a:ext cx="2719440" cy="1685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Métodos experiment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Queremos medir cantidades: distancias, tiempos, velocidades, aceleraciones, fuerzas, voltajes, corrientes, temperatura, campos, presione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4"/>
          <a:stretch/>
        </p:blipFill>
        <p:spPr>
          <a:xfrm>
            <a:off x="857160" y="3786120"/>
            <a:ext cx="419112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stadística bás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Al medir una cantidad repetidas veces, el histograma de frecuencias tiene una distribución norm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714240" y="2928960"/>
            <a:ext cx="2784600" cy="3429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4786200" y="2571840"/>
            <a:ext cx="2638440" cy="485640"/>
          </a:xfrm>
          <a:prstGeom prst="rect">
            <a:avLst/>
          </a:prstGeom>
          <a:ln w="0">
            <a:noFill/>
          </a:ln>
        </p:spPr>
      </p:pic>
      <p:sp>
        <p:nvSpPr>
          <p:cNvPr id="61" name="7 CuadroTexto"/>
          <p:cNvSpPr/>
          <p:nvPr/>
        </p:nvSpPr>
        <p:spPr>
          <a:xfrm>
            <a:off x="4646880" y="3071880"/>
            <a:ext cx="33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onde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 es la desviación estánd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Y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el promed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4429080" y="3714840"/>
            <a:ext cx="3357720" cy="3035160"/>
          </a:xfrm>
          <a:prstGeom prst="rect">
            <a:avLst/>
          </a:prstGeom>
          <a:ln w="0">
            <a:noFill/>
          </a:ln>
        </p:spPr>
      </p:pic>
      <p:sp>
        <p:nvSpPr>
          <p:cNvPr id="63" name="9 CuadroTexto"/>
          <p:cNvSpPr/>
          <p:nvPr/>
        </p:nvSpPr>
        <p:spPr>
          <a:xfrm>
            <a:off x="7786800" y="557208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u/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71680" y="71424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ara una muestra de datos discre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643040" y="1357200"/>
            <a:ext cx="5429160" cy="217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2214720" y="4071960"/>
            <a:ext cx="3457440" cy="1781280"/>
          </a:xfrm>
          <a:prstGeom prst="rect">
            <a:avLst/>
          </a:prstGeom>
          <a:ln w="0">
            <a:noFill/>
          </a:ln>
        </p:spPr>
      </p:pic>
      <p:sp>
        <p:nvSpPr>
          <p:cNvPr id="67" name="6 CuadroTexto"/>
          <p:cNvSpPr/>
          <p:nvPr/>
        </p:nvSpPr>
        <p:spPr>
          <a:xfrm>
            <a:off x="1149120" y="37861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e tie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7 CuadroTexto"/>
          <p:cNvSpPr/>
          <p:nvPr/>
        </p:nvSpPr>
        <p:spPr>
          <a:xfrm>
            <a:off x="2075040" y="435780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ipos de err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600200"/>
            <a:ext cx="43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rrores sistemát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rrores aleato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000840" y="1643040"/>
            <a:ext cx="2333520" cy="2333520"/>
          </a:xfrm>
          <a:prstGeom prst="rect">
            <a:avLst/>
          </a:prstGeom>
          <a:ln w="0">
            <a:noFill/>
          </a:ln>
        </p:spPr>
      </p:pic>
      <p:sp>
        <p:nvSpPr>
          <p:cNvPr id="72" name="4 Rectángulo"/>
          <p:cNvSpPr/>
          <p:nvPr/>
        </p:nvSpPr>
        <p:spPr>
          <a:xfrm>
            <a:off x="500040" y="407196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http://www.space.com/news/orbiter_error_990930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2357280" y="2286000"/>
            <a:ext cx="104796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Tratamiento matemático de err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CuadroTexto"/>
          <p:cNvSpPr/>
          <p:nvPr/>
        </p:nvSpPr>
        <p:spPr>
          <a:xfrm>
            <a:off x="1076760" y="1857240"/>
            <a:ext cx="195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rror absol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rror relat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Su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357720" y="2357280"/>
            <a:ext cx="1714320" cy="438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500800" y="2357280"/>
            <a:ext cx="1295280" cy="285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3857760" y="3500280"/>
            <a:ext cx="1123920" cy="676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4"/>
          <a:stretch/>
        </p:blipFill>
        <p:spPr>
          <a:xfrm>
            <a:off x="3071880" y="5000760"/>
            <a:ext cx="2838240" cy="257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5"/>
          <a:stretch/>
        </p:blipFill>
        <p:spPr>
          <a:xfrm>
            <a:off x="1785960" y="5357880"/>
            <a:ext cx="5276880" cy="885600"/>
          </a:xfrm>
          <a:prstGeom prst="rect">
            <a:avLst/>
          </a:prstGeom>
          <a:ln w="0">
            <a:noFill/>
          </a:ln>
        </p:spPr>
      </p:pic>
      <p:sp>
        <p:nvSpPr>
          <p:cNvPr id="81" name="10 Conector recto"/>
          <p:cNvSpPr/>
          <p:nvPr/>
        </p:nvSpPr>
        <p:spPr>
          <a:xfrm>
            <a:off x="1214280" y="3000240"/>
            <a:ext cx="6858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11 Conector recto"/>
          <p:cNvSpPr/>
          <p:nvPr/>
        </p:nvSpPr>
        <p:spPr>
          <a:xfrm>
            <a:off x="1214280" y="4572000"/>
            <a:ext cx="6858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2:23:05Z</dcterms:created>
  <dc:creator>J</dc:creator>
  <dc:description/>
  <dc:language>en-US</dc:language>
  <cp:lastModifiedBy>J</cp:lastModifiedBy>
  <dcterms:modified xsi:type="dcterms:W3CDTF">2009-08-19T19:46:30Z</dcterms:modified>
  <cp:revision>32</cp:revision>
  <dc:subject/>
  <dc:title>Diapositiva 1</dc:title>
</cp:coreProperties>
</file>