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69E-B8E4-4547-8193-133AF92D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92F-F13D-40D1-8A7C-CEE3CCDC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A21-ADCC-40D9-87BE-C1F77695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AC3-112F-4806-BCC6-1B8F94F9B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7FF-3C6C-45A3-9472-71B8751E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833-E118-40AE-81BF-F4E06962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C0C-537E-4D09-9D3A-CC5F6FF5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4858-EC63-467B-BC9E-B73B4C6D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02E-5B23-4086-93FC-54457005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417-F516-4CFF-A3CA-189D1A4E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F28-9252-405B-BA8B-0BEDF977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3AC-2434-4F98-A5D9-107A1F2A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5076-883C-4BC8-9252-162F6DBE86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gramación de las cl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4" descr=""/>
          <p:cNvPicPr/>
          <p:nvPr/>
        </p:nvPicPr>
        <p:blipFill>
          <a:blip r:embed="rId1"/>
          <a:stretch/>
        </p:blipFill>
        <p:spPr>
          <a:xfrm>
            <a:off x="0" y="2392200"/>
            <a:ext cx="9144000" cy="4205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5"/>
          <p:cNvSpPr/>
          <p:nvPr/>
        </p:nvSpPr>
        <p:spPr>
          <a:xfrm>
            <a:off x="40680" y="1084320"/>
            <a:ext cx="786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Lunes 16:15-19:30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Martes </a:t>
            </a:r>
            <a:r>
              <a:rPr b="1" lang="es-ES" sz="2800" spc="-1" strike="noStrike" u="sng">
                <a:solidFill>
                  <a:srgbClr val="0000ff"/>
                </a:solidFill>
                <a:uFillTx/>
                <a:latin typeface="Arial"/>
              </a:rPr>
              <a:t>14:30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-17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Sala Q10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Sala Gali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36"/>
          <p:cNvSpPr/>
          <p:nvPr/>
        </p:nvSpPr>
        <p:spPr>
          <a:xfrm>
            <a:off x="3419640" y="1197000"/>
            <a:ext cx="0" cy="511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53:00Z</dcterms:created>
  <dc:creator>jlisoni</dc:creator>
  <dc:description/>
  <dc:language>en-US</dc:language>
  <cp:lastModifiedBy>Usuario</cp:lastModifiedBy>
  <dcterms:modified xsi:type="dcterms:W3CDTF">2009-08-04T19:26:09Z</dcterms:modified>
  <cp:revision>22</cp:revision>
  <dc:subject/>
  <dc:title>FI1002 Sistemas Newtonianos</dc:title>
</cp:coreProperties>
</file>