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600-043D-436D-9D4F-8928EC5A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524-5A9F-47BE-BC78-0E5E91FA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B9F-EE5A-465A-AF8E-D7F61D07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256-DD24-4C02-AE6B-8D40064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304-2C57-43FA-AB03-69EF783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958-CD5C-43CE-B706-26E8BA8A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0CF-268B-4A77-9E81-B9EFB51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46C-B84C-43C0-87BE-8B0374B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988-E5DD-4B18-B326-2D5A120F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F88-56E3-4A06-A76E-27CBF17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E94-1DE9-4E72-8E38-10633BB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594-B3D5-456A-AD51-DE5D641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9CC-D31E-4F6E-B789-D974B09152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gramación de las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4" descr=""/>
          <p:cNvPicPr/>
          <p:nvPr/>
        </p:nvPicPr>
        <p:blipFill>
          <a:blip r:embed="rId1"/>
          <a:stretch/>
        </p:blipFill>
        <p:spPr>
          <a:xfrm>
            <a:off x="0" y="2392200"/>
            <a:ext cx="9144000" cy="42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5"/>
          <p:cNvSpPr/>
          <p:nvPr/>
        </p:nvSpPr>
        <p:spPr>
          <a:xfrm>
            <a:off x="40680" y="1084320"/>
            <a:ext cx="786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unes 16:15-19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Martes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14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-17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Q1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Gali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36"/>
          <p:cNvSpPr/>
          <p:nvPr/>
        </p:nvSpPr>
        <p:spPr>
          <a:xfrm>
            <a:off x="3419640" y="1197000"/>
            <a:ext cx="0" cy="51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53:00Z</dcterms:created>
  <dc:creator>jlisoni</dc:creator>
  <dc:description/>
  <dc:language>en-US</dc:language>
  <cp:lastModifiedBy>Usuario</cp:lastModifiedBy>
  <dcterms:modified xsi:type="dcterms:W3CDTF">2009-08-04T19:26:09Z</dcterms:modified>
  <cp:revision>22</cp:revision>
  <dc:subject/>
  <dc:title>FI1002 Sistemas Newtonianos</dc:title>
</cp:coreProperties>
</file>