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D5A1-0987-4637-81AC-E649F65A0F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j() encuentra solamente la traspuesta de la matr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44E7-E804-464D-8B66-C72B29110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E676-60ED-4CB2-A7E9-69C83A876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381F-4C1B-4046-BB5A-6F1961ABC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355B-C7E2-4FE9-B726-ED2781ACF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1E17-1FDC-4621-BD8A-84EF04D57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1484-0248-4C6B-A697-5D3D65ED0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6785-8107-4080-B52B-299C4A606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95DB-F83F-47D2-9A7C-4966C2120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B42B-5F92-45DD-AE9F-F398D4230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2C84-6D6B-4111-BFEB-8AF9F86F7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3DD9-4D80-410E-99ED-11271633C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9875-2860-416E-9C5C-2134558B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55272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d98203"/>
                </a:solidFill>
                <a:latin typeface="Times New Roman"/>
              </a:rPr>
              <a:t>Introducción al uso de MATL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010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37D-95EE-4E73-8C4A-43571FAD78BA}" type="slidenum">
              <a:rPr b="0" lang="es-ES" sz="1000" spc="-1" strike="noStrike">
                <a:solidFill>
                  <a:srgbClr val="d9820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458200" y="6459480"/>
            <a:ext cx="68580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-17640"/>
            <a:ext cx="59436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ditor &amp; Debugg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cheros-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: Son ficheros de texto ASCII con la extensión *.m que pueden conten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s de comandos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ición de funcione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3124080"/>
          <a:ext cx="2130480" cy="20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124080"/>
                    <a:ext cx="213048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19520" y="3429000"/>
            <a:ext cx="228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4143240"/>
          <a:ext cx="3162600" cy="24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143240"/>
                    <a:ext cx="3162600" cy="2409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3048120"/>
          <a:ext cx="3747960" cy="212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048120"/>
                    <a:ext cx="3747960" cy="2128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410080" y="5181480"/>
            <a:ext cx="2082960" cy="1067040"/>
          </a:xfrm>
          <a:custGeom>
            <a:avLst/>
            <a:gdLst/>
            <a:ahLst/>
            <a:rect l="l" t="t" r="r" b="b"/>
            <a:pathLst>
              <a:path w="1312" h="672">
                <a:moveTo>
                  <a:pt x="1248" y="0"/>
                </a:moveTo>
                <a:cubicBezTo>
                  <a:pt x="1280" y="184"/>
                  <a:pt x="1312" y="368"/>
                  <a:pt x="1104" y="480"/>
                </a:cubicBezTo>
                <a:cubicBezTo>
                  <a:pt x="896" y="592"/>
                  <a:pt x="448" y="632"/>
                  <a:pt x="0" y="6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Workspace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obtener información sobre 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se pueden utilizar los comand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as son las variables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o de trabajo bas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1828800"/>
          <a:ext cx="432432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828800"/>
                    <a:ext cx="4324320" cy="3629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ciones de salida numéric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hort: coma fija con 4 decimales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ng: coma fija con 15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ex: cifras hexa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ank: números con 2 cifras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ose: introduce algunas líneas en blanco en la salida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ct: elimina las líneas citad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t: expresa los números racionales como cocientes de ent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trata de mantener el formato de los números que han sido definidos como enteros (sin punto decimal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24160" y="1676520"/>
          <a:ext cx="4533840" cy="36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4160" y="1676520"/>
                    <a:ext cx="4533840" cy="36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hace falta establecer de antemano su tamañ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definen por fil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 una misma fila están separado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anc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a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s filas están separada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nto y coma (;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[1 2 3;4 5 6;7 8 9]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29000" y="4757760"/>
          <a:ext cx="2324160" cy="14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757760"/>
                    <a:ext cx="2324160" cy="141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acceder a los elementos de las matrices se pone los índices entre paréntesis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(1,2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almacenan por column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(aunque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introduzcan por fil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A(4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43480" y="4556160"/>
          <a:ext cx="2019240" cy="16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3480" y="4556160"/>
                    <a:ext cx="2019240" cy="16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d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stra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spuesta y conjug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izquier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derech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antepone un punto (.) se obtiene la operación elemento por element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52680" y="4524480"/>
          <a:ext cx="2428920" cy="20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524480"/>
                    <a:ext cx="2428920" cy="2092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91120" y="16002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165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s operadores se aplican también a valores esca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dor \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 operador \ encuentra la solución al problema lineal Ax=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matriz A no es cuadrada o incluso si no es cuadrada, la solución (por lo general) es la que proporciona e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étodo de los mínimos cuadrad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algunos casos se obtiene la solución para la cual la suma de los valores absolutos de sus componentes sea mínim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362320" y="4419720"/>
          <a:ext cx="213840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419720"/>
                    <a:ext cx="2138400" cy="203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876920" y="4419720"/>
            <a:ext cx="3809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/B=(B’\c’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&gt;MATLAB sólo tiene implementado el operador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trabaja siempre en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doble precisión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, es decir guardando cada dato en 8 bytes, con unas 15 cifras decimales exact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888160" y="2666880"/>
          <a:ext cx="317952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8160" y="2666880"/>
                    <a:ext cx="3179520" cy="3944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28600" y="3352680"/>
            <a:ext cx="556272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la diferencia entre 1.0 y el número de coma flotante inmediatamente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i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pequeño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a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grande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a entrada de datos se pueden utilizar indistintamente la i y la j para representar la unidad imaginari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i o la j no están definidas como variables puede intercalarse el signo (*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9520" y="3297240"/>
          <a:ext cx="351936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297240"/>
                    <a:ext cx="3519360" cy="333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cálculos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uméric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con matric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una amplia variedad de gráficos en dos y tres dimension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392640"/>
          <a:ext cx="3962520" cy="29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92640"/>
                    <a:ext cx="396252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886200" y="3733920"/>
            <a:ext cx="27432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129342"/>
              <a:gd name="adj5" fmla="val 18750"/>
              <a:gd name="adj6" fmla="val 15694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73392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81101"/>
              <a:gd name="adj5" fmla="val 23958"/>
              <a:gd name="adj6" fmla="val -1583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92768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11902"/>
              <a:gd name="adj5" fmla="val 68750"/>
              <a:gd name="adj6" fmla="val -233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038480"/>
            <a:ext cx="2133720" cy="132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791320"/>
            <a:ext cx="251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191120"/>
            <a:ext cx="2438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Matrices Predefinid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ye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identidad de 4x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eros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c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nes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un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n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normal, de valor medio 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nza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gic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on los nº 1,2,...,n*n, tal que sus filas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lumnas suman lo mism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n(pol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uyo polinomio característico tien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o coeficientes los elementos del vector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Formación de una Matriz a partir de otr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filas y columna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th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elemento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=diag(x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matriz diagonal A a part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l vector 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=diag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vector x a partir de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ementos de la diagonal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kdiag(A,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ea una matriz diagonal de submatrices 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tir de A y B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u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triangular superior a partir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90(A,k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ira en k*90º la matriz A en senti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tihorari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=[A eye(3); zeros(3) B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radores relacionales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    men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   may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= men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= may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=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= distinto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15080" y="1523880"/>
          <a:ext cx="336708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5080" y="1523880"/>
                    <a:ext cx="336708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tiene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valor de retorno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llama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utilizando su nombre como un comando 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4267080"/>
          <a:ext cx="388620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4267080"/>
                    <a:ext cx="3886200" cy="96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funciones que no tienen argumentos no llevan paréntesis, ej: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s nombres de las funciones no son palabras reservadas del lenguaje, es posible crear una variable llamad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que ocultan las funciones correspondientes, para acceder a las funciones hay que eliminar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las variables del mismo nombr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ATLAB tiene diversos tipos funciones, a continuación se enumeran los tipos mas importantes, clasificadas según su finalidad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emática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especi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specífica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la descomposición y/o factorización de matric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estadístico de dat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de polinomi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para integración de ed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solución de ecs. No lineales y optimiza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Integración numéric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procesamiento de señal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tinuación se enumeran algunas características de funciones en MATLAB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s argumentos actuales de estas funciones pueden ser expresiones y también llamadas a otra fun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LAB nunca modifica las variables que pasan como argumentos. Si el usuario las modifica dentro de la función, previamente se sacan copias de esas variabl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quivalencia entre comandos y funcion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 comando de la forma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 arg1 arg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 equivalente a una función con el mismo nombre que el comando a la que los argumentos se le pasan como cadena de caracte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(‘arg1’, ‘arg2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elementales que operan de modo escalar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lgunas de las funciones más importantes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in(x)    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s(x)   co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an(x)   tang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g(x)   logaritmo natu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xp(x)   función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qrt(x)  raíz cuadra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loor(x) valor entero más próximo hacia -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window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 la ventana principal, sobre ella se trabajará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orkspac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estra información sobre los elementos que se han cread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His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oge todos los comandos introducid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rrent Direc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ja el directorio personal de trabaj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vecto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siguientes funciones actúan sobre vectores (no sobre matrices ni escalares)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[xm,im]=max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áximo elemento de un vector.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devuelve el valor máximo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 xm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osi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 idem, pero con el mínim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m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suma de los elementos de un vecto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a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valor medio de los elemento de un vect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(x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  producto de los elementos de un vector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e clasificarán en varios  subgrup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lement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calcula la traspuesta (conjugada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.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calcula la traspuesta (sin conjugar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=trac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la traza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el número de fil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de column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 una matriz rectangular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tamaño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speci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A=XDX’, expm(A)=X*diag(exp(diag(        D)))*X’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qrt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una matriz que multiplica por si misma da la matriz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gm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la función recíproca de expm(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^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está definida si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cuadrada y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un número real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factorización y/o descomposición matricial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factorización triangular (eliminación de Gauss)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L,U]=lu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Crout (A=LU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=in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inversa de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=det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vuelve el determinante d de una matriz cuadrada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=chol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una matriz simétrica y positivo-defin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el cálculo de valores y vectores propi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valores propios (diagonal de D) y vectores propios (columnas de X) de una matriz cuadrada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,B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valores propios (diagonal de D) y vectores propios (columnas de X)  de dos matrices cuadradas A y 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Q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Q,R]=qr(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descomposición QR de una matriz rectangular. Se utiliza para sistemas con mas ecuaciones que incógnit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=null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vuelve una base ortonormal del subespacio nulo ( kernel, l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tales que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 A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=0) de la matriz rectangular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=orth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las columnas que son una base ortonormal del espacio de columnas de A. El número de columnas de Q es el rango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de valor singula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U,D,V]=svd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descomposición de valor singular de una matriz rectangular (A=U*D*V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=rank(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)  calcula el rango de u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matriz rectangular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r=norm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norma sub-2 de una matriz ( el mayor valor singula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álculo del rango, normas y condición numér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matri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2, máximo valor singular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2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lo mismo que el anteri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 de A, máxima suma de valores absolutos por column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 A, máxima suma de valores absolutos por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vec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p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p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norma euclídea, equivale al módu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tras funciones que actúan sobre vectores y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s siguientes funciones pueden actuar sobre vectores y matrices y sirven para chequear ciertas condicion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(var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omprueba su la variabl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xis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finite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los valores son infin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empty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un vector o matriz esta vací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char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una variable es una cadena de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aracteres (string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global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 si una variable es glob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TLAB permite trabajar co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hipermatric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es decir con matrices de más de dos dimensiones. Una posible aplicación es almacenar con un único nombre distintas matrices del mismo tamaño (resulta una hipermatriz de 3 dimensiones). Los elementos de una hipermatriz pueden ser números, caracteres, estructuras y vectores o matrices de celd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 de hipermatri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Las funciones para trabajar con hipermatrices están en el sub-directori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oolbox\matlab\datatype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. Las funciones que operan con matrices de más de dos dimensiones son análogas a las funciones vistas previamente, aunque con alguna diferencias. Por ejemplo, las siguientes sentencias generan, en dos pasos, una matriz de 2x3x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952880" y="1752480"/>
          <a:ext cx="403884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752480"/>
                    <a:ext cx="403884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gresemos en la línea de comando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rand(7), B=inv(A), B*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638680" y="2971800"/>
          <a:ext cx="3164040" cy="35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971800"/>
                    <a:ext cx="3164040" cy="3524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70080" y="3352680"/>
          <a:ext cx="194472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0080" y="3352680"/>
                    <a:ext cx="1944720" cy="3048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4038120" y="3809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038120" y="4190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520" y="434340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943600"/>
            <a:ext cx="17528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895480"/>
            <a:ext cx="12193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iones que trabajan con hipermat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lgunas funciones de MATLAB para generar matrices admiten más de dos subíndices y pueden ser utilizadas para generar hipermatrices. Entre ellas está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n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).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Por ejemplo, véase la siguiente sentencia y su resultad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4120" y="2046240"/>
          <a:ext cx="3678120" cy="40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046240"/>
                    <a:ext cx="3678120" cy="404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at(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permite concatenar matrices según las distintas “dimensiones”, como puede verse en el siguiente ejempl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402160" y="1676520"/>
          <a:ext cx="25988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2160" y="1676520"/>
                    <a:ext cx="259884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V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&gt;x=-4:.01:4; y=sin(x); plot(x,y), grid, title(‘Función seno(x)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19520" y="3105000"/>
          <a:ext cx="383364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105000"/>
                    <a:ext cx="3833640" cy="3372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Uso del Help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Help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eb: Equivale a los manuales impreso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m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67080" y="1447920"/>
          <a:ext cx="3124440" cy="22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447920"/>
                    <a:ext cx="3124440" cy="2260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42840" y="3863880"/>
          <a:ext cx="3400560" cy="24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2840" y="3863880"/>
                    <a:ext cx="3400560" cy="2460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800600" y="3776760"/>
          <a:ext cx="3352680" cy="277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776760"/>
                    <a:ext cx="3352680" cy="277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componentes más importantes del entorno de trabajo de MATLAB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ditor &amp; Debu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orkspace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Utilizar y desarrollar programas para MATLAB es mucho más fácil si se conoce bien el entrono de trabaj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puede llamar funciones propias como programadas por el usuario. Incluso funciones distintas con el mismo nomb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utiliza u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rch pat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buscar una funció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ando se utiliza un comando la ruta de busqueda es la siguien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4191120"/>
          <a:ext cx="8763120" cy="219060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una variable definida por 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sub-función o función privada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interna de MAT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el directorio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los directorios del search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: Sirve para modificar la lista de directorios en los que MATLAB busca los ficheros de comandos y las funcion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30360" y="2886120"/>
          <a:ext cx="2458800" cy="33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360" y="2886120"/>
                    <a:ext cx="24588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343400" y="2868480"/>
          <a:ext cx="4191120" cy="338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68480"/>
                    <a:ext cx="4191120" cy="3380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4038480"/>
            <a:ext cx="1676520" cy="152640"/>
          </a:xfrm>
          <a:prstGeom prst="borderCallout1">
            <a:avLst>
              <a:gd name="adj1" fmla="val 18750"/>
              <a:gd name="adj2" fmla="val -8333"/>
              <a:gd name="adj3" fmla="val -158333"/>
              <a:gd name="adj4" fmla="val 22300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1:53:58Z</dcterms:created>
  <dc:creator>mcasanov</dc:creator>
  <dc:description/>
  <dc:language>en-US</dc:language>
  <cp:lastModifiedBy>MTG</cp:lastModifiedBy>
  <dcterms:modified xsi:type="dcterms:W3CDTF">2009-03-18T22:33:07Z</dcterms:modified>
  <cp:revision>12</cp:revision>
  <dc:subject/>
  <dc:title>Presentación de PowerPoint</dc:title>
</cp:coreProperties>
</file>