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2C5B-2246-4FAB-AB54-7155092D4C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j() encuentra solamente la traspuesta de la matr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4C03-08A4-44EF-8629-38F65CE10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1988-C502-4324-AE37-4A7B308EA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10A0-F6C6-434C-B59F-56CE6535A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0A79-BD58-411B-884C-4253411618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1B7F-0FED-4A15-87F4-3F326B9CF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2B18-9F77-4940-B618-AB151FE88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3F8D-BAE2-41CC-8E07-297069470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A6AF-C2B9-479A-AE3F-D923001AF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1548-1688-4836-B43C-E008AAC61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BD0F-0729-440F-87A2-8AE874EB1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82BD-C783-4262-9BE5-907F49343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9950-7D3E-4B62-98EB-616DF31CB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2120" y="6552720"/>
            <a:ext cx="7162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d9820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d98203"/>
                </a:solidFill>
                <a:latin typeface="Times New Roman"/>
              </a:rPr>
              <a:t>Introducción al uso de MATLA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0100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d982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5C18-C7A4-4A57-A71A-B1814AE87192}" type="slidenum">
              <a:rPr b="0" lang="es-ES" sz="1000" spc="-1" strike="noStrike">
                <a:solidFill>
                  <a:srgbClr val="d9820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458200" y="6459480"/>
            <a:ext cx="685800" cy="3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00200" y="-17640"/>
            <a:ext cx="5943600" cy="68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ditor &amp; Debugg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cheros-m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: Son ficheros de texto ASCII con la extensión *.m que pueden conten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s de comandos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inición de funcione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5800" y="3124080"/>
          <a:ext cx="2130480" cy="20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124080"/>
                    <a:ext cx="213048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19520" y="3429000"/>
            <a:ext cx="228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4143240"/>
          <a:ext cx="3162600" cy="24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4143240"/>
                    <a:ext cx="3162600" cy="2409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05520" y="3048120"/>
          <a:ext cx="3747960" cy="2128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3048120"/>
                    <a:ext cx="3747960" cy="2128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410080" y="5181480"/>
            <a:ext cx="2082960" cy="1067040"/>
          </a:xfrm>
          <a:custGeom>
            <a:avLst/>
            <a:gdLst/>
            <a:ahLst/>
            <a:rect l="l" t="t" r="r" b="b"/>
            <a:pathLst>
              <a:path w="1312" h="672">
                <a:moveTo>
                  <a:pt x="1248" y="0"/>
                </a:moveTo>
                <a:cubicBezTo>
                  <a:pt x="1280" y="184"/>
                  <a:pt x="1312" y="368"/>
                  <a:pt x="1104" y="480"/>
                </a:cubicBezTo>
                <a:cubicBezTo>
                  <a:pt x="896" y="592"/>
                  <a:pt x="448" y="632"/>
                  <a:pt x="0" y="672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Workspace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a obtener información sobre 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orkspace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se pueden utilizar los comand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who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as son las variables de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o de trabajo base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00600" y="1828800"/>
          <a:ext cx="4324320" cy="36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828800"/>
                    <a:ext cx="4324320" cy="3629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ontrol de los Formatos de Salid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ciones de salida numérica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hort: coma fija con 4 decimales (defec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ng: coma fija con 15 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ex: cifras hexa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ank: números con 2 cifras decim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ose: introduce algunas líneas en blanco en la salida (defec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act: elimina las líneas citad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t: expresa los números racionales como cocientes de enter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Control de los Formatos de Salida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trata de mantener el formato de los números que han sido definidos como enteros (sin punto decimal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24160" y="1676520"/>
          <a:ext cx="4533840" cy="36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24160" y="1676520"/>
                    <a:ext cx="4533840" cy="36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Definición de Matrices desde el Teclad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No hace falta establecer de antemano su tamañ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s matrices se definen por fil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s elementos de una misma fila están separados p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lanco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a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s filas están separadas po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nto y coma (;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gt;&gt;A=[1 2 3;4 5 6;7 8 9]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29000" y="4757760"/>
          <a:ext cx="2324160" cy="14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4757760"/>
                    <a:ext cx="2324160" cy="1414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Definición de Matrices desde el Teclado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a acceder a los elementos de las matrices se pone los índices entre paréntesis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(1,2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as matrices se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almacenan por columna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(aunque se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introduzcan por fila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j. A(4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543480" y="4556160"/>
          <a:ext cx="2019240" cy="16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3480" y="4556160"/>
                    <a:ext cx="2019240" cy="1692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ciones con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d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stra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ltiplic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spuesta y conjug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visión-izquier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visión-derech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antepone un punto (.) se obtiene la operación elemento por element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52680" y="4524480"/>
          <a:ext cx="2428920" cy="20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4524480"/>
                    <a:ext cx="2428920" cy="2092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191120" y="1600200"/>
            <a:ext cx="304560" cy="2362320"/>
          </a:xfrm>
          <a:custGeom>
            <a:avLst/>
            <a:gdLst>
              <a:gd name="textAreaLeft" fmla="*/ 0 w 304560"/>
              <a:gd name="textAreaRight" fmla="*/ 10980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165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os operadores se aplican también a valores esca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ciones con Matrices (II).</a:t>
            </a:r>
            <a:br>
              <a:rPr sz="4400"/>
            </a:b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Operador \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l operador \ encuentra la solución al problema lineal Ax=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la matriz A no es cuadrada o incluso si no es cuadrada, la solución (por lo general) es la que proporciona el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étodo de los mínimos cuadrado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algunos casos se obtiene la solución para la cual la suma de los valores absolutos de sus componentes sea mínim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362320" y="4419720"/>
          <a:ext cx="2138400" cy="20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419720"/>
                    <a:ext cx="2138400" cy="2038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876920" y="4419720"/>
            <a:ext cx="3809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cumpl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/B=(B’\c’)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&gt;MATLAB sólo tiene implementado el operador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Dato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LAB trabaja siempre en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doble precisión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, es decir guardando cada dato en 8 bytes, con unas 15 cifras decimales exact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888160" y="2666880"/>
          <a:ext cx="3179520" cy="39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88160" y="2666880"/>
                    <a:ext cx="3179520" cy="3944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28600" y="3352680"/>
            <a:ext cx="5562720" cy="30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p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la diferencia entre 1.0 y el número de coma flotante inmediatamente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mi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el número más pequeño con que se puede 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ma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devuelve el número más grande con que se puede trab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Datos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a entrada de datos se pueden utilizar indistintamente la i y la j para representar la unidad imaginari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 la i o la j no están definidas como variables puede intercalarse el signo (*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19520" y="3297240"/>
          <a:ext cx="351936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297240"/>
                    <a:ext cx="3519360" cy="3332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aliza cálculos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numéricos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con matric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aliza una amplia variedad de gráficos en dos y tres dimension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743200" y="3392640"/>
          <a:ext cx="3962520" cy="29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392640"/>
                    <a:ext cx="3962520" cy="29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886200" y="3733920"/>
            <a:ext cx="2743200" cy="2438280"/>
          </a:xfrm>
          <a:prstGeom prst="borderCallout2">
            <a:avLst>
              <a:gd name="adj1" fmla="val 18750"/>
              <a:gd name="adj2" fmla="val -8333"/>
              <a:gd name="adj3" fmla="val 4689"/>
              <a:gd name="adj4" fmla="val 129342"/>
              <a:gd name="adj5" fmla="val 18750"/>
              <a:gd name="adj6" fmla="val 15694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3733920"/>
            <a:ext cx="1066680" cy="121896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81101"/>
              <a:gd name="adj5" fmla="val 23958"/>
              <a:gd name="adj6" fmla="val -1583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4927680"/>
            <a:ext cx="1066680" cy="121896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-11902"/>
              <a:gd name="adj5" fmla="val 68750"/>
              <a:gd name="adj6" fmla="val -2336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4038480"/>
            <a:ext cx="2133720" cy="1326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rrent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ork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5791320"/>
            <a:ext cx="25146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and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4191120"/>
            <a:ext cx="2438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and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Tipos de Matrices Predefinido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ye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identidad de 4x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eros(n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cer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nes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un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nd(n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nº aleatorios entre 0 y 1, co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tribución 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ndn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de nº aleatorios entre 0 y 1, co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tribución normal, de valor medio 0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nza 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gic(n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con los nº 1,2,...,n*n, tal que sus filas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lumnas suman lo mism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n(pol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cuyo polinomio característico tien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o coeficientes los elementos del vector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Formación de una Matriz a partir de otr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[m,n]=size(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º de filas y columnas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th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º de elementos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=diag(x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orma matriz diagonal A a partir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s elementos del vector 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=diag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orma vector x a partir de lo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lementos de la diagonal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kdiag(A,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ea una matriz diagonal de submatrices 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tir de A y B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iu(A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riz triangular superior a partir de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90(A,k)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ira en k*90º la matriz A en senti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tihorari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  <a:tab algn="l" pos="101599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=[A eye(3); zeros(3) B]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peradores relacionales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    menor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   mayor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= menor o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= mayor o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= igual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~= distinto qu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915080" y="1523880"/>
          <a:ext cx="3367080" cy="37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15080" y="1523880"/>
                    <a:ext cx="3367080" cy="3733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Una función tiene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valor de retorno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argumento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Una fun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llama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utilizando su nombre como un comando m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0" y="4267080"/>
          <a:ext cx="3886200" cy="96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4267080"/>
                    <a:ext cx="3886200" cy="963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s funciones que no tienen argumentos no llevan paréntesis, ej: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os nombres de las funciones no son palabras reservadas del lenguaje, es posible crear una variable llamada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 que ocultan las funciones correspondientes, para acceder a las funciones hay que eliminar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) las variables del mismo nombre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I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MATLAB tiene diversos tipos funciones, a continuación se enumeran los tipos mas importantes, clasificadas según su finalidad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emáticas element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especi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riciales elemental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matriciales específica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la descomposición y/o factorización de matric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análisis estadístico de dat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para análisis de polinomi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para integración de ed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Resolución de ecs. No lineales y optimizació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Integración numéric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de procesamiento de señal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racterísticas generales de las funciones de MATLAB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ntinuación se enumeran algunas características de funciones en MATLAB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s argumentos actuales de estas funciones pueden ser expresiones y también llamadas a otra funció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LAB nunca modifica las variables que pasan como argumentos. Si el usuario las modifica dentro de la función, previamente se sacan copias de esas variable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quivalencia entre comandos y funcion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 comando de la forma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gt; comando arg1 arg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s equivalente a una función con el mismo nombre que el comando a la que los argumentos se le pasan como cadena de caracte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&gt; comando(‘arg1’, ‘arg2’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elementales que operan de modo escalar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lgunas de las funciones más importantes so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in(x)    sen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os(x)   cosen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an(x)   tangent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og(x)   logaritmo natu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exp(x)   función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qrt(x)  raíz cuadra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loor(x) valor entero más próximo hacia -</a:t>
            </a:r>
            <a:r>
              <a:rPr b="0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and window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 la ventana principal, sobre ella se trabajará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Workspac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uestra información sobre los elementos que se han cread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and History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oge todos los comandos introducido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rrent Directory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ija el directorio personal de trabajo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que actúan sobre vector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s siguientes funciones actúan sobre vectores (no sobre matrices ni escalares)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[xm,im]=max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máximo elemento de un vector.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devuelve el valor máximo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 xm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y l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osi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im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n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   idem, pero con el mínim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m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  suma de los elementos de un vector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an(x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 valor medio de los elemento de un vect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(x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)   producto de los elementos de un vector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e clasificarán en varios  subgrupo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matriciales elementale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=A’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calcula la traspuesta (conjugada) de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=A.’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calcula la traspuesta (sin conjugar) de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=trac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la traza de una matriz cuadrada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[m,n]=siz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el número de filas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y de columnas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 una matriz rectangular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=size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tamaño de una matriz cuadrada 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matriciales especiale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pm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si A=XDX’, expm(A)=X*diag(exp(diag(        D)))*X’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qrtm(A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devuelve una matriz que multiplica por si misma da la matriz 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gm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s la función recíproca de expm(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^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 está definida si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s cuadrada y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un número real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unciones de factorización y/o descomposición matricial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factorización triangular (eliminación de Gauss)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L,U]=lu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scomposición de Crout (A=LU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=inv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calcula la inversa de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=det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vuelve el determinante d de una matriz cuadrada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=chol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descomposición de una matriz simétrica y positivo-defin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el cálculo de valores y vectores propio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X,D]=eig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 valores propios (diagonal de D) y vectores propios (columnas de X) de una matriz cuadrada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X,D]=eig(A,B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valores propios (diagonal de D) y vectores propios (columnas de X)  de dos matrices cuadradas A y B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descomposición Q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[Q,R]=qr(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descomposición QR de una matriz rectangular. Se utiliza para sistemas con mas ecuaciones que incógnit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=null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devuelve una base ortonormal del subespacio nulo ( kernel, los 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tales que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 Ax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=0) de la matriz rectangular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=orth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las columnas que son una base ortonormal del espacio de columnas de A. El número de columnas de Q es el rango de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unciones basadas en la descomposición de valor singula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[U,D,V]=svd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descomposición de valor singular de una matriz rectangular (A=U*D*V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=rank(A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)  calcula el rango de u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matriz rectangular 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r=norm(A)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calcula la norma sub-2 de una matriz ( el mayor valor singular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unciones que actúan sobre matrices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(continuación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álculo del rango, normas y condición numér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Normas de matrices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2, máximo valor singular de 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2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lo mismo que el anteri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1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1 de A, máxima suma de valores absolutos por column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A,inf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</a:t>
            </a: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de A, máxima suma de valores absolutos por fil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Normas de vec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p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p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 norma euclídea, equivale al módu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inf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 norma sub-</a:t>
            </a: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rm(x,1)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norma sub-1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Otras funciones que actúan sobre vectores y matri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as siguientes funciones pueden actuar sobre vectores y matrices y sirven para chequear ciertas condiciones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(var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omprueba su la variable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exis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finite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a si los valores son infinit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empty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a si un vector o matriz esta vací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char(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si una variable es una cadena de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aracteres (string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7280"/>
                <a:tab algn="l" pos="1943280"/>
                <a:tab algn="l" pos="2158920"/>
                <a:tab algn="l" pos="2374920"/>
                <a:tab algn="l" pos="2590920"/>
                <a:tab algn="l" pos="2806560"/>
                <a:tab algn="l" pos="3022560"/>
                <a:tab algn="l" pos="3238560"/>
                <a:tab algn="l" pos="3454560"/>
                <a:tab algn="l" pos="3670200"/>
                <a:tab algn="l" pos="3886200"/>
                <a:tab algn="l" pos="4102200"/>
                <a:tab algn="l" pos="4317840"/>
                <a:tab algn="l" pos="45338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sglobal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cheque si una variable es glob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MATLAB permite trabajar co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hipermatrice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, es decir con matrices de más de dos dimensiones. Una posible aplicación es almacenar con un único nombre distintas matrices del mismo tamaño (resulta una hipermatriz de 3 dimensiones). Los elementos de una hipermatriz pueden ser números, caracteres, estructuras y vectores o matrices de celda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 de hipermatric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Las funciones para trabajar con hipermatrices están en el sub-directorio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toolbox\matlab\datatype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. Las funciones que operan con matrices de más de dos dimensiones son análogas a las funciones vistas previamente, aunque con alguna diferencias. Por ejemplo, las siguientes sentencias generan, en dos pasos, una matriz de 2x3x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952880" y="1752480"/>
          <a:ext cx="403884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752480"/>
                    <a:ext cx="4038840" cy="441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II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imera aproximación a la potencia de MATLAB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gresemos en la línea de comandos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&gt;&gt;A=rand(7), B=inv(A), B*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638680" y="2971800"/>
          <a:ext cx="3164040" cy="352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971800"/>
                    <a:ext cx="3164040" cy="3524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170080" y="3352680"/>
          <a:ext cx="1944720" cy="304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70080" y="3352680"/>
                    <a:ext cx="1944720" cy="3048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H="1">
            <a:off x="4038120" y="3809880"/>
            <a:ext cx="1752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038120" y="419076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962520" y="4343400"/>
            <a:ext cx="1828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5943600"/>
            <a:ext cx="175284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2895480"/>
            <a:ext cx="12193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iones que trabajan con hipermat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Algunas funciones de MATLAB para generar matrices admiten más de dos subíndices y pueden ser utilizadas para generar hipermatrices. Entre ellas está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),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n(),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)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).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Por ejemplo, véase la siguiente sentencia y su resultad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334120" y="2046240"/>
          <a:ext cx="3678120" cy="404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2046240"/>
                    <a:ext cx="3678120" cy="404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ipermatrices (arrays de más dos dimensiones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 funció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at()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permite concatenar matrices según las distintas “dimensiones”, como puede verse en el siguiente ejempl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402160" y="1676520"/>
          <a:ext cx="259884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02160" y="1676520"/>
                    <a:ext cx="259884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l Programa (IV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imera aproximación a la potencia de MATLAB.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&gt;x=-4:.01:4; y=sin(x); plot(x,y), grid, title(‘Función seno(x)’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819520" y="3105000"/>
          <a:ext cx="383364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105000"/>
                    <a:ext cx="3833640" cy="3372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Uso del Help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657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LAB Help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Web: Equivale a los manuales impreso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emo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267080" y="1447920"/>
          <a:ext cx="3124440" cy="22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447920"/>
                    <a:ext cx="3124440" cy="2260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42840" y="3863880"/>
          <a:ext cx="3400560" cy="246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2840" y="3863880"/>
                    <a:ext cx="3400560" cy="2460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800600" y="3776760"/>
          <a:ext cx="3352680" cy="2776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3776760"/>
                    <a:ext cx="3352680" cy="2776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componentes más importantes del entorno de trabajo de MATLAB son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th Brow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ditor &amp; Debugg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orkspace Brows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Utilizar y desarrollar programas para MATLAB es mucho más fácil si se conoce bien el entrono de trabajo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ath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puede llamar funciones propias como programadas por el usuario. Incluso funciones distintas con el mismo nombr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TLAB utiliza u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arch pat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a buscar una función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uando se utiliza un comando la ruta de busqueda es la siguient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4191120"/>
          <a:ext cx="8763120" cy="219060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una variable definida por 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sub-función o función privada d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función del usu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es función interna de MATL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hay un fichero *.mex, *.dll, *.m en el directorio ac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ueba si hay un fichero *.mex, *.dll, *.m en los directorios del search 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ntorno de Trabajo (II).</a:t>
            </a:r>
            <a:br>
              <a:rPr sz="4400"/>
            </a:b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Path Browser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th Browser: Sirve para modificar la lista de directorios en los que MATLAB busca los ficheros de comandos y las funcione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30360" y="2886120"/>
          <a:ext cx="2458800" cy="33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360" y="2886120"/>
                    <a:ext cx="24588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343400" y="2868480"/>
          <a:ext cx="4191120" cy="338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68480"/>
                    <a:ext cx="4191120" cy="3380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9480" y="4038480"/>
            <a:ext cx="1676520" cy="152640"/>
          </a:xfrm>
          <a:prstGeom prst="borderCallout1">
            <a:avLst>
              <a:gd name="adj1" fmla="val 18750"/>
              <a:gd name="adj2" fmla="val -8333"/>
              <a:gd name="adj3" fmla="val -158333"/>
              <a:gd name="adj4" fmla="val 22300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1:53:58Z</dcterms:created>
  <dc:creator>mcasanov</dc:creator>
  <dc:description/>
  <dc:language>en-US</dc:language>
  <cp:lastModifiedBy>MTG</cp:lastModifiedBy>
  <dcterms:modified xsi:type="dcterms:W3CDTF">2009-03-18T22:33:07Z</dcterms:modified>
  <cp:revision>12</cp:revision>
  <dc:subject/>
  <dc:title>Presentación de PowerPoint</dc:title>
</cp:coreProperties>
</file>