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06B2-2EAD-4B27-9ACC-55F0B61CD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1849-31B9-425B-BF8E-17E5B4D6A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0901-967E-4406-867B-12C44EB58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CC87-A6D7-4BD8-B17F-856BA97D9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2F92A-3000-452D-AF60-1EA96E57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F2760-A37A-4E80-9DAB-088B570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9BC83-1DCE-46F4-8676-4304B1ED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0C548-4D68-40FB-A394-D5A78383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2719C-3A86-4430-8F11-194940B1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B965B-BBE2-4BE0-86EE-48FAE99D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96A9-4AAA-494E-8BE7-E2522C5F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2C27-FB4E-4222-BA9A-A423EB676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AE343-DB36-4E08-9ECF-79FC17A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EB37C-428E-4073-BC24-D40793F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F3F74-3126-4764-A6DC-C5FF2E9D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BD538-E3BB-467C-A07F-D15B11C7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A184B-BB41-4945-8BB4-E6C3F78A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0DAC-1239-4931-A931-32268CE1C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D4DC-C416-437E-97C9-F481FAE98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42B6-8ABA-452F-99A8-E427339E2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A0D4-5401-46D4-8B46-318B3A3C3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47C6-0AB3-41C7-8DDE-FD509C41A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716B-8B83-454A-8B17-CE839F656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F4B0-8E11-4A45-A2BB-7E7091341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Line 15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16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82640" y="6237000"/>
            <a:ext cx="56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22" descr="pic1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BB9F-E801-4B59-8CC0-EF59C04A32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actu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5560" y="149976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Motivación al Taller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Concepto Empres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ligencia Emocio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- 1er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– 2d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inici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Concepto Empresa (1era semana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 (semanas 2 y 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 Comunicación (semana 4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 (semana 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(Semanas 6, 7 y 8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 (semanas 9 y 10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rvención Organizacional (semana 11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Control de Gestión (semana 12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 (semana 1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(semanas 14 y 1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9-08-05T03:22:18Z</dcterms:modified>
  <cp:revision>93</cp:revision>
  <dc:subject/>
  <dc:title>C</dc:title>
</cp:coreProperties>
</file>