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1553-F6DF-471A-A0AB-E90F4DECE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8751-6B34-4187-B215-CADDBF732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732D-A870-4FB2-910F-8265EAD5E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E212-C406-4008-83A7-B547A0E0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755D7-D6D1-4D6A-8013-D1D77A9F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F45D-587B-4A09-9499-BC808CA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D18ED-A40E-4BD2-B3D3-08EE6B8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A40D-8BCE-4B2A-8EEF-E6BFE524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C345F-D72A-4373-94DF-863FA53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8693B-C30B-4705-87DF-6E5D74D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25E5E-F673-4ED9-9CC2-89EFA4B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9598-C42D-4648-91CA-AE920DFC7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32D78-619F-4FCC-92FB-9BE9149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EB05A-04A3-4740-B161-8A5729B7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C5EDD-6D43-49FB-99BC-C7412E9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35956-53C2-4870-9FF7-9AC2C92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C67A6-1375-42C7-8D99-D394741C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5ADE-B50A-4AE5-8444-D43570334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7591-CC2D-4110-A2A5-923256B7A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343B-E160-4FD3-AD08-CE6FB060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BFCE-F631-452C-874F-85CC2E033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3F67-9139-44BF-97B5-89E5B65D3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BDF8-E0F1-4EAD-B0A8-62765E643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7904-DD19-4E9A-AC21-444688415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C0C9-4724-4FFC-AFBA-0CC8D9B25A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actu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5560" y="149976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Motivación al Taller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Concepto Empres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ligencia Emocio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- 1er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– 2d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inici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Concepto Empresa (1era semana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 (semanas 2 y 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 Comunicación (semana 4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 (semana 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(Semanas 6, 7 y 8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 (semanas 9 y 10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rvención Organizacional (semana 11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Control de Gestión (semana 12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 (semana 1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(semanas 14 y 1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8-05T03:22:18Z</dcterms:modified>
  <cp:revision>93</cp:revision>
  <dc:subject/>
  <dc:title>C</dc:title>
</cp:coreProperties>
</file>