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22EC-6DCD-4700-9B65-0F38153BE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A217-AC74-4435-9927-55A0A7813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9804-1FAA-437B-AACD-0BE8B0DDA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AC06-64E5-45BE-A095-ADA3D898D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E4A07-9FDF-4F14-8C1A-5D279A7D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C9838-294A-403A-A524-6623E1F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8950F-2A13-4B81-B6E5-1D7E74C3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BCDE0-6FD2-4C43-8FBC-8831258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60980-EE8E-4032-95A6-17CF9A1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AC681-2788-4542-9186-285E2E6A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57BDB-0DE3-43D4-B51F-B596293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4413-3643-43E7-8968-E675D4B77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D9CA0-6B90-4C79-91E8-57B6F12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B89E1-549D-47F3-BBE3-8CEB43A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86BC3-C3DD-4C3B-A3F3-7BFF0170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DF6C0-4179-4FAA-B928-66A829C8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7AC8D-34CB-4BE1-B1CD-414D5E3F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6F5D-36B8-430F-931D-5B4C66C8F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FD37-0B56-4439-A0DD-5FB10D1BB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CC43-BDC2-4025-9BDD-2E1529610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C3B0-FF28-4707-A26B-844C80705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FA2F-04A3-4F73-8BF2-05A78692A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3554-923E-493D-B0F3-31BD0291F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BB32-1073-4102-B283-3964F4AA9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4A6-A643-4641-94C0-25E9FFF27E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actu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5560" y="149976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Motivación al Taller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Concepto Empres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ligencia Emocio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- 1er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– 2d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inici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Concepto Empresa (1era semana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 (semanas 2 y 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 Comunicación (semana 4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 (semana 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(Semanas 6, 7 y 8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 (semanas 9 y 10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rvención Organizacional (semana 11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Control de Gestión (semana 12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 (semana 1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(semanas 14 y 1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8-05T03:22:18Z</dcterms:modified>
  <cp:revision>93</cp:revision>
  <dc:subject/>
  <dc:title>C</dc:title>
</cp:coreProperties>
</file>