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59BEF-76EB-4C5C-A86D-5CD1EBA07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DD5C-C64D-4A58-816D-E9F68A98F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FCA83-9FBA-42F0-82B1-2F3B12359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9BE2B-FBAB-4241-BF9E-56FCD3FCF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E3E1D-8ADB-4EC0-B3C8-19C3B0CE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D7BA21-5BEE-4B13-BB08-ECCF1FED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BD14B-3B39-4CC2-9EB7-0F6C3C6DA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83196-EA6D-4E8D-8881-2E7EF25B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36C9D-8272-4DA3-9FD1-52638C2B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58BC0-47AD-4F69-8936-AF845023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D6DD0-21E8-4BE0-8D82-1C775922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A7835-B099-4FF0-9DA0-F0C3B5427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6CF40-BC38-4102-8D03-51969E1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7C0D3-963D-4EE6-839E-2FCFA267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A2DD9-8FA9-40E4-8723-79AF7407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CAB12-38A7-45FA-B49F-45A1D93E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24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3560" y="141300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128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24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3560" y="3721320"/>
            <a:ext cx="26006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BEBD9-DCD3-4EF9-B491-8629B8EA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33694-19CA-4D8C-92C8-59480BE8B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9B219-087F-4F2C-AA6D-D7252CEF7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45A9B-E956-4B3E-AC4C-69BD2CCA9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C87F-9D8C-4540-99FA-4AEF00A4F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719B1-0EB9-4045-82EA-5EE4A066E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9840" y="372132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7730-2078-42BC-B3BD-700B131DC4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9840" y="1413000"/>
            <a:ext cx="39412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1280" y="3721320"/>
            <a:ext cx="80769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DF578-A36A-45D6-82BD-85A5EAE817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65276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Line 15"/>
          <p:cNvSpPr/>
          <p:nvPr/>
        </p:nvSpPr>
        <p:spPr>
          <a:xfrm>
            <a:off x="609480" y="1523880"/>
            <a:ext cx="0" cy="441972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Line 16"/>
          <p:cNvSpPr/>
          <p:nvPr/>
        </p:nvSpPr>
        <p:spPr>
          <a:xfrm>
            <a:off x="609480" y="5943600"/>
            <a:ext cx="815364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3482640" y="6237000"/>
            <a:ext cx="56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2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" name="Picture 22" descr="pic1"/>
          <p:cNvPicPr/>
          <p:nvPr/>
        </p:nvPicPr>
        <p:blipFill>
          <a:blip r:embed="rId2"/>
          <a:stretch/>
        </p:blipFill>
        <p:spPr>
          <a:xfrm>
            <a:off x="539640" y="6093000"/>
            <a:ext cx="193356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0854-6C58-4266-A608-1CCDED159C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actu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5560" y="149976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Motivación al Taller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Concepto Empres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ligencia Emocio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- 1er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– 2da Charla Ejecutivo Invitado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3 Marcador de número de diapositiva"/>
          <p:cNvSpPr/>
          <p:nvPr/>
        </p:nvSpPr>
        <p:spPr>
          <a:xfrm>
            <a:off x="3483000" y="6237360"/>
            <a:ext cx="566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808080"/>
                </a:solidFill>
                <a:latin typeface="Times New Roman"/>
              </a:rPr>
              <a:t>Taller de Desarrollo de Competencias Directiva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685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 Narrow"/>
              </a:rPr>
              <a:t>Contenidos (programa inicial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roducción  - Concepto Empresa (1era semana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s Organizaciones y su Cultura (semanas 2 y 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a Comunicación (semana 4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Presentaciones Efectivas (semana 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Liderazgo  (Semanas 6, 7 y 8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1er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quipos de Alto Desempeño (semanas 9 y 10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tervención Organizacional (semana 11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Control de Gestión (semana 12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  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Administración del Tiempo (semana 13)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Elementos de Negociación (semanas 14 y 15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2da Evaluación Escrita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99"/>
                </a:solidFill>
                <a:latin typeface="Arial Narrow"/>
              </a:rPr>
              <a:t>Examen fin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3:10:07Z</dcterms:created>
  <dc:creator>mmonsalves</dc:creator>
  <dc:description/>
  <dc:language>en-US</dc:language>
  <cp:lastModifiedBy>ALVARO SILVA MADRID</cp:lastModifiedBy>
  <dcterms:modified xsi:type="dcterms:W3CDTF">2009-08-05T03:22:18Z</dcterms:modified>
  <cp:revision>93</cp:revision>
  <dc:subject/>
  <dc:title>C</dc:title>
</cp:coreProperties>
</file>