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34F6-0E86-48A4-9BEB-04C9D526EE2B}"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8D3B-BC96-4E46-B383-E7682909B26E}"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DFD6-D7F1-4905-BE69-CE032D966192}"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7517-C507-4C77-8E1D-C29350153288}"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BC6A1-E5D4-4EB8-BC3A-4656FCCD85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D0708D01-FB1F-4637-925A-B0A50787D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BAB6A051-B0F0-4D49-82B6-F58BD25FF4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F32CCB35-5ED0-4BD0-A8BC-9FCB2A2902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1BB949-DB0D-44A4-AED8-12D9E7B19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271331-8EFF-4D37-AA4A-0032854F7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E1CB25-D5D1-4E52-96ED-9D88C6B1E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519763-5B6E-4DD7-92DB-6E26CDFD7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4F2BA7-0EAD-40A8-AE9E-5B967D9ED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7832CF-32B5-4E96-8C55-60DDCF9D7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F95AF4-1076-4966-A11B-AE6C456A1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082D28C-277A-4EE4-9947-6BA11371F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A51D51-2258-4156-B665-10E43C149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9D182B-D4DA-47DF-87C1-494B4FAEE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DD78C4-6966-44FF-92A9-5F72209BC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B4AEAF-07F7-4487-BE90-373761D728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562DCD-2F63-4DD0-9B35-129129F44E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1C461B9-F352-4112-89FC-75D492F06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641D035B-EFF2-4907-908D-C5CB443D4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F28AF7DE-0ECB-4575-8657-075F40E2E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A2A7DA83-D22C-4130-AB6A-6160B19747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25D6A8EE-EE5C-41A1-B0E7-926A8B7C0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F63D643D-9FAE-4A61-B58E-ADEBCF7CD4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DAE8A149-0A02-42DF-85A0-CFAA83B1E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44E2-1504-4812-9638-EAA4E75744C1}"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1"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48"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1"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4" name="Picture 4" descr="RELACIONES"/>
          <p:cNvPicPr/>
          <p:nvPr/>
        </p:nvPicPr>
        <p:blipFill>
          <a:blip r:embed="rId1"/>
          <a:stretch/>
        </p:blipFill>
        <p:spPr>
          <a:xfrm>
            <a:off x="179280" y="2349360"/>
            <a:ext cx="8785440" cy="2444760"/>
          </a:xfrm>
          <a:prstGeom prst="rect">
            <a:avLst/>
          </a:prstGeom>
          <a:ln w="0">
            <a:noFill/>
          </a:ln>
        </p:spPr>
      </p:pic>
      <p:sp>
        <p:nvSpPr>
          <p:cNvPr id="155"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58" name="Picture 4" descr="RELACIONES (2)"/>
          <p:cNvPicPr/>
          <p:nvPr/>
        </p:nvPicPr>
        <p:blipFill>
          <a:blip r:embed="rId1"/>
          <a:stretch/>
        </p:blipFill>
        <p:spPr>
          <a:xfrm>
            <a:off x="684360" y="1494000"/>
            <a:ext cx="8280360" cy="4311360"/>
          </a:xfrm>
          <a:prstGeom prst="rect">
            <a:avLst/>
          </a:prstGeom>
          <a:ln w="0">
            <a:noFill/>
          </a:ln>
        </p:spPr>
      </p:pic>
      <p:sp>
        <p:nvSpPr>
          <p:cNvPr id="159"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2" name="Picture 4" descr="Cambios al Interior de la Empresa"/>
          <p:cNvPicPr/>
          <p:nvPr/>
        </p:nvPicPr>
        <p:blipFill>
          <a:blip r:embed="rId1"/>
          <a:stretch/>
        </p:blipFill>
        <p:spPr>
          <a:xfrm>
            <a:off x="826920" y="1925640"/>
            <a:ext cx="7921800" cy="3516480"/>
          </a:xfrm>
          <a:prstGeom prst="rect">
            <a:avLst/>
          </a:prstGeom>
          <a:ln w="0">
            <a:noFill/>
          </a:ln>
        </p:spPr>
      </p:pic>
      <p:sp>
        <p:nvSpPr>
          <p:cNvPr id="163"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6"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69"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2" name="Picture 4" descr="iceberg-croped"/>
          <p:cNvPicPr/>
          <p:nvPr/>
        </p:nvPicPr>
        <p:blipFill>
          <a:blip r:embed="rId1"/>
          <a:stretch/>
        </p:blipFill>
        <p:spPr>
          <a:xfrm>
            <a:off x="2340000" y="1504800"/>
            <a:ext cx="4753080" cy="4660920"/>
          </a:xfrm>
          <a:prstGeom prst="rect">
            <a:avLst/>
          </a:prstGeom>
          <a:ln w="0">
            <a:noFill/>
          </a:ln>
        </p:spPr>
      </p:pic>
      <p:sp>
        <p:nvSpPr>
          <p:cNvPr id="173"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4"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5"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6"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77"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198"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07"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0"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6"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17"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18"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1" name="Picture 3" descr="landing1"/>
          <p:cNvPicPr/>
          <p:nvPr/>
        </p:nvPicPr>
        <p:blipFill>
          <a:blip r:embed="rId1"/>
          <a:stretch/>
        </p:blipFill>
        <p:spPr>
          <a:xfrm>
            <a:off x="122400" y="115920"/>
            <a:ext cx="8864280" cy="6062760"/>
          </a:xfrm>
          <a:prstGeom prst="rect">
            <a:avLst/>
          </a:prstGeom>
          <a:ln w="0">
            <a:noFill/>
          </a:ln>
        </p:spPr>
      </p:pic>
      <p:sp>
        <p:nvSpPr>
          <p:cNvPr id="222"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repl">
                                        <p:cTn id="19" dur="2000" fill="hold"/>
                                        <p:tgtEl>
                                          <p:spTgt spid="222"/>
                                        </p:tgtEl>
                                        <p:attrNameLst>
                                          <p:attrName>ppt_w</p:attrName>
                                        </p:attrNameLst>
                                      </p:cBhvr>
                                      <p:tavLst>
                                        <p:tav tm="0">
                                          <p:val>
                                            <p:strVal val="#ppt_w*0.70"/>
                                          </p:val>
                                        </p:tav>
                                        <p:tav tm="100000">
                                          <p:val>
                                            <p:strVal val="#ppt_w"/>
                                          </p:val>
                                        </p:tav>
                                      </p:tavLst>
                                    </p:anim>
                                    <p:anim calcmode="lin" valueType="num">
                                      <p:cBhvr additive="repl">
                                        <p:cTn id="20" dur="2000" fill="hold"/>
                                        <p:tgtEl>
                                          <p:spTgt spid="222"/>
                                        </p:tgtEl>
                                        <p:attrNameLst>
                                          <p:attrName>ppt_h</p:attrName>
                                        </p:attrNameLst>
                                      </p:cBhvr>
                                      <p:tavLst>
                                        <p:tav tm="0">
                                          <p:val>
                                            <p:strVal val="#ppt_h"/>
                                          </p:val>
                                        </p:tav>
                                        <p:tav tm="100000">
                                          <p:val>
                                            <p:strVal val="#ppt_h"/>
                                          </p:val>
                                        </p:tav>
                                      </p:tavLst>
                                    </p:anim>
                                    <p:animEffect filter="fade" transition="in">
                                      <p:cBhvr additive="repl">
                                        <p:cTn id="2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149976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eligencia Emoci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  - 1er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1er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dministración del Tiemp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 – 2d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2d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7-27T01:53:19Z</dcterms:modified>
  <cp:revision>91</cp:revision>
  <dc:subject/>
  <dc:title>C</dc:title>
</cp:coreProperties>
</file>