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B042-0238-4535-B2BF-1C19EACC6E45}"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D011-1C76-47EC-82AB-95CD07B5AA1A}"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E1AE-CC9F-4C73-A8B6-A9AB8A4D585B}"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1895-7E6A-41CF-AB4B-2416F31236CD}"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02A83-BC9F-430A-8051-DA8DA4A7D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BD744C55-ED60-4B69-823E-1D1081E912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A2FB585D-7CE2-4A22-92FC-6EB653FD56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5E0B3F94-9A88-4BFC-97E4-CA28281260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522B82-5F13-4299-A580-C15D269BA7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D61BB1-2BB7-4D25-8F7A-AABA30EF6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06E9F7-F907-4587-B614-FE434A065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E1BAB3-F39D-4C9C-BBB4-85B38C2C6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491750-E21F-4DBB-8238-261742F1A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2F96DA-AB50-42B5-803B-1A24049C3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A45B79-1B97-4354-B1F6-BB67DD3C4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6BEC0D6-AD76-46A4-8799-83DA44663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2C8FAD-5EC2-4765-9564-8A10E6B86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2AC0CC-A501-4553-9C88-A3906CD70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0BB5FD-D252-403B-B3C9-284518DC1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DB372E-7E8F-4EC2-B0CD-9B82A04E8FE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1AF243-A366-4DE8-AB10-90550F85FF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C3500C0-EC6F-46AC-9DF6-41398ECA4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291751F9-9B1F-42D8-B54A-7F8EEE6DF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ADBD7368-1973-4EF0-BE24-AEE4E6CAC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EA9565F0-188A-410D-B820-44652C1A00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43686AA8-ABA6-423A-B1E0-5FD9D0A06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97118D82-BE0B-402C-9B06-17FED7476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C81FCA0B-E674-4AF1-BC39-C8005E31F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4F0F-DAB3-4180-8CFE-2BC8C9DE39B0}"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1"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48"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1"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4" name="Picture 4" descr="RELACIONES"/>
          <p:cNvPicPr/>
          <p:nvPr/>
        </p:nvPicPr>
        <p:blipFill>
          <a:blip r:embed="rId1"/>
          <a:stretch/>
        </p:blipFill>
        <p:spPr>
          <a:xfrm>
            <a:off x="179280" y="2349360"/>
            <a:ext cx="8785440" cy="2444760"/>
          </a:xfrm>
          <a:prstGeom prst="rect">
            <a:avLst/>
          </a:prstGeom>
          <a:ln w="0">
            <a:noFill/>
          </a:ln>
        </p:spPr>
      </p:pic>
      <p:sp>
        <p:nvSpPr>
          <p:cNvPr id="155"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58" name="Picture 4" descr="RELACIONES (2)"/>
          <p:cNvPicPr/>
          <p:nvPr/>
        </p:nvPicPr>
        <p:blipFill>
          <a:blip r:embed="rId1"/>
          <a:stretch/>
        </p:blipFill>
        <p:spPr>
          <a:xfrm>
            <a:off x="684360" y="1494000"/>
            <a:ext cx="8280360" cy="4311360"/>
          </a:xfrm>
          <a:prstGeom prst="rect">
            <a:avLst/>
          </a:prstGeom>
          <a:ln w="0">
            <a:noFill/>
          </a:ln>
        </p:spPr>
      </p:pic>
      <p:sp>
        <p:nvSpPr>
          <p:cNvPr id="159"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2" name="Picture 4" descr="Cambios al Interior de la Empresa"/>
          <p:cNvPicPr/>
          <p:nvPr/>
        </p:nvPicPr>
        <p:blipFill>
          <a:blip r:embed="rId1"/>
          <a:stretch/>
        </p:blipFill>
        <p:spPr>
          <a:xfrm>
            <a:off x="826920" y="1925640"/>
            <a:ext cx="7921800" cy="3516480"/>
          </a:xfrm>
          <a:prstGeom prst="rect">
            <a:avLst/>
          </a:prstGeom>
          <a:ln w="0">
            <a:noFill/>
          </a:ln>
        </p:spPr>
      </p:pic>
      <p:sp>
        <p:nvSpPr>
          <p:cNvPr id="163"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6"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69"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2" name="Picture 4" descr="iceberg-croped"/>
          <p:cNvPicPr/>
          <p:nvPr/>
        </p:nvPicPr>
        <p:blipFill>
          <a:blip r:embed="rId1"/>
          <a:stretch/>
        </p:blipFill>
        <p:spPr>
          <a:xfrm>
            <a:off x="2340000" y="1504800"/>
            <a:ext cx="4753080" cy="4660920"/>
          </a:xfrm>
          <a:prstGeom prst="rect">
            <a:avLst/>
          </a:prstGeom>
          <a:ln w="0">
            <a:noFill/>
          </a:ln>
        </p:spPr>
      </p:pic>
      <p:sp>
        <p:nvSpPr>
          <p:cNvPr id="173"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4"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5"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6"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77"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198"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07"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0"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6"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17"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18"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1" name="Picture 3" descr="landing1"/>
          <p:cNvPicPr/>
          <p:nvPr/>
        </p:nvPicPr>
        <p:blipFill>
          <a:blip r:embed="rId1"/>
          <a:stretch/>
        </p:blipFill>
        <p:spPr>
          <a:xfrm>
            <a:off x="122400" y="115920"/>
            <a:ext cx="8864280" cy="6062760"/>
          </a:xfrm>
          <a:prstGeom prst="rect">
            <a:avLst/>
          </a:prstGeom>
          <a:ln w="0">
            <a:noFill/>
          </a:ln>
        </p:spPr>
      </p:pic>
      <p:sp>
        <p:nvSpPr>
          <p:cNvPr id="222"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repl">
                                        <p:cTn id="19" dur="2000" fill="hold"/>
                                        <p:tgtEl>
                                          <p:spTgt spid="222"/>
                                        </p:tgtEl>
                                        <p:attrNameLst>
                                          <p:attrName>ppt_w</p:attrName>
                                        </p:attrNameLst>
                                      </p:cBhvr>
                                      <p:tavLst>
                                        <p:tav tm="0">
                                          <p:val>
                                            <p:strVal val="#ppt_w*0.70"/>
                                          </p:val>
                                        </p:tav>
                                        <p:tav tm="100000">
                                          <p:val>
                                            <p:strVal val="#ppt_w"/>
                                          </p:val>
                                        </p:tav>
                                      </p:tavLst>
                                    </p:anim>
                                    <p:anim calcmode="lin" valueType="num">
                                      <p:cBhvr additive="repl">
                                        <p:cTn id="20" dur="2000" fill="hold"/>
                                        <p:tgtEl>
                                          <p:spTgt spid="222"/>
                                        </p:tgtEl>
                                        <p:attrNameLst>
                                          <p:attrName>ppt_h</p:attrName>
                                        </p:attrNameLst>
                                      </p:cBhvr>
                                      <p:tavLst>
                                        <p:tav tm="0">
                                          <p:val>
                                            <p:strVal val="#ppt_h"/>
                                          </p:val>
                                        </p:tav>
                                        <p:tav tm="100000">
                                          <p:val>
                                            <p:strVal val="#ppt_h"/>
                                          </p:val>
                                        </p:tav>
                                      </p:tavLst>
                                    </p:anim>
                                    <p:animEffect filter="fade" transition="in">
                                      <p:cBhvr additive="repl">
                                        <p:cTn id="2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149976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eligencia Emoci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  - 1er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1er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dministración del Tiemp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 – 2da Charla Ejecutivo Invitado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2da Evalu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7-27T01:53:19Z</dcterms:modified>
  <cp:revision>91</cp:revision>
  <dc:subject/>
  <dc:title>C</dc:title>
</cp:coreProperties>
</file>