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7.jpeg" ContentType="image/jpeg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CC4-43E6-4306-B9C5-04B23B90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4EB-6D36-478E-8EC3-29BEB639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ED7-E693-4876-A132-0A181B20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890-92C2-4072-A7DF-5C80B823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462-7D8D-4793-94DB-C4F407D9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AA5-A0A7-4DF6-80F2-6FBDA9FF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54D-0C87-4E43-828B-F30F1F29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647-4930-46F8-BB46-11C70C41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F36-D1F7-4574-95B5-E2E608C1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B6A-F7B4-49E0-A0C3-95029325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A51-5354-40C5-9AF5-705A179F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0CC-3129-429D-BA02-BF474BE7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7D0C-3B32-409A-9011-AB5606ACB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CLAR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920" y="5349960"/>
            <a:ext cx="87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LINUX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ensamos con Apple, Asus, Bose, Ipod, Movistar, Microso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...y con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08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438880"/>
            <a:ext cx="81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son los símbolos de status ho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39408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irámide de Mas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maslow.jpg (25239 bytes)"/>
          <p:cNvPicPr/>
          <p:nvPr/>
        </p:nvPicPr>
        <p:blipFill>
          <a:blip r:embed="rId1"/>
          <a:stretch/>
        </p:blipFill>
        <p:spPr>
          <a:xfrm>
            <a:off x="684360" y="1557360"/>
            <a:ext cx="77752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77400" y="5638680"/>
            <a:ext cx="40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grupo Claro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rá con ENTE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rá con TELSU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9880" y="5046840"/>
            <a:ext cx="535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M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Móviles hasta cuán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7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7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10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3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6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9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influye Internet en las formas de distribució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torrest</cp:lastModifiedBy>
  <dcterms:modified xsi:type="dcterms:W3CDTF">2009-09-22T20:54:09Z</dcterms:modified>
  <cp:revision>16</cp:revision>
  <dc:subject/>
  <dc:title>Gestión de Empresas de Telecomunicaciones EL 65J Apunte 3 Gestión Comercial</dc:title>
</cp:coreProperties>
</file>