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40E-079C-4203-88AA-C2A1278A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A24-7474-4068-99A0-2B7687DC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C3A-06CD-4A9E-82E2-3BE997CC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636-C4A9-44DE-934D-A4B617D7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ED3-8C28-40C1-9EB4-3B98FB6F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582-E586-4446-89C8-7E861C27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F5B-6906-4E71-9AA9-D91C2D0D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FA6-B638-40E1-AA14-8456A729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0F6-9193-4E9F-B153-EB7A876A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588-0941-41F2-9129-327C8425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554-41BC-4AB7-AE2D-451D5387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79F-5A29-4038-AB5B-E3E21C8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BFD2-3A2D-43A0-B8BD-B84E44407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CLAR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920" y="5349960"/>
            <a:ext cx="87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LINUX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ensamos con Apple, Asus, Bose, Ipod, Movistar, Microso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...y con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08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438880"/>
            <a:ext cx="81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son los símbolos de status ho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39408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irámide de Mas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maslow.jpg (25239 bytes)"/>
          <p:cNvPicPr/>
          <p:nvPr/>
        </p:nvPicPr>
        <p:blipFill>
          <a:blip r:embed="rId1"/>
          <a:stretch/>
        </p:blipFill>
        <p:spPr>
          <a:xfrm>
            <a:off x="684360" y="1557360"/>
            <a:ext cx="77752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77400" y="5638680"/>
            <a:ext cx="40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grupo Claro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rá con ENT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rá con TELS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9880" y="5046840"/>
            <a:ext cx="535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Móviles hasta cuán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7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7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10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3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6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9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influye Internet en las formas de distribució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9-09-22T20:54:09Z</dcterms:modified>
  <cp:revision>16</cp:revision>
  <dc:subject/>
  <dc:title>Gestión de Empresas de Telecomunicaciones EL 65J Apunte 3 Gestión Comercial</dc:title>
</cp:coreProperties>
</file>