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3E9-9B2F-4347-A12D-C91F304A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62C-B299-4AF0-9014-FC8DBE46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B16-2AE4-47BF-94FC-057CCC82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B50-A472-4703-8186-62912A24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9A1-1987-43DA-BDD5-BBCC3412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7E5-0292-4C60-BE86-A735BFA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25E-8AA3-4A62-B725-19F18898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6E3-AE04-4C5D-93EC-16A4D4D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79D-2190-4795-B1C4-D0011E8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F5C-06DA-4681-9960-7F6459BE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9E4-99C4-4EA0-864C-5204B94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E0A-9507-465C-A81D-37254C6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27FD-E2BD-4D92-A4AB-16F347107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CLAR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920" y="5349960"/>
            <a:ext cx="87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LINUX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ensamos con Apple, Asus, Bose, Ipod, Movistar,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...y con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438880"/>
            <a:ext cx="81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son los símbolos de status ho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39408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irámide de Ma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maslow.jpg (25239 bytes)"/>
          <p:cNvPicPr/>
          <p:nvPr/>
        </p:nvPicPr>
        <p:blipFill>
          <a:blip r:embed="rId1"/>
          <a:stretch/>
        </p:blipFill>
        <p:spPr>
          <a:xfrm>
            <a:off x="684360" y="1557360"/>
            <a:ext cx="77752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77400" y="5638680"/>
            <a:ext cx="40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grupo Claro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ENT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TELS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9880" y="5046840"/>
            <a:ext cx="535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Móviles hasta cuán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7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7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10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3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6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9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influye Internet en las formas de distribuc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9-09-22T20:54:09Z</dcterms:modified>
  <cp:revision>16</cp:revision>
  <dc:subject/>
  <dc:title>Gestión de Empresas de Telecomunicaciones EL 65J Apunte 3 Gestión Comercial</dc:title>
</cp:coreProperties>
</file>