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5FF-F05E-4258-931B-E0979635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605-760B-4524-BAE7-0F378E9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CF6-F959-441D-AEE7-610A7E40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F5E-0A57-4105-BE14-5B3425CC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7AA-94E2-44A8-8FA4-916C2066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02D-A43F-407E-A710-2C15719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192-3DD3-4FD4-A1C1-C24AF6E2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174-38EC-4BDA-9302-819A1A9F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F7F-1BA8-40F5-B96C-246F091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302-88D9-4874-A366-55E6EEB9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CDF-FDC8-4B3E-84F8-DBB19B6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D8D-D541-4A1E-90D3-0D9A34DD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DB3-87FA-4BAF-8C49-A1917F85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CLAR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" y="5349960"/>
            <a:ext cx="87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LINUX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ensamos con Apple, Asus, Bose, Ipod, Movistar,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...y con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438880"/>
            <a:ext cx="81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son los símbolos de status h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39408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irámide de Ma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maslow.jpg (25239 bytes)"/>
          <p:cNvPicPr/>
          <p:nvPr/>
        </p:nvPicPr>
        <p:blipFill>
          <a:blip r:embed="rId1"/>
          <a:stretch/>
        </p:blipFill>
        <p:spPr>
          <a:xfrm>
            <a:off x="684360" y="1557360"/>
            <a:ext cx="77752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7400" y="5638680"/>
            <a:ext cx="40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grupo Claro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ENT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TELS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9880" y="5046840"/>
            <a:ext cx="535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Móviles hasta cuán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7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7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10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3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6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9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influye Internet en las formas de distribuc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9-09-22T20:54:09Z</dcterms:modified>
  <cp:revision>16</cp:revision>
  <dc:subject/>
  <dc:title>Gestión de Empresas de Telecomunicaciones EL 65J Apunte 3 Gestión Comercial</dc:title>
</cp:coreProperties>
</file>