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BF6252-9F63-4DF2-AC77-EFD87319D1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F4BA87E-7396-4733-93D9-C58F86823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7942AEB-0511-4D29-9870-BEA872EA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03ADD78-6049-4869-BF3F-8885EB07C8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4CFA81D-F82A-44C6-B63F-595C0B4D4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FB0AA24-F94C-446A-889A-43087F07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A1BB4F5-AB1E-4C15-8262-855B167A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7FA0B41-EDC4-4754-A326-5FD0B43DC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011865E-095E-459A-9C34-342778DA1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F679A5-F424-40BF-85D8-A11A30975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8F539F0-6DA7-4900-B078-705AE408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1B9229-E5E3-4C00-B8D1-11C8121D0B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5B38-D9BE-476D-A247-77FA1D715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9</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D3208C-5813-4972-9E06-509F3C33C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78"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79"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0"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4F603D-1307-4B8A-8EBF-2C0A0E519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3"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5"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86"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6E1BF2E-F34B-4742-A2E2-CD7EB621D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9"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1FF0021-702A-4275-B5CF-48849E780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1"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020D6E2-8BAF-4C95-810F-53B758239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3"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4"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876C698-0530-4F79-B303-84A7888D74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2"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3"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0"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1"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2"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3"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5"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6"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7"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28"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29"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0"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36"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7"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3"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4"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46"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2E8C406-DB8F-451A-A403-99F5DAF07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2"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3"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0"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2"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3"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4"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5"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76"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7"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1"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2"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4"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5"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96"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98"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199"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360AA7A-A750-4E19-A7F6-EBB8DF43C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2"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07"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08"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5"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26"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7"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9"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0"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1"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2"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3"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4"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39"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48"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A403814-3874-4955-BA74-5D7F6298CC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0"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57"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58"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59"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1"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2"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3"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69"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0"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7467359-0224-4B1B-9D51-47DFD7AE7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osemiguel.torres@telefonica.com</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B08EE5-204E-4A29-871A-4E4D1D3C31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3"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0"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1"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2"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4"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5"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6"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3"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4" name=""/>
          <p:cNvGraphicFramePr/>
          <p:nvPr/>
        </p:nvGraphicFramePr>
        <p:xfrm>
          <a:off x="4267080" y="3562200"/>
          <a:ext cx="4648320" cy="857520"/>
        </p:xfrm>
        <a:graphic>
          <a:graphicData uri="http://schemas.openxmlformats.org/presentationml/2006/ole">
            <p:oleObj progId="Excel.Sheet.12" r:id="rId1" spid="">
              <p:embed/>
              <p:pic>
                <p:nvPicPr>
                  <p:cNvPr id="295"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D7A05BAB-C683-4383-8340-DC0324EF3F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297"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2"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3"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4"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06"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C795C32-AFB6-4958-8DC9-414F80F5A7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08"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2"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4"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6"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27"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0"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3"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4"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5"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5D0F4A67-90C8-4667-B8BE-99F030F09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37"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2"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4"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46"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47"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3"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4"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5"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5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57"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58"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59"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D337FD4-B988-4E0C-B989-3F373E7FB4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1"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539967-E7E1-457E-9B66-9FE0A5524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3"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4"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1FBBEBC-77EF-43C5-B99A-D1C815C697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1"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1"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2"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3"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4"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5"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86"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87"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88"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89"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2"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3"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396"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040104C-196E-4B58-A1B1-AF737ED561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399"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8AEBBD-DD19-42F9-AFFF-D85CAF2CE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1"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AC2887E3-117A-486C-9BA2-615FC871D0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08"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4EFF33-7FEA-490A-886C-5FC805E9F3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F3694E-0578-42DB-AD70-B8DF11DCE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2"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3"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4"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5"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16"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17"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444BB229-60C3-4C2F-9C42-57E9B6528E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4" name="" descr=""/>
          <p:cNvPicPr/>
          <p:nvPr/>
        </p:nvPicPr>
        <p:blipFill>
          <a:blip r:embed="rId1"/>
          <a:stretch/>
        </p:blipFill>
        <p:spPr>
          <a:xfrm>
            <a:off x="3657600" y="4575240"/>
            <a:ext cx="2282760" cy="1825560"/>
          </a:xfrm>
          <a:prstGeom prst="rect">
            <a:avLst/>
          </a:prstGeom>
          <a:ln w="0">
            <a:noFill/>
          </a:ln>
        </p:spPr>
      </p:pic>
      <p:sp>
        <p:nvSpPr>
          <p:cNvPr id="425"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A4FB5636-45C1-4EDE-ADC8-82B6511C1F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27"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0"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1"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2"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7086600" y="3371400"/>
            <a:ext cx="1371600" cy="1219680"/>
            <a:chOff x="7086600" y="3371400"/>
            <a:chExt cx="1371600" cy="1219680"/>
          </a:xfrm>
        </p:grpSpPr>
        <p:sp>
          <p:nvSpPr>
            <p:cNvPr id="438"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7124760" y="1847520"/>
            <a:ext cx="1371600" cy="1219680"/>
            <a:chOff x="7124760" y="1847520"/>
            <a:chExt cx="1371600" cy="1219680"/>
          </a:xfrm>
        </p:grpSpPr>
        <p:sp>
          <p:nvSpPr>
            <p:cNvPr id="442"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46"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47"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48"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49"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A7ECC70-990F-4EE3-984F-5911549DA9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58"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59"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0"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1"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2"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3" name=""/>
          <p:cNvGrpSpPr/>
          <p:nvPr/>
        </p:nvGrpSpPr>
        <p:grpSpPr>
          <a:xfrm>
            <a:off x="2629080" y="2457360"/>
            <a:ext cx="1828800" cy="1600200"/>
            <a:chOff x="2629080" y="2457360"/>
            <a:chExt cx="1828800" cy="1600200"/>
          </a:xfrm>
        </p:grpSpPr>
        <p:sp>
          <p:nvSpPr>
            <p:cNvPr id="464"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5"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66"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67" name=""/>
          <p:cNvGrpSpPr/>
          <p:nvPr/>
        </p:nvGrpSpPr>
        <p:grpSpPr>
          <a:xfrm>
            <a:off x="4952880" y="1104840"/>
            <a:ext cx="1828800" cy="1067040"/>
            <a:chOff x="4952880" y="1104840"/>
            <a:chExt cx="1828800" cy="1067040"/>
          </a:xfrm>
        </p:grpSpPr>
        <p:sp>
          <p:nvSpPr>
            <p:cNvPr id="468"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69"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0" name=""/>
          <p:cNvGrpSpPr/>
          <p:nvPr/>
        </p:nvGrpSpPr>
        <p:grpSpPr>
          <a:xfrm>
            <a:off x="7010280" y="1104840"/>
            <a:ext cx="1828800" cy="1066680"/>
            <a:chOff x="7010280" y="1104840"/>
            <a:chExt cx="1828800" cy="1066680"/>
          </a:xfrm>
        </p:grpSpPr>
        <p:sp>
          <p:nvSpPr>
            <p:cNvPr id="471"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2"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3" name=""/>
          <p:cNvGrpSpPr/>
          <p:nvPr/>
        </p:nvGrpSpPr>
        <p:grpSpPr>
          <a:xfrm>
            <a:off x="304920" y="1104840"/>
            <a:ext cx="1828800" cy="1371600"/>
            <a:chOff x="304920" y="1104840"/>
            <a:chExt cx="1828800" cy="1371600"/>
          </a:xfrm>
        </p:grpSpPr>
        <p:sp>
          <p:nvSpPr>
            <p:cNvPr id="474"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5"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76"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2"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3"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B9A4CB-90CC-46B7-81F6-607D74719A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EF16C49-8A2A-4157-B8B2-BC3B8B4848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0"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1"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2"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3"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2174D0-2401-4CDB-8AC1-EEC395CDB9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496"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F128BD-5BCB-447A-95D6-EC7F868218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498"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EA295E-1C0D-4BFD-ACA1-2E7FA4A431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0"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07"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4"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5"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26"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7"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9"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0"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1"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2"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3"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4"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1"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2"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3FB0DEB-4E79-49F3-99F4-0B33D9EDFE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4"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9"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0"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1"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2"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9"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0"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1"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3"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EFFE053-0370-4738-ACE2-82A2739E61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5241213-0711-4435-A733-6022627384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69"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0"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1"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2"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3"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4"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54B617-CD9E-4E7B-BB39-42CBE43EE9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2F0EF73A-CDAB-4FE9-BCBB-8AB766643B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1"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1"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2"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3"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4"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5"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596"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597"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598"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599"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0"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1"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2"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5A0AE997-F2C0-4E6E-97A4-E248D02140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4"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873817C-B421-4F35-B1D1-CA56F0C65A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91B8B12-675F-4020-A6E5-86C4672786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6242AE-BAA7-4E60-8F21-15D585B5D6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9939DE-94EB-40FE-9311-5339D564DC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D5E4BC5-FA37-40DE-851C-0704C93A2F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4" name=""/>
          <p:cNvGraphicFramePr/>
          <p:nvPr/>
        </p:nvGraphicFramePr>
        <p:xfrm>
          <a:off x="914400" y="977760"/>
          <a:ext cx="4162320" cy="5639040"/>
        </p:xfrm>
        <a:graphic>
          <a:graphicData uri="http://schemas.openxmlformats.org/presentationml/2006/ole">
            <p:oleObj progId="Excel.Sheet.12" r:id="rId1" spid="">
              <p:embed/>
              <p:pic>
                <p:nvPicPr>
                  <p:cNvPr id="615" name="" descr=""/>
                  <p:cNvPicPr/>
                  <p:nvPr/>
                </p:nvPicPr>
                <p:blipFill>
                  <a:blip r:embed="rId2"/>
                  <a:stretch/>
                </p:blipFill>
                <p:spPr>
                  <a:xfrm>
                    <a:off x="914400" y="977760"/>
                    <a:ext cx="4162320" cy="5639040"/>
                  </a:xfrm>
                  <a:prstGeom prst="rect">
                    <a:avLst/>
                  </a:prstGeom>
                  <a:ln w="0">
                    <a:noFill/>
                  </a:ln>
                </p:spPr>
              </p:pic>
            </p:oleObj>
          </a:graphicData>
        </a:graphic>
      </p:graphicFrame>
      <p:sp>
        <p:nvSpPr>
          <p:cNvPr id="616"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8D3540D-3C58-40EC-97F1-701FADB248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18"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0"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2"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4"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26"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D521689-B7ED-472D-9DB1-418FC7CDA0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C81BFF-3FC4-434E-83C1-37687B8B40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4"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6"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8"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0"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3"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5"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5A2F7D-CDD8-4D60-AE3E-7623A059F3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4"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5CCC92-F988-4C82-B0B5-05D2FFEDAC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56" name=""/>
          <p:cNvGrpSpPr/>
          <p:nvPr/>
        </p:nvGrpSpPr>
        <p:grpSpPr>
          <a:xfrm>
            <a:off x="914400" y="1447920"/>
            <a:ext cx="3429000" cy="2743200"/>
            <a:chOff x="914400" y="1447920"/>
            <a:chExt cx="3429000" cy="2743200"/>
          </a:xfrm>
        </p:grpSpPr>
        <p:sp>
          <p:nvSpPr>
            <p:cNvPr id="657"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5181480" y="1447920"/>
            <a:ext cx="3429000" cy="2743200"/>
            <a:chOff x="5181480" y="1447920"/>
            <a:chExt cx="3429000" cy="2743200"/>
          </a:xfrm>
        </p:grpSpPr>
        <p:sp>
          <p:nvSpPr>
            <p:cNvPr id="661"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5"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6"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7"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2"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3"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4"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5"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76"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77"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2"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3"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4"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5"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0"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1"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2"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3"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52CA3A-F5A5-4CDA-84AB-386B3E1D88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71DDE31-C833-4AD5-8F65-40CC6D4446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1"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2"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3"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4"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5"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2"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3"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4"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5"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86BF69C-E05E-417F-9427-4F321D50CE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19"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3"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4"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5"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6"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F2B33BC-D7FA-4309-B3A5-A7BBC888CB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28"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42148B-9CB7-432E-AF78-DB31E12F8E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0"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FE4C53E-D4BB-4393-A2B5-09BFEF9680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3"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0"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1"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2"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3"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4"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5"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30761C-70E0-498C-B24A-6680DBF80E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47"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48"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2"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3"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4"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5"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56"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57"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326B1E-7575-437E-9554-9E85676055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668056-6871-4434-83D6-047698C613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1"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928F99BA-BA28-42BD-A559-B5BCFF7CE2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3"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A47D23-8550-4FFC-B691-ECC110D25F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66"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955F65-81BA-4158-8115-7E6DEBEF96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68"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4"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5"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76"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77"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78"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E773905-59F4-42AE-AF57-A373CDD869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7DC463-A567-41B1-A717-335D34B2DB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4DE4B6F-360E-4BC6-BA86-31FC306806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842E54F-AE09-4E72-ACBB-51D673BAD5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50D1A1B-633F-4B06-AC01-E5D4FA22BD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3C43FC08-46AC-4260-AE42-8B6A11A9CE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DD5943E-B717-4701-9D3D-D61764898D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AB01053-C6BE-4558-945C-D837D031A1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5"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799"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0"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1"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2"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3"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4"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5"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6"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07"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08"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9A9E2C-27F9-46B6-9364-D4F750D6D5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0" name=""/>
          <p:cNvGraphicFramePr/>
          <p:nvPr/>
        </p:nvGraphicFramePr>
        <p:xfrm>
          <a:off x="304920" y="1828800"/>
          <a:ext cx="8610480" cy="2149560"/>
        </p:xfrm>
        <a:graphic>
          <a:graphicData uri="http://schemas.openxmlformats.org/presentationml/2006/ole">
            <p:oleObj progId="Excel.Sheet.12" r:id="rId1" spid="">
              <p:embed/>
              <p:pic>
                <p:nvPicPr>
                  <p:cNvPr id="811"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2"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632B805F-9E1A-4DE6-8A89-D547B52122A9}"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CDFC11-AFB9-40E9-A112-D245ECB80F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2ACDEB-75A2-4996-93D4-F0B8FE6F7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9-08-25T18:56:03Z</dcterms:modified>
  <cp:revision>69</cp:revision>
  <dc:subject/>
  <dc:title>Gestión de Empresas de Telecomunicaciones</dc:title>
</cp:coreProperties>
</file>