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5005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759D-772F-4A4C-BEFA-5EEBBDAD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C278-BC64-4389-9030-4860B549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8138-20B8-47A7-A4C3-5E7D6519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03A0-762D-4330-8E7F-E008863E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9742-992A-4556-AC31-9A223C77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52DE-AF38-493C-8440-5D6D060E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2083-9923-4824-AA63-8C3FCD3E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A5FE-A772-4CBC-B285-7383F7F7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DCD9-B2A7-47C4-99DC-5A880E47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93BD-C78A-4A73-85FD-828CCB38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E4BE-8B71-4377-9DC3-E46C4FD1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C55B-DB5B-4F44-B2B0-B7FC25080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3333cc"/>
              </a:solidFill>
              <a:latin typeface="Trebuchet MS"/>
            </a:endParaRPr>
          </a:p>
        </p:txBody>
      </p:sp>
      <p:sp>
        <p:nvSpPr>
          <p:cNvPr id="1" name=""/>
          <p:cNvSpPr/>
          <p:nvPr/>
        </p:nvSpPr>
        <p:spPr>
          <a:xfrm>
            <a:off x="324000" y="6400800"/>
            <a:ext cx="8439120" cy="214200"/>
          </a:xfrm>
          <a:prstGeom prst="rect">
            <a:avLst/>
          </a:prstGeom>
          <a:gradFill rotWithShape="0">
            <a:gsLst>
              <a:gs pos="0">
                <a:srgbClr val="a4c2ce"/>
              </a:gs>
              <a:gs pos="50000">
                <a:srgbClr val="ffffff"/>
              </a:gs>
              <a:gs pos="100000">
                <a:srgbClr val="a4c2c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90720" y="404640"/>
            <a:ext cx="7010280" cy="214560"/>
          </a:xfrm>
          <a:prstGeom prst="rect">
            <a:avLst/>
          </a:prstGeom>
          <a:gradFill rotWithShape="0">
            <a:gsLst>
              <a:gs pos="0">
                <a:srgbClr val="a4c2ce"/>
              </a:gs>
              <a:gs pos="50000">
                <a:srgbClr val="ffffff"/>
              </a:gs>
              <a:gs pos="100000">
                <a:srgbClr val="a4c2c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956720" y="189000"/>
            <a:ext cx="914400" cy="7477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3809880" y="2666880"/>
            <a:ext cx="1443240" cy="20066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95280" y="260280"/>
            <a:ext cx="555480" cy="6476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733920" y="2666880"/>
            <a:ext cx="1442880" cy="20066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3809880" y="2209680"/>
            <a:ext cx="1792440" cy="24940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68000" y="1676520"/>
            <a:ext cx="8218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MT Extra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ff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Tahoma"/>
              </a:rPr>
              <a:t>Click to edit the outline text format</a:t>
            </a: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  <a:p>
            <a:pPr lvl="1" marL="743040" indent="-285840">
              <a:spcBef>
                <a:spcPts val="2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Tahoma"/>
              </a:rPr>
              <a:t>Second Outline Level</a:t>
            </a: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  <a:p>
            <a:pPr lvl="2" marL="1143000" indent="-228600"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Tahoma"/>
              </a:rPr>
              <a:t>Third Outline Level</a:t>
            </a: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  <a:p>
            <a:pPr lvl="3" marL="1600200" indent="-228600">
              <a:spcBef>
                <a:spcPts val="2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Tahoma"/>
              </a:rPr>
              <a:t>Fourth Outline Level</a:t>
            </a: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  <a:p>
            <a:pPr lvl="4" marL="2057400" indent="-228600">
              <a:spcBef>
                <a:spcPts val="27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Tahoma"/>
              </a:rPr>
              <a:t>Fifth Outline Level</a:t>
            </a: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  <a:p>
            <a:pPr lvl="5" marL="2057400" indent="-228600">
              <a:spcBef>
                <a:spcPts val="27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Tahoma"/>
              </a:rPr>
              <a:t>Sixth Outline Level</a:t>
            </a: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  <a:p>
            <a:pPr lvl="6" marL="2057400" indent="-228600">
              <a:spcBef>
                <a:spcPts val="27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Tahoma"/>
              </a:rPr>
              <a:t>Seventh Outline Level</a:t>
            </a:r>
            <a:endParaRPr b="1" lang="en-US" sz="11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33440" y="104760"/>
            <a:ext cx="1539720" cy="714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5800" y="6400800"/>
            <a:ext cx="8077320" cy="231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Universidad de Chile – Av. Tupper 2007, Santiago - Fono: 978 4196 - Fax: 695 3881 – E-mail: liliana.zepeda @ die.uchile.cl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         200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3"/>
          </p:nvPr>
        </p:nvSpPr>
        <p:spPr>
          <a:xfrm>
            <a:off x="7812000" y="6389640"/>
            <a:ext cx="100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ágina </a:t>
            </a:r>
            <a:fld id="{4E790CAC-521A-41DF-8D9A-EFBBC2304573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68360" y="115920"/>
            <a:ext cx="153972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2800" y="950400"/>
            <a:ext cx="691668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Progra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Introduc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Arquitectura de Sistemas Móv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Planificación: Cobertura, Capacida,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Tecnologías y Estándares Móvi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DA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GSM/GPRS/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UMTS/WCDMA /HSPA (HSDPA; HSUPA; IHSP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L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Tecnologías y Estándares Inalamb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IEEE 802.11 /802.15 /802.16 (Bluetooth, Wifi,Wi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72F5-AD4A-4746-8BBB-A757FCCAB7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89720" y="1842840"/>
            <a:ext cx="89650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Evaluac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2 Controles  (Octubre, Noviembr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Trabajo en Grupo ,desarrollo de un nuevo SVA, basado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la tecnologia existente en Movistar Chile+ incripcion en Movistar Inno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181080"/>
                <a:tab algn="l" pos="252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Ex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9EA9-0FF8-44A5-9695-E936091615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7129440" cy="626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DD9F-12E3-4EAD-9CA0-78334A1062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1:33:02Z</dcterms:created>
  <dc:creator>Gonzalo</dc:creator>
  <dc:description/>
  <dc:language>en-US</dc:language>
  <cp:lastModifiedBy>pvalenzu</cp:lastModifiedBy>
  <dcterms:modified xsi:type="dcterms:W3CDTF">2009-08-05T02:44:44Z</dcterms:modified>
  <cp:revision>35</cp:revision>
  <dc:subject/>
  <dc:title>Session Border Controll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57516521</vt:r8>
  </property>
  <property fmtid="{D5CDD505-2E9C-101B-9397-08002B2CF9AE}" pid="3" name="_AuthorEmail">
    <vt:lpwstr>lzepeda@ing.uchile.cl</vt:lpwstr>
  </property>
  <property fmtid="{D5CDD505-2E9C-101B-9397-08002B2CF9AE}" pid="4" name="_AuthorEmailDisplayName">
    <vt:lpwstr>Liliana Zepeda</vt:lpwstr>
  </property>
  <property fmtid="{D5CDD505-2E9C-101B-9397-08002B2CF9AE}" pid="5" name="_EmailSubject">
    <vt:lpwstr>Plantilla apuntes Diplomado</vt:lpwstr>
  </property>
  <property fmtid="{D5CDD505-2E9C-101B-9397-08002B2CF9AE}" pid="6" name="_ReviewingToolsShownOnce">
    <vt:lpwstr/>
  </property>
</Properties>
</file>