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500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D5B-3982-4775-9CF4-7CB39EC4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E85-C3FF-4617-A9D4-76F9502D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B19-1E30-4CFB-AE15-1D2503A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597-779D-40DF-9ECD-AC773CFC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816-6DE2-4489-A08D-AA467FA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B62-AF05-4CCD-94BB-E0B43121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A26-B340-467E-9431-A9C6785E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C17-FD0D-40A5-A949-20679A97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C43-6D2A-4E09-889A-B1DEB6E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FC8-32B2-408B-B7FB-7A89B990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4A8-93A2-471A-9F1B-351E6427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3E4-B061-4B37-BDC5-484C185E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400800"/>
            <a:ext cx="8439120" cy="21420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404640"/>
            <a:ext cx="7010280" cy="21456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443240" cy="2006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555480" cy="647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442880" cy="200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1792440" cy="2494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000" y="1676520"/>
            <a:ext cx="82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con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hir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our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4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if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5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ix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6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ven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3440" y="104760"/>
            <a:ext cx="153972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400800"/>
            <a:ext cx="8077320" cy="23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niversidad de Chile – Av. Tupper 2007, Santiago - Fono: 978 4196 - Fax: 695 3881 – E-mail: liliana.zepeda @ die.uchile.c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7812000" y="638964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ágina </a:t>
            </a:r>
            <a:fld id="{37814798-D78E-449C-8647-A2E6004FA6C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1539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2800" y="950400"/>
            <a:ext cx="69166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ntrod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quitectura de Sistema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Planificación: Cobertura, Capacida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Móv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GSM/GPRS/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UMTS/WCDMA /HSPA (HSDPA; HSUPA; IHS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Inalamb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EEE 802.11 /802.15 /802.16 (Bluetooth, Wifi,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E94-897C-4E24-BD4E-CA8B28C5C3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20" y="1842840"/>
            <a:ext cx="896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valu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 Controles  (Octubre, Noviemb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rabajo en Grupo ,desarrollo de un nuevo SVA, bas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a tecnologia existente en Movistar Chile+ incripcion en Movistar Inn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8C4-2E51-4F00-8BA1-1C27AC81DB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129440" cy="626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3CB-64D0-4D34-8EAB-4DA545A214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1:33:02Z</dcterms:created>
  <dc:creator>Gonzalo</dc:creator>
  <dc:description/>
  <dc:language>en-US</dc:language>
  <cp:lastModifiedBy>pvalenzu</cp:lastModifiedBy>
  <dcterms:modified xsi:type="dcterms:W3CDTF">2009-08-05T02:44:44Z</dcterms:modified>
  <cp:revision>35</cp:revision>
  <dc:subject/>
  <dc:title>Session Border Control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516521</vt:r8>
  </property>
  <property fmtid="{D5CDD505-2E9C-101B-9397-08002B2CF9AE}" pid="3" name="_AuthorEmail">
    <vt:lpwstr>lzepeda@ing.uchile.cl</vt:lpwstr>
  </property>
  <property fmtid="{D5CDD505-2E9C-101B-9397-08002B2CF9AE}" pid="4" name="_AuthorEmailDisplayName">
    <vt:lpwstr>Liliana Zepeda</vt:lpwstr>
  </property>
  <property fmtid="{D5CDD505-2E9C-101B-9397-08002B2CF9AE}" pid="5" name="_EmailSubject">
    <vt:lpwstr>Plantilla apuntes Diplomado</vt:lpwstr>
  </property>
  <property fmtid="{D5CDD505-2E9C-101B-9397-08002B2CF9AE}" pid="6" name="_ReviewingToolsShownOnce">
    <vt:lpwstr/>
  </property>
</Properties>
</file>