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5005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DF8-DE9A-422F-AC32-68E6CC28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616-B0F1-4E3F-A39E-38AF9B6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65B-BAEC-43E8-BA6E-D26B48BB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6EE-D8F7-4711-A98C-95361FF3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3CD-69F8-4BCA-8FE8-DDC10907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140-2FF0-4BDD-866C-B36DDA63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505-8485-4CCF-9473-3DBD9DCE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E57-0202-4E71-9BD6-41CF7A9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567-E348-47CB-A8F6-210B01C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107-FB7D-4A4E-B9AA-8290426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198-5D86-4124-8AD2-D486540B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4C7-EB5D-43EA-A2DF-BDFE1B21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324000" y="6400800"/>
            <a:ext cx="8439120" cy="21420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90720" y="404640"/>
            <a:ext cx="7010280" cy="21456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443240" cy="2006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555480" cy="647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733920" y="2666880"/>
            <a:ext cx="1442880" cy="2006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3809880" y="2209680"/>
            <a:ext cx="1792440" cy="2494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000" y="1676520"/>
            <a:ext cx="8218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Click to edit the outline text format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con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Thir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our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4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if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5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ix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6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ven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3440" y="104760"/>
            <a:ext cx="1539720" cy="71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6400800"/>
            <a:ext cx="8077320" cy="231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niversidad de Chile – Av. Tupper 2007, Santiago - Fono: 978 4196 - Fax: 695 3881 – E-mail: liliana.zepeda @ die.uchile.cl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7812000" y="6389640"/>
            <a:ext cx="100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ágina </a:t>
            </a:r>
            <a:fld id="{A07EEA8D-29EE-4AFB-B3B6-84495CA3ECB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1539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2800" y="950400"/>
            <a:ext cx="69166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ntrodu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rquitectura de Sistemas Mó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Planificación: Cobertura, Capacida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Móv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D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GSM/GPRS/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UMTS/WCDMA /HSPA (HSDPA; HSUPA; IHS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Inalamb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EEE 802.11 /802.15 /802.16 (Bluetooth, Wifi,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0F0-C17E-4B5E-81D3-88519BB5A3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720" y="1842840"/>
            <a:ext cx="8965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valu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2 Controles  (Octubre, Noviemb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rabajo en Grupo ,desarrollo de un nuevo SVA, basad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a tecnologia existente en Movistar Chile+ incripcion en Movistar Inno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F06-8568-4461-AE67-4A993B4BAF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7129440" cy="626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7E3-F36C-4C02-8F1C-F0C9B755CD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1:33:02Z</dcterms:created>
  <dc:creator>Gonzalo</dc:creator>
  <dc:description/>
  <dc:language>en-US</dc:language>
  <cp:lastModifiedBy>pvalenzu</cp:lastModifiedBy>
  <dcterms:modified xsi:type="dcterms:W3CDTF">2009-08-05T02:44:44Z</dcterms:modified>
  <cp:revision>35</cp:revision>
  <dc:subject/>
  <dc:title>Session Border Controll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7516521</vt:r8>
  </property>
  <property fmtid="{D5CDD505-2E9C-101B-9397-08002B2CF9AE}" pid="3" name="_AuthorEmail">
    <vt:lpwstr>lzepeda@ing.uchile.cl</vt:lpwstr>
  </property>
  <property fmtid="{D5CDD505-2E9C-101B-9397-08002B2CF9AE}" pid="4" name="_AuthorEmailDisplayName">
    <vt:lpwstr>Liliana Zepeda</vt:lpwstr>
  </property>
  <property fmtid="{D5CDD505-2E9C-101B-9397-08002B2CF9AE}" pid="5" name="_EmailSubject">
    <vt:lpwstr>Plantilla apuntes Diplomado</vt:lpwstr>
  </property>
  <property fmtid="{D5CDD505-2E9C-101B-9397-08002B2CF9AE}" pid="6" name="_ReviewingToolsShownOnce">
    <vt:lpwstr/>
  </property>
</Properties>
</file>