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67C2-51F7-40F1-A02F-236A19AB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2A05-A3F6-47B7-B6CF-40892AE8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71BA-EB90-4C7E-A165-5F6A7CDE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6659-456A-4831-9300-D2794D90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2564-C9E2-47E3-A746-A61E6BB9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996C-2B50-4A6C-8273-12ED8DE6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35A0-3C21-4ACE-B534-F84B87DE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5578-D735-4CB3-9BA5-44D5B6EC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E943-6564-462B-8739-305A7EB0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98AE-FA10-4C14-BBA5-2139A3AB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BBF6-02AB-4646-90AF-773B0B87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434-CFC6-495C-BD80-5F3CD16D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54FA-E2CA-4CF1-B9D4-9066C644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3F23-B515-4681-AF54-54E2D161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C90E-33F7-4AD8-AC79-A0F0209F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25FE-8C79-48A5-8092-7F8A6A89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B5A1-5B8C-4801-8648-BD0CB683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C55B-37DD-4470-9C50-D3C395DF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454-7C8B-4C3E-8CE8-D26D9F3A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AA3F-31FE-4825-B083-087602CD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339-C1D9-4950-8D90-84766D67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FAD-46AC-44A6-A71B-C102BA70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AD0-A02D-48C5-A2F1-ED3F2223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8C20-9EB1-440C-9E18-067FE953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3c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C8C4-DC08-4E55-9C0B-D49752D47E6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3c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56B5-46FF-420A-B93C-B259545059EB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340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Especificaciones técnicas de un transformador de distribució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427280" y="5660640"/>
            <a:ext cx="4716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rancisco Becerra 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Rodrigo Vallejos 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280" y="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Tipos de transformado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57120" y="1428840"/>
            <a:ext cx="850104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de superficie (Pad Mounted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143000" y="2714760"/>
            <a:ext cx="2244600" cy="2438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4714920" y="2214720"/>
            <a:ext cx="32148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uebas a transformado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inspección visu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resistencia de aislamien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l índice de absor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l índice de polariza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la relación de transforma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uebas a transformado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rigidez dieléctrica del aceit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factor de potencia, a devanad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 de resistencia ohmic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71640" y="50940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mpresas fabricantes de transformador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AB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WE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Cromptom Gra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Sieme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Toshib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Rho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920" y="133200"/>
            <a:ext cx="7345440" cy="91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Arial"/>
              </a:rPr>
              <a:t>Resumen de la presentación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42884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Introducció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Contenidos Básicos de una especificación técnic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Verdana"/>
              </a:rPr>
              <a:t>Partes de un transformad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Tipos de transformador de distribució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Pruebas a transformador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Empresas fabricantes de transformador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Las especificaciones técnicas son los documentos en los cuales se define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Norm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xigenci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rocedimient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aboración de estudio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Fabricación de equipos, et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Contenidos básicos de una especificación técnica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412640"/>
            <a:ext cx="81723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Introduc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Alcance, trabajos excluidos, documentos complementari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Verdana"/>
              </a:rPr>
              <a:t>Códigos y estándar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474920" y="2660760"/>
          <a:ext cx="6481800" cy="3794040"/>
        </p:xfrm>
        <a:graphic>
          <a:graphicData uri="http://schemas.openxmlformats.org/drawingml/2006/table">
            <a:tbl>
              <a:tblPr/>
              <a:tblGrid>
                <a:gridCol w="1523880"/>
                <a:gridCol w="4957920"/>
              </a:tblGrid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r" pos="60530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Sig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r" pos="60530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Descrip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AN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American National Standards Institu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AS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American Society for Testing and Materi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IE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International Electrotechnical Commis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IEE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Institute of Electrical and Electronics Engine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E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ational Electrical Co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E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ational Electrical Manufacturers Associ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FP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ational Fire Protection Associ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U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Underwriters Laborato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ES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ational Electrical Safety Co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MS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Mine Safety and Health Associ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76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riterios genera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Condiciones ambientales, condiciones de servici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spectos constructiv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scripciones genera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Inspección y pruebas en fábr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ocumenta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Garantí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Contenidos básicos de una especificación técnica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ccecff"/>
                </a:solidFill>
                <a:latin typeface="Arial"/>
              </a:rPr>
              <a:t>Partes de un transformad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4183200" y="2000160"/>
            <a:ext cx="4784760" cy="3071880"/>
          </a:xfrm>
          <a:prstGeom prst="rect">
            <a:avLst/>
          </a:prstGeom>
          <a:ln w="0">
            <a:noFill/>
          </a:ln>
        </p:spPr>
      </p:pic>
      <p:sp>
        <p:nvSpPr>
          <p:cNvPr id="187" name="9 CuadroTexto"/>
          <p:cNvSpPr/>
          <p:nvPr/>
        </p:nvSpPr>
        <p:spPr>
          <a:xfrm>
            <a:off x="142920" y="1357200"/>
            <a:ext cx="392904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Partes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interna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Núcle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Enrollados primarios y secundar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ub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Elementos de protecció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Relé Bucholz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Indicador de nivel de acei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Desecad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Termostat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Tipos de transformado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435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Secos Encapsulados en Resina Epox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4714920" y="1428840"/>
            <a:ext cx="40431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herméticos de llenado integ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12 Imagen" descr="trafointegral.jpg (15043 bytes)"/>
          <p:cNvPicPr/>
          <p:nvPr/>
        </p:nvPicPr>
        <p:blipFill>
          <a:blip r:embed="rId1"/>
          <a:stretch/>
        </p:blipFill>
        <p:spPr>
          <a:xfrm>
            <a:off x="4857840" y="3357720"/>
            <a:ext cx="3500280" cy="2722320"/>
          </a:xfrm>
          <a:prstGeom prst="rect">
            <a:avLst/>
          </a:prstGeom>
          <a:ln w="0">
            <a:noFill/>
          </a:ln>
        </p:spPr>
      </p:pic>
      <p:pic>
        <p:nvPicPr>
          <p:cNvPr id="195" name="13 Imagen" descr="resina"/>
          <p:cNvPicPr/>
          <p:nvPr/>
        </p:nvPicPr>
        <p:blipFill>
          <a:blip r:embed="rId2"/>
          <a:stretch/>
        </p:blipFill>
        <p:spPr>
          <a:xfrm>
            <a:off x="714240" y="3143160"/>
            <a:ext cx="307188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Tipos de transformado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435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monofásicos (Rural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4714920" y="1428840"/>
            <a:ext cx="40431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subterráne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7 Imagen" descr="trafomonoposte.gif (4061 bytes)"/>
          <p:cNvPicPr/>
          <p:nvPr/>
        </p:nvPicPr>
        <p:blipFill>
          <a:blip r:embed="rId1"/>
          <a:stretch/>
        </p:blipFill>
        <p:spPr>
          <a:xfrm>
            <a:off x="1285920" y="3429000"/>
            <a:ext cx="1500120" cy="2406600"/>
          </a:xfrm>
          <a:prstGeom prst="rect">
            <a:avLst/>
          </a:prstGeom>
          <a:ln w="0">
            <a:noFill/>
          </a:ln>
        </p:spPr>
      </p:pic>
      <p:pic>
        <p:nvPicPr>
          <p:cNvPr id="203" name="8 Imagen" descr="trafosub.jpg (23095 bytes)"/>
          <p:cNvPicPr/>
          <p:nvPr/>
        </p:nvPicPr>
        <p:blipFill>
          <a:blip r:embed="rId2"/>
          <a:stretch/>
        </p:blipFill>
        <p:spPr>
          <a:xfrm>
            <a:off x="5429160" y="3286080"/>
            <a:ext cx="24843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Tipos de transformado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435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auto protegi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714920" y="1428840"/>
            <a:ext cx="40431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de distribución de potenc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9 Imagen" descr="trafoproteccion.jpg (11841 bytes)"/>
          <p:cNvPicPr/>
          <p:nvPr/>
        </p:nvPicPr>
        <p:blipFill>
          <a:blip r:embed="rId1"/>
          <a:stretch/>
        </p:blipFill>
        <p:spPr>
          <a:xfrm>
            <a:off x="1143000" y="2714760"/>
            <a:ext cx="2000160" cy="3448080"/>
          </a:xfrm>
          <a:prstGeom prst="rect">
            <a:avLst/>
          </a:prstGeom>
          <a:ln w="0">
            <a:noFill/>
          </a:ln>
        </p:spPr>
      </p:pic>
      <p:pic>
        <p:nvPicPr>
          <p:cNvPr id="211" name="10 Imagen" descr="transfromador1040 Kva."/>
          <p:cNvPicPr/>
          <p:nvPr/>
        </p:nvPicPr>
        <p:blipFill>
          <a:blip r:embed="rId2"/>
          <a:stretch/>
        </p:blipFill>
        <p:spPr>
          <a:xfrm>
            <a:off x="4643280" y="2714760"/>
            <a:ext cx="381348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5:30:17Z</dcterms:created>
  <dc:creator>Wolf</dc:creator>
  <dc:description/>
  <dc:language>en-US</dc:language>
  <cp:lastModifiedBy> Alberto Botteselle Doggenweiler</cp:lastModifiedBy>
  <dcterms:modified xsi:type="dcterms:W3CDTF">2009-11-19T12:32:26Z</dcterms:modified>
  <cp:revision>9</cp:revision>
  <dc:subject/>
  <dc:title>Especificaciones técnicas de un transformador de distribución</dc:title>
</cp:coreProperties>
</file>