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C25-D291-441C-8C32-E026768C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D65-CD12-4D8B-929D-608BD58C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764-F333-40B9-B59C-3BE2B2C1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9D8-8866-40FA-9368-F47651AD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16E4-6455-4D63-9C19-6B52C9D7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0630-1F29-444A-8454-BADED2A7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58BE-BEC0-4255-92EA-27D6DA06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AC62-DC8D-4D0D-B602-9D1EBAF7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020F-C772-48D6-BF0E-80A8C54E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14F5-F47F-42A7-917D-9F801C98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F9C0-7D3B-45FC-AC4C-3A422D3A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755-2A95-4458-A0C3-83975EF7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CC67-0902-44B5-A8EE-452AA6A3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E68D-579A-4D71-A651-14E40130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3004-7D3D-45D4-BE81-E669F6AF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7FD0-E912-4E89-8657-68A32545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663B-5A51-49F3-9875-BBE3CDB8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8FF7B-894B-420A-BB6F-35A8B9A3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B2465-6291-410E-A801-04CD6755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F748D-5847-4968-A636-6E4720A0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EFC69-4E1E-4715-B94E-175B0541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568B8-BA11-48E8-AE82-B9D4A2BE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C348-AC9C-436B-A25B-D6B0995B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722D8-61F6-4495-B01D-3B3C0DC3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A8E1F-223D-4F88-9938-BEA4BB63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9B52E-8726-42DF-8F1E-B00A5B5B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C913-50B1-4DB3-AD94-690D1880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C34A8-1B4B-42A3-83CE-5AA39BBD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0D2C-095A-4798-A6EF-4A083155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C363-87E0-4548-B814-E8B44B7B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5832E-5DF3-46FE-9283-F48788A5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FCAA7-AD5B-45C3-A206-8BC99C5A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58F09-6F16-453D-86EC-9E23FA1D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CFF-D798-4A25-8C15-B21C07E4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45C80-76A4-49B7-8C97-876AEE62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F6AA3-BC35-43D4-B29A-BF55804B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357C4-411F-4EAF-A3B1-C84247AC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4CB6B-287F-4EDF-AEED-058D6A0F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4F66C-C519-4B3D-9A20-7FF78467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586E0-80E1-47D7-9A7E-34765AC3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D83A3-1115-46F9-BCA6-1381A97B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E3D4-D0E4-4F64-8020-22C2F028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B0A84-ADD8-4874-A8C9-08FCB37E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55EA1-7642-4EF7-A920-92730723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C3C-ADD3-4BEB-A6C9-EFC2014D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3AE1F-AABA-44F9-986B-5C13C3D4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CD37F-2335-411F-A158-FD920585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345D5-C80F-4E52-B5F9-A8829706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146FE-FAAA-409C-B014-49340527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E5262-C9AD-45C6-9DEB-F69FF51E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EAE56-3E47-46D3-9577-1DACC52A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26390-7DFB-4019-8DBC-33DC0824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C4531-6C20-4146-A066-5C44C547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32F93-999A-4648-A28C-CCCB3A63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EC82B-6978-45CA-A0B0-9CD5C240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838-C7FE-4523-8BEA-A630F705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CCDAA-F3DA-4729-A4A3-3B3918DE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9423D-4B0E-4835-B8C8-F8E53BD2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D28EB-0381-44D4-BFC4-9A07B82E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6D7A2-772C-4FA0-808A-D2714F24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486C4-0A82-473A-847D-C0EC7FFC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0B2E9-27BC-4E52-863F-E21798BD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355FC-230D-4FD3-B452-9625CEBB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EE6E6-E6F5-460E-B2AD-28A90714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D8B59-C0EB-4850-8491-09B4E3A3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CF400-99B5-4C8A-962F-6D1CB6C7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DBC-AAD7-4653-B5BC-E4EA5F58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74B93-3D97-4E0F-931E-9F68E10C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AF5E0-E9B1-4301-925B-2BC2BAD0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B4D07-3438-447D-8FB3-AD08351A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FA9A3-9CD4-43E2-A6B7-E23D6A00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757F7-D860-4545-AA2E-7A3B1728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0BA95-AC17-4EA6-95A8-8984BFE3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40CF8-6080-4EE5-BC92-7E3C7435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02F11-D117-4C09-940B-ADF65A3E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0AC73-89C9-4FD1-8A41-55A779D9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C2E7A-40CB-4424-9E7E-5EAC8204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94C-AC2F-479A-9268-71B61BF6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3F41E-B4A4-4872-9C07-21E3A526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B7947-F851-438E-B444-CEDB99C5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FD844-24BD-40BC-8414-A4A85CCF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631A0-9BFC-4C14-81E2-47382B3C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7CAA7-BC08-4852-8D7D-E428A9AE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5DC1E-6770-4B9F-B422-A9BDCB4B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2C0BA-7CB2-4FAC-BE17-AEA07E39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7ED78-8852-4368-8A9B-FFE7469D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3D387-1A23-4163-AFCA-B5B2E963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BF9A2-CE10-4B88-8150-04AD08A3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700-C300-4A9E-AA6B-AE36A7FA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AFC98-3481-4023-8A03-9C35779A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1E519-8A62-4181-AC1A-057B74C5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590C5-8CEA-455A-AB1D-EE2588A8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215DD-436A-4FBC-8779-64F4B74D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28A27-A2BF-4BAE-918A-2702829D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2D3FB-7BC5-4AB6-BF38-80CEC585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DAB51-3D87-4C9A-810B-59152D05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B10E-4F68-4164-978F-35A4B4B4BDBD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3603-4109-4454-8787-5C4743A19121}" type="slidenum"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506B-C275-4481-BE19-EBF0835E597F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F6E4-5200-4B6C-9EDE-52529375AA32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3D9E-C985-4D3A-81C9-1F95EC20C52A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D8A6-B62C-445A-90E6-AA26FA7062B3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D2F4-BC08-4AEB-A7B6-3E125390DC11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3AC0-0A60-4A36-A619-12C7F241638C}" type="slidenum"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propol.files.wordpress.com/2009/05/tela-arana1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633240" y="1852560"/>
            <a:ext cx="8089920" cy="14810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Presentadore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Lilian García Ber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Bernardo Severino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Los factores que afectan la composición del tipo de polietileno s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nsidad: Al aumentarla: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 Mayor el punto de ablandamiento, impermeabilidad a gases y líquidos, claridad y brillo, menor flexibilidad y tenacid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eso promedio molecular: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 Al aumentarlo, dalo, da mayor f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exi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ilidad y ten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sid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1857240" y="1357200"/>
            <a:ext cx="528660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714680" y="1500120"/>
            <a:ext cx="5567040" cy="4319640"/>
          </a:xfrm>
          <a:prstGeom prst="rect">
            <a:avLst/>
          </a:prstGeom>
          <a:ln w="0">
            <a:noFill/>
          </a:ln>
        </p:spPr>
      </p:pic>
      <p:pic>
        <p:nvPicPr>
          <p:cNvPr id="396" name="1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6840" y="1599840"/>
            <a:ext cx="518652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Baja densidad LDP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Bolsas industriales y de uso gener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Film termocontraíb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Envasado automátic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Tuberías para rieg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Contenedores herméticos doméstic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5 Imagen" descr="bolsas.png"/>
          <p:cNvPicPr/>
          <p:nvPr/>
        </p:nvPicPr>
        <p:blipFill>
          <a:blip r:embed="rId2"/>
          <a:srcRect l="59357" t="0" r="0" b="0"/>
          <a:stretch/>
        </p:blipFill>
        <p:spPr>
          <a:xfrm>
            <a:off x="4286160" y="3786120"/>
            <a:ext cx="2714760" cy="2895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3"/>
          <a:stretch/>
        </p:blipFill>
        <p:spPr>
          <a:xfrm>
            <a:off x="5072040" y="12142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1600200"/>
            <a:ext cx="43290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Alta densidad HDE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Envases soplad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Botellas y bidon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Contenedores industria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Macet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4857840" y="1428840"/>
            <a:ext cx="3381120" cy="1895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5214960" y="3929040"/>
            <a:ext cx="3352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857160" y="1857240"/>
            <a:ext cx="7029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Características que lo hacen un buen ais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condu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permi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ctor de potencia bajo (cuidado con la oxid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sistividad dieléctrica ele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absorción de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4"/>
          <p:cNvSpPr/>
          <p:nvPr/>
        </p:nvSpPr>
        <p:spPr>
          <a:xfrm>
            <a:off x="285840" y="1357200"/>
            <a:ext cx="5715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ubo Conduit de Polieti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Esta diseñada para una larga duración libre de problemas en telecomunicaciones, fibra óptica y cableado eléctrico de baja ten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bricado de polietileno de alta dens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se Fr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requiere pegamento ni termofu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Excelente Flexi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se recomienda su utilización oculto en techos o en instalaciones vis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7 Imagen" descr="tubo.jpg"/>
          <p:cNvPicPr/>
          <p:nvPr/>
        </p:nvPicPr>
        <p:blipFill>
          <a:blip r:embed="rId2"/>
          <a:stretch/>
        </p:blipFill>
        <p:spPr>
          <a:xfrm>
            <a:off x="5786280" y="2643120"/>
            <a:ext cx="235764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57120" y="1643040"/>
            <a:ext cx="635796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  ¿Qué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Hermano del más conocido P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oceso de reticulación, 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aterial termoe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8 Imagen" descr="http://propol.files.wordpress.com/2009/05/tela-arana1.jpg?w=269&amp;h=2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6120" y="3500280"/>
            <a:ext cx="428616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4"/>
          <p:cNvSpPr/>
          <p:nvPr/>
        </p:nvSpPr>
        <p:spPr>
          <a:xfrm>
            <a:off x="357120" y="1643040"/>
            <a:ext cx="6357960" cy="40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 Reti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ormación de enlaces transversales en las cadenas del polietil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una mayor clase térmica, es decir, una mayor capacidad de corriente o de transmisión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do por rad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do por vía húm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ción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380880" y="1752480"/>
            <a:ext cx="490536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uy usados en Media y Alta Tensión(hasta 500K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bricados con Tecnología de cable extr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Pueden incorporar fibra óp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Cuentan con certificación ISO9001 y 14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Temperatura máxima de operación es 90 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"/>
          <p:cNvPicPr/>
          <p:nvPr/>
        </p:nvPicPr>
        <p:blipFill>
          <a:blip r:embed="rId2"/>
          <a:stretch/>
        </p:blipFill>
        <p:spPr>
          <a:xfrm>
            <a:off x="5197320" y="2000160"/>
            <a:ext cx="3517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¿Qué es polietileno? 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Origen Polietilenos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piedades y características constructivas del material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ceso productivo 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Tipos de polietileno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Formas de suministro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Las aplicaciones que hoy en día (aislante)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ductos ( Cables)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Mayores proveedores que en Chile existen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3219480" cy="1467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5143680" y="1928880"/>
            <a:ext cx="3014640" cy="1181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4"/>
          <a:stretch/>
        </p:blipFill>
        <p:spPr>
          <a:xfrm>
            <a:off x="3286080" y="4357800"/>
            <a:ext cx="1905120" cy="1400040"/>
          </a:xfrm>
          <a:prstGeom prst="rect">
            <a:avLst/>
          </a:prstGeom>
          <a:ln w="0">
            <a:noFill/>
          </a:ln>
        </p:spPr>
      </p:pic>
      <p:sp>
        <p:nvSpPr>
          <p:cNvPr id="422" name="10 CuadroTexto"/>
          <p:cNvSpPr/>
          <p:nvPr/>
        </p:nvSpPr>
        <p:spPr>
          <a:xfrm>
            <a:off x="642960" y="34290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Dow Chemical Co (EEU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1 CuadroTexto"/>
          <p:cNvSpPr/>
          <p:nvPr/>
        </p:nvSpPr>
        <p:spPr>
          <a:xfrm>
            <a:off x="2857680" y="585792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Union Carbide Co (EEU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5572080" y="350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Du Pont (Canad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3 CuadroTexto"/>
          <p:cNvSpPr/>
          <p:nvPr/>
        </p:nvSpPr>
        <p:spPr>
          <a:xfrm>
            <a:off x="285840" y="292896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Asesoría , Fabricación, y Montaje de piezas y equipos construidos en materiales plásticos de elevada resistencia a la corro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4 CuadroTexto"/>
          <p:cNvSpPr/>
          <p:nvPr/>
        </p:nvSpPr>
        <p:spPr>
          <a:xfrm>
            <a:off x="4929120" y="507204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alidad superior de sus productos en plásticos flex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5 Imagen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292896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6 Imagen" descr=""/>
          <p:cNvPicPr/>
          <p:nvPr/>
        </p:nvPicPr>
        <p:blipFill>
          <a:blip r:embed="rId3"/>
          <a:stretch/>
        </p:blipFill>
        <p:spPr>
          <a:xfrm>
            <a:off x="4929120" y="3500280"/>
            <a:ext cx="3214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Polímer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Polimerización del etileno o eten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CH2=CH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0" descr=""/>
          <p:cNvPicPr/>
          <p:nvPr/>
        </p:nvPicPr>
        <p:blipFill>
          <a:blip r:embed="rId2"/>
          <a:stretch/>
        </p:blipFill>
        <p:spPr>
          <a:xfrm>
            <a:off x="571680" y="3214800"/>
            <a:ext cx="2960640" cy="1427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3"/>
          <a:stretch/>
        </p:blipFill>
        <p:spPr>
          <a:xfrm>
            <a:off x="500040" y="5214960"/>
            <a:ext cx="5416560" cy="1071720"/>
          </a:xfrm>
          <a:prstGeom prst="rect">
            <a:avLst/>
          </a:prstGeom>
          <a:ln w="0">
            <a:noFill/>
          </a:ln>
        </p:spPr>
      </p:pic>
      <p:sp>
        <p:nvSpPr>
          <p:cNvPr id="378" name="7 Nube"/>
          <p:cNvSpPr/>
          <p:nvPr/>
        </p:nvSpPr>
        <p:spPr>
          <a:xfrm>
            <a:off x="5143680" y="2071800"/>
            <a:ext cx="3786120" cy="3071880"/>
          </a:xfrm>
          <a:prstGeom prst="pie">
            <a:avLst/>
          </a:prstGeom>
          <a:solidFill>
            <a:srgbClr val="00b0f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d314e"/>
                </a:solidFill>
                <a:latin typeface="Lucida Sans Unicode"/>
              </a:rPr>
              <a:t>Polimerización: Proceso químico por el que los monóm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d314e"/>
                </a:solidFill>
                <a:latin typeface="Lucida Sans Unicode"/>
              </a:rPr>
              <a:t>(compuestos de bajo peso molecular) se agrupan químicamente entre sí, dando lugar a una molécula de gran peso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 polietileno tiene una conductividad eléctrica pequeña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ja permitivida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sistencia dieléctrica elevada. </a:t>
            </a:r>
            <a:br>
              <a:rPr sz="2700"/>
            </a:b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s propiedades eléctricas no son especialmente sensibles a la humedad en virtud de la absorción muy pequeña de agua por el poli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ensidad, peso molecular promedio y s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istribución determinan las propieda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mecánicas, que a su vez dependen de 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estructura molecu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as propiedades eléctric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no cambian, ya que 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composición química 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a mis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Aumento de la dens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+ punto de ablandamiento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impermeabilidad a gases y líquidos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claridad y bril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- flexibilidad y tenac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Aumento promedio peso molecu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+ tenacidad, viscos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Lucida Sans Unicode"/>
              </a:rPr>
              <a:t>LDPE: Low Density Polyethyle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Flexi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Livian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Transparen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Inerte (al contenido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Imperme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Bajo cos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Lucida Sans Unicode"/>
              </a:rPr>
              <a:t>HDPE: High Density Polyethyle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Resistente a las bajas temperatura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Alta resistencia a la tensión compresión tracció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Baja densidad en comparación con metales u otro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materia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Para obtener polietileno, se necesita el 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puro, por ejemplo por refinación del gas natur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espués, se produce la polimerización del 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! Alta presión para LD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! Baja presión para LLDPE y HD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3:16:13Z</dcterms:created>
  <dc:creator>lilian</dc:creator>
  <dc:description/>
  <dc:language>en-US</dc:language>
  <cp:lastModifiedBy> Alberto Botteselle Doggenweiler</cp:lastModifiedBy>
  <dcterms:modified xsi:type="dcterms:W3CDTF">2010-01-04T12:59:24Z</dcterms:modified>
  <cp:revision>28</cp:revision>
  <dc:subject/>
  <dc:title>Taller de Diseño Polietileno</dc:title>
</cp:coreProperties>
</file>