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1.png" ContentType="image/png"/>
  <Override PartName="/ppt/media/image24.jpeg" ContentType="image/jpe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13CC-4079-4B0A-B2D6-F4739145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BAFD-651E-4EC1-9CC8-F3A845A5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470-0903-48EF-9FC6-20104437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13B-A6C7-4151-8671-1696D099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34A4-5708-4473-88C3-D728AB6E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5616-DC71-45A1-828F-35F6BECC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E0EA-CA89-4B56-B1FE-903F0873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7198-7E1E-4FBA-A268-76B4B71E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7FCF-C58F-4DC0-9950-DD15F4B2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7C31-A813-4861-BE64-63D7F714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1AE5-736C-4D7A-9A3F-59C02EA2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CB11-F6E9-44C2-98FC-E8AEC80B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1579-FBDA-4C56-9437-5EF99070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9B9F-A65C-4BE2-BFBC-65D52278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F570-822A-402D-86FB-39307140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9A06-F9C0-490E-8B22-E9F7638B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BD0C-5291-4213-938C-41A503E5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EAE6F-DDD8-406B-896B-27A310E6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C45E8-621C-461A-BE13-4A9AE968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39873-9C01-40E3-AA1F-DCB917F0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43454-0330-4A35-8C03-93D900A6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1066E-9AB8-4BCC-82CD-5E735524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0C8C-9A36-4E98-A35A-4174AD1E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42761-DF6E-43C6-9D26-14A373AB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98E6C-C404-457B-9E9C-5012B976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CA540-332B-445F-9011-1CC83B46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7E0AE-5217-49A7-9262-BFCA67D4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3EB67-1E62-4475-A105-9FA91A71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9225D-3BBD-4D1D-87BB-BE90E708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40756-9DF6-479C-B320-AA4E869F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0AFA7-D86B-4395-9ACA-34163D52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30AB2-8084-480D-AE7B-A02F73BC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C8281-8864-4935-9B86-B4C5E8E1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EEC8-63DE-44E7-85BC-DD97F260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8A539-BF10-402B-A246-068B77C7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0847F-5BAA-422F-9BE6-7400EA90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15713-5985-437B-BEFC-B7E537D5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228AA-4C32-4B07-9FA6-DF212F10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E0B0D-CC4B-4ADD-B08C-87E354F3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49E49-46AA-4983-8E53-170168F4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4953D-FE78-4E86-A0DB-16985529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23F99-F08A-4B26-ADDB-E90D57F3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CBCA5-AD10-4622-B3F2-589C2941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DC01C-FC19-44C1-BD29-B82B51D5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EDC-60BF-4EB5-81ED-8408D9D7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A437F-29D6-433C-BF18-C76F8062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F2DDB-25C1-4EEB-97F7-FF1FEBA2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3FC4F-6DB6-418E-9CFF-27B6FD92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07001-5712-45B9-8465-77712055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A900D-3B13-4226-9584-A6F50484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9AFBE-7751-4FCF-B8BE-0C7010C6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3E848-B2D0-4534-B57D-54A582B6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FE1BA-01A5-42B8-9090-87D9B2A8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410A4-97D7-4979-8A21-2F0F260F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42E91-2AB1-4B40-AA41-02C24587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254C-C03B-476A-A2BB-8B4705CF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EBE34-D973-456E-B917-FD28ADF8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C8FBB-A5BB-4D48-8597-9F3EEBA0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EB3EA-C449-4578-B807-29CA8E2F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81F96-E570-47EA-ADAA-F4C4A3DA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FDB35-DB6B-4F3B-8FBF-A5B05861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A5F79-B720-4769-AD64-30A9F336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1B7FF-C1D9-420B-A1C8-6505EEAB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DFA9C-B1D8-4883-98CB-393B51E8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8D91E-5B02-4586-B1FD-EB9EC613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52AB0-EBDA-4D6C-8BF6-2FCED2CB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E2C6-1E30-416B-9523-616A1A57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3D1E7-801A-4483-940B-606B81AE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64F8C-DC01-4A75-93FD-9FD014E7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1DECA-2501-43C5-880A-1B9B2393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B14DA-7547-4DD7-98A1-3D21A185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0448E-58B3-454A-9C80-C9C38BE4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C7310-16A3-48DA-A706-9F5AE1C8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A2E5F-0576-4DB4-83EC-275963FD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948A1-4CD4-4040-BB3A-277269CF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59EAA-8763-4540-8C7B-C218CD3C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3727D-55B0-43FF-A7E8-E1989BF9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BBC-6D4F-43C4-BD47-33F56BB4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116A0-4399-4399-B7B5-9FCBF014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7A90A-EF29-4CA2-86E9-7F04863C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1CD2A-34CD-4C1E-B1A9-8F32D50B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FC4B4-5F64-472B-BD54-C523EAEA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A82B4-A54A-457E-9385-AB8D58EF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91761-D8AF-4D34-ABAB-26B5C82D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9BC5F-A727-4D77-824C-F31DE18A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6E50C-E7BB-47AA-BE8C-42069A60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21236-85D8-4B5F-86DC-941E125C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3E25E-0402-4505-A356-52C0F364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A5C-F6E3-4443-B4FA-0B6D4D7F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413C6-127F-4180-B330-2E908819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ECEA2-10CE-449A-9EAB-6E6B9463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5304B-C456-4A60-8257-85E153A8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E8F5A-4226-40A7-A5ED-7A90FB43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48EFE-38B1-4750-AD51-F92CF552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C913B-A4AA-4290-AEF8-0B7A603F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4450A-B354-4A0C-AB50-AE0CC761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D310-F722-4B78-B8DC-EEFE22F76772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C2D2-4E6D-4864-9F47-353B0FA35D85}" type="slidenum"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CCB9-83C8-4C97-BA71-DC9AFD98453E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0798-0D35-477F-AB8F-8A17A3F9DAB5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F785-1F22-45B1-ADE4-9273CC985D58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52FF-59DA-4B33-BA54-723D157A658E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D0A5-A484-4231-9333-1AB56BA3990C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740B-F505-45AA-9CB1-5101C066B889}" type="slidenum"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propol.files.wordpress.com/2009/05/tela-arana1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633240" y="1852560"/>
            <a:ext cx="8089920" cy="14810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64646"/>
                </a:solidFill>
                <a:latin typeface="Lucida Sans Unicode"/>
              </a:rPr>
              <a:t>Presentadore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64646"/>
                </a:solidFill>
                <a:latin typeface="Lucida Sans Unicode"/>
              </a:rPr>
              <a:t>Lilian García Berg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64646"/>
                </a:solidFill>
                <a:latin typeface="Lucida Sans Unicode"/>
              </a:rPr>
              <a:t>Bernardo Severino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Los factores que afectan la composición del tipo de polietileno s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nsidad: Al aumentarla: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 Mayor el punto de ablandamiento, impermeabilidad a gases y líquidos, claridad y brillo, menor flexibilidad y tenacid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eso promedio molecular: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 Al aumentarlo, dalo, da mayor f</a:t>
            </a: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l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exi</a:t>
            </a: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ilidad y ten</a:t>
            </a: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sid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1857240" y="1357200"/>
            <a:ext cx="528660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714680" y="1500120"/>
            <a:ext cx="5567040" cy="4319640"/>
          </a:xfrm>
          <a:prstGeom prst="rect">
            <a:avLst/>
          </a:prstGeom>
          <a:ln w="0">
            <a:noFill/>
          </a:ln>
        </p:spPr>
      </p:pic>
      <p:pic>
        <p:nvPicPr>
          <p:cNvPr id="396" name="1 Título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6840" y="1599840"/>
            <a:ext cx="518652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Baja densidad LDP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Bolsas industriales y de uso gener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Film termocontraíb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Envasado automátic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Tuberías para rieg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Contenedores herméticos doméstic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5 Imagen" descr="bolsas.png"/>
          <p:cNvPicPr/>
          <p:nvPr/>
        </p:nvPicPr>
        <p:blipFill>
          <a:blip r:embed="rId2"/>
          <a:srcRect l="59357" t="0" r="0" b="0"/>
          <a:stretch/>
        </p:blipFill>
        <p:spPr>
          <a:xfrm>
            <a:off x="4286160" y="3786120"/>
            <a:ext cx="2714760" cy="2895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3"/>
          <a:stretch/>
        </p:blipFill>
        <p:spPr>
          <a:xfrm>
            <a:off x="5072040" y="1214280"/>
            <a:ext cx="321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6840" y="1600200"/>
            <a:ext cx="43290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Alta densidad HDE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Envases soplad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Botellas y bidon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Contenedores industrial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Macet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4857840" y="1428840"/>
            <a:ext cx="3381120" cy="1895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5214960" y="3929040"/>
            <a:ext cx="3352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857160" y="1857240"/>
            <a:ext cx="7029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Características que lo hacen un buen ais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Baja condu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Baja permi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actor de potencia bajo (cuidado con la oxid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sistividad dieléctrica elev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Baja absorción de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4"/>
          <p:cNvSpPr/>
          <p:nvPr/>
        </p:nvSpPr>
        <p:spPr>
          <a:xfrm>
            <a:off x="285840" y="1357200"/>
            <a:ext cx="5715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ubo Conduit de Polietil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Esta diseñada para una larga duración libre de problemas en telecomunicaciones, fibra óptica y cableado eléctrico de baja ten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abricado de polietileno de alta dens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 se Fra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 requiere pegamento ni termofus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Excelente Flexibil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 se recomienda su utilización oculto en techos o en instalaciones visi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7 Imagen" descr="tubo.jpg"/>
          <p:cNvPicPr/>
          <p:nvPr/>
        </p:nvPicPr>
        <p:blipFill>
          <a:blip r:embed="rId2"/>
          <a:stretch/>
        </p:blipFill>
        <p:spPr>
          <a:xfrm>
            <a:off x="5786280" y="2643120"/>
            <a:ext cx="235764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57120" y="1643040"/>
            <a:ext cx="6357960" cy="22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ables de polietileno Reticulado XLPE  ¿Qué 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Hermano del más conocido P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Proceso de reticulación, 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Material termoe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8 Imagen" descr="http://propol.files.wordpress.com/2009/05/tela-arana1.jpg?w=269&amp;h=2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6120" y="3500280"/>
            <a:ext cx="428616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4"/>
          <p:cNvSpPr/>
          <p:nvPr/>
        </p:nvSpPr>
        <p:spPr>
          <a:xfrm>
            <a:off x="357120" y="1643040"/>
            <a:ext cx="6357960" cy="40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ables de polietileno Reticulado XLPE Retic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ormación de enlaces transversales en las cadenas del polietil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una mayor clase térmica, es decir, una mayor capacidad de corriente o de transmisión de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ticulado por rad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ticulado por vía húm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ticulación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380880" y="1752480"/>
            <a:ext cx="4905360" cy="43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ables de polietileno Reticulado XL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Muy usados en Media y Alta Tensión(hasta 500K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abricados con Tecnología de cable extr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Pueden incorporar fibra óp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Cuentan con certificación ISO9001 y 14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Temperatura máxima de operación es 90 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"/>
          <p:cNvPicPr/>
          <p:nvPr/>
        </p:nvPicPr>
        <p:blipFill>
          <a:blip r:embed="rId2"/>
          <a:stretch/>
        </p:blipFill>
        <p:spPr>
          <a:xfrm>
            <a:off x="5197320" y="2000160"/>
            <a:ext cx="35179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¿Qué es polietileno? 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Origen Polietilenos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Propiedades y características constructivas del material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Proceso productivo 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Tipos de polietileno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Formas de suministro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Las aplicaciones que hoy en día (aislante)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Productos ( Cables)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Mayores proveedores que en Chile existen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500040" y="1857240"/>
            <a:ext cx="3219480" cy="1467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3"/>
          <a:stretch/>
        </p:blipFill>
        <p:spPr>
          <a:xfrm>
            <a:off x="5143680" y="1928880"/>
            <a:ext cx="3014640" cy="1181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4"/>
          <a:stretch/>
        </p:blipFill>
        <p:spPr>
          <a:xfrm>
            <a:off x="3286080" y="4357800"/>
            <a:ext cx="1905120" cy="1400040"/>
          </a:xfrm>
          <a:prstGeom prst="rect">
            <a:avLst/>
          </a:prstGeom>
          <a:ln w="0">
            <a:noFill/>
          </a:ln>
        </p:spPr>
      </p:pic>
      <p:sp>
        <p:nvSpPr>
          <p:cNvPr id="422" name="10 CuadroTexto"/>
          <p:cNvSpPr/>
          <p:nvPr/>
        </p:nvSpPr>
        <p:spPr>
          <a:xfrm>
            <a:off x="642960" y="34290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Dow Chemical Co (EEU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11 CuadroTexto"/>
          <p:cNvSpPr/>
          <p:nvPr/>
        </p:nvSpPr>
        <p:spPr>
          <a:xfrm>
            <a:off x="2857680" y="585792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Union Carbide Co (EEU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12 CuadroTexto"/>
          <p:cNvSpPr/>
          <p:nvPr/>
        </p:nvSpPr>
        <p:spPr>
          <a:xfrm>
            <a:off x="5572080" y="3500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Du Pont (Canad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3 CuadroTexto"/>
          <p:cNvSpPr/>
          <p:nvPr/>
        </p:nvSpPr>
        <p:spPr>
          <a:xfrm>
            <a:off x="285840" y="292896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Asesoría , Fabricación, y Montaje de piezas y equipos construidos en materiales plásticos de elevada resistencia a la corro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4 CuadroTexto"/>
          <p:cNvSpPr/>
          <p:nvPr/>
        </p:nvSpPr>
        <p:spPr>
          <a:xfrm>
            <a:off x="4929120" y="507204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calidad superior de sus productos en plásticos flexi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5 Imagen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2928960" cy="1143000"/>
          </a:xfrm>
          <a:prstGeom prst="rect">
            <a:avLst/>
          </a:prstGeom>
          <a:ln w="0">
            <a:noFill/>
          </a:ln>
        </p:spPr>
      </p:pic>
      <p:pic>
        <p:nvPicPr>
          <p:cNvPr id="429" name="6 Imagen" descr=""/>
          <p:cNvPicPr/>
          <p:nvPr/>
        </p:nvPicPr>
        <p:blipFill>
          <a:blip r:embed="rId3"/>
          <a:stretch/>
        </p:blipFill>
        <p:spPr>
          <a:xfrm>
            <a:off x="4929120" y="3500280"/>
            <a:ext cx="3214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</a:rPr>
              <a:t>Polímer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Polimerización del etileno o eten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CH2=CH2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0" descr=""/>
          <p:cNvPicPr/>
          <p:nvPr/>
        </p:nvPicPr>
        <p:blipFill>
          <a:blip r:embed="rId2"/>
          <a:stretch/>
        </p:blipFill>
        <p:spPr>
          <a:xfrm>
            <a:off x="571680" y="3214800"/>
            <a:ext cx="2960640" cy="1427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3"/>
          <a:stretch/>
        </p:blipFill>
        <p:spPr>
          <a:xfrm>
            <a:off x="500040" y="5214960"/>
            <a:ext cx="5416560" cy="1071720"/>
          </a:xfrm>
          <a:prstGeom prst="rect">
            <a:avLst/>
          </a:prstGeom>
          <a:ln w="0">
            <a:noFill/>
          </a:ln>
        </p:spPr>
      </p:pic>
      <p:sp>
        <p:nvSpPr>
          <p:cNvPr id="378" name="7 Nube"/>
          <p:cNvSpPr/>
          <p:nvPr/>
        </p:nvSpPr>
        <p:spPr>
          <a:xfrm>
            <a:off x="5143680" y="2071800"/>
            <a:ext cx="3786120" cy="3071880"/>
          </a:xfrm>
          <a:prstGeom prst="pie">
            <a:avLst/>
          </a:prstGeom>
          <a:solidFill>
            <a:srgbClr val="00b0f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1d314e"/>
                </a:solidFill>
                <a:latin typeface="Lucida Sans Unicode"/>
              </a:rPr>
              <a:t>Polimerización: Proceso químico por el que los monóm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1d314e"/>
                </a:solidFill>
                <a:latin typeface="Lucida Sans Unicode"/>
              </a:rPr>
              <a:t>(compuestos de bajo peso molecular) se agrupan químicamente entre sí, dando lugar a una molécula de gran peso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l polietileno tiene una conductividad eléctrica pequeña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aja permitivida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sistencia dieléctrica elevada. </a:t>
            </a:r>
            <a:br>
              <a:rPr sz="2700"/>
            </a:b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as propiedades eléctricas no son especialmente sensibles a la humedad en virtud de la absorción muy pequeña de agua por el polietile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Densidad, peso molecular promedio y s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distribución determinan las propieda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mecánicas, que a su vez dependen de 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estructura molecul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Las propiedades eléctric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Lucida Sans Unicode"/>
              </a:rPr>
              <a:t>no cambian, ya que 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composición química 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la mis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Lucida Sans Unicode"/>
              </a:rPr>
              <a:t>Aumento de la densid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+ punto de ablandamiento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impermeabilidad a gases y líquidos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claridad y bril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- flexibilidad y tenacid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Lucida Sans Unicode"/>
              </a:rPr>
              <a:t>Aumento promedio peso molecul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+ tenacidad, viscosid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Lucida Sans Unicode"/>
              </a:rPr>
              <a:t>LDPE: Low Density Polyethylen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Flexi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Livian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Transparent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Inerte (al contenido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Impermea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Bajo cos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Lucida Sans Unicode"/>
              </a:rPr>
              <a:t>HDPE: High Density Polyethylen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Resistente a las bajas temperatura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Alta resistencia a la tensión compresión tracció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Baja densidad en comparación con metales u otro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materia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Para obtener polietileno, se necesita el etile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puro, por ejemplo por refinación del gas natur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Después, se produce la polimerización del etile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! Alta presión para LD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! Baja presión para LLDPE y HD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3:16:13Z</dcterms:created>
  <dc:creator>lilian</dc:creator>
  <dc:description/>
  <dc:language>en-US</dc:language>
  <cp:lastModifiedBy> Alberto Botteselle Doggenweiler</cp:lastModifiedBy>
  <dcterms:modified xsi:type="dcterms:W3CDTF">2010-01-04T12:59:24Z</dcterms:modified>
  <cp:revision>28</cp:revision>
  <dc:subject/>
  <dc:title>Taller de Diseño Polietileno</dc:title>
</cp:coreProperties>
</file>