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1.png" ContentType="image/png"/>
  <Override PartName="/ppt/media/image24.jpeg" ContentType="image/jpeg"/>
  <Override PartName="/ppt/media/image2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6640-BB2F-49AE-A18A-AFE96028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5B0-A0F8-47BD-A419-74D57593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2DC-49EF-4A9C-A2BC-17EF28D6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914-895C-41BC-B9DE-F925E1FE1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5AC95-2F5D-4EF6-B818-9E47D0C11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934A-3053-4BDD-A2C8-48CD3A40E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9943D-96C0-4640-8FD1-5D8435CB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245A-3C9E-4C8B-B285-ABF689A3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26D3-3244-42AB-A3ED-D8E7A141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14D32-DF10-44EF-B8ED-CE842AF29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0777-ED5F-4163-B294-F7E5C416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1CA1-7ABD-44CA-BEC9-284E7ADA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03799-CB50-4EF1-8DCA-F43C2A75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20011-B045-4B59-A60F-A917E935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638E3-61D8-4A33-A22C-E14FD9B3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7D47-4DE3-419B-8706-8C2A2B0C3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6BA6F-B9D5-4F3E-8BE8-1C2DDCB6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E157-262A-4959-9361-A9AB592E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90914-032C-4C81-89FC-1FB75EBC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1CA9A-BE23-4885-81A0-D76ADAF7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09E0-71D4-43BA-B93F-FFD59D31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8E636-8DC3-499F-81A5-3DDE22338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D51E-6A11-4FEF-B6DE-B6AB2CC48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DB6C-363C-4C45-9D2D-8F59F2930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DEE0-FA71-41A0-98BC-3E703090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44A2-367C-4812-BB6B-DF2F80F2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45AB3-D9D8-4DB6-BD4C-1EB7E0DC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DBC8E-150F-46EC-8F97-2600F59C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69953-59ED-40A0-9575-258A5882E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15614-3C48-4ECE-9B2E-6B6B8DF1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75B80-E5C1-4157-9790-499FFC64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68027-49BC-4B00-AB0F-6829C485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83A89-1FF9-4361-ACF9-12D36443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6AFB-D9E8-44ED-8286-B256CA8C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D887E-3858-4FDF-BA3B-018AE464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F1F8-1600-450F-8182-F0802F32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723AD-6A2C-4514-9776-FF050AB33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F19A8-82BA-4A69-8AA1-D9D0E162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6EBCD-F79D-4ECD-8EDC-2755BE10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DD4A2-4A23-42F9-85F9-04D27BE6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676BD-7CAA-48C1-B80A-128943E0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45B17-0110-4DE8-BD90-ECC0DDC7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BBEBB-9CE7-46B1-9F70-C8E89B7CD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656D6-AEEA-4C38-B605-72F95548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82C9-5F1C-4C31-AA79-20A7A71E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7FB89-A4F1-43EB-BDDD-23DBAB59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FBF897-D09A-43C3-A905-4BAAC1A2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E2800-16D5-4D9C-9165-CE34A66E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60710-A9ED-4951-ACF6-9E03FCF81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A0979-794E-46CF-B906-3F34F8B7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F50C5-2995-415E-B68B-3BB73CAC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B2425-860C-4CF0-BB97-3DD42B66A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596C2-F80D-4181-B4D8-488D8E6B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6566F2-C074-4FBD-ADE3-E160F950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04E14-DCBC-46C6-96A7-033634A6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51A5-539F-4700-959A-2FB2FA2C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E45EE-2136-4DAA-989C-A54A0B15E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0C9B9-D6BF-4E7F-9A76-E0CE27446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16335-284D-4CD9-B767-2B32AF35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21EB4E-CEBE-46E0-84B4-FF57D0A5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EBC01-366D-4FD1-9A62-6581EDC4C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4564F-E689-4C0B-BBE4-0BDEC8B71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E7F2F-3C98-4C1D-93E1-EBB91874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33A64-A989-4DD4-95FF-630EFC8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7DF4D-A290-4454-B5BD-191AF58F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DA28C-CE19-41CD-8B46-AEE3EEF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4AF-15C2-4163-9937-C7396582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EDBF8-DBF2-4914-B7BC-8EEBED08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EB57C-D82F-41A3-9884-DF8C9AD4A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A2715-D491-4BCB-BFFC-6CC138D2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1424B-5E47-420C-8738-66F10B9C7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A3BAE-1E35-4808-85F4-FF5CEE68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8EB1E-C6CB-4BED-85D8-81551894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EB6D87-D2B0-4C2B-9EB6-BF55792E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C9C0A-0BE6-4E38-B40C-F5C12A65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1A853-4535-4254-AECB-C89E1D88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5467C-C56F-4092-B723-EC637752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B565-AF65-48F3-BA48-85CBCAB4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4A754-B681-4B62-BAF3-D20A14D3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B07F5-E076-438C-82E3-8CE86B9D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D0930-8F03-4B45-8922-C733E95E8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8C154-B5FA-4608-94AC-2A99CDB26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55CD6-C8BD-43F9-80BF-52EBC89C6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097CA-49B5-4429-B402-4590B4F0C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9C5A3-6E4D-4B0D-8592-922FEC2E3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03B96-CF50-4181-B63E-93D27F46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CB44AB-689F-4AA0-8CB7-4AC2810F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BBA9D-7FA2-4D77-AED1-545206F3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059-F246-4BDA-BD05-0A74F860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051543-7C9F-4B0B-99CE-AF859779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182A3-F1CE-40CB-91F6-651FAE2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265EA-3717-4AA0-BF10-7A071112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AE038-9FC8-411D-B4A8-70F6A062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0742C-1653-4127-B3AA-27654935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36FB53-B28E-40F9-A0D0-8DCCE119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04A337-86EA-4972-B805-A0FB737D0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13 Triángulo rectángulo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14 Conector recto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A7EDF-59A8-48AC-98CC-E40A9D1BF4F3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0 Triángulo rectángulo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15 Grupo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16 Forma libre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18 Forma libre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19 Forma libre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19 Forma libre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20 Conector recto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7588-5310-4797-B261-64438201DBD8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10 Cheurón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5 Cheurón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C96BC-5FB5-4C9F-B6EE-74E4697F1DAE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79FC-6F4F-45E4-8500-26D82D2ECD4F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7675-87CC-42B5-A4F0-A94CC997B17E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12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11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13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13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14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33A9-D5BC-4339-AA47-CEE3E2AA7697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819F-95E0-4AD4-B57F-F707393CB9FA}" type="slidenum">
              <a:rPr b="0" lang="es-C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10 Forma libre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5 Forma libre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16 Triángulo rectángulo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16 Triángulo rectángulo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18 Conector recto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19 Cheurón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20 Cheurón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307C-79AC-4C7F-A186-4490B5E51EEA}" type="slidenum">
              <a:rPr b="0" lang="es-C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propol.files.wordpress.com/2009/05/tela-arana1.jpg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1 Título" descr=""/>
          <p:cNvPicPr/>
          <p:nvPr/>
        </p:nvPicPr>
        <p:blipFill>
          <a:blip r:embed="rId1"/>
          <a:stretch/>
        </p:blipFill>
        <p:spPr>
          <a:xfrm>
            <a:off x="633240" y="1852560"/>
            <a:ext cx="8089920" cy="14810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Presentadore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Lilian García Ber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464646"/>
                </a:solidFill>
                <a:latin typeface="Lucida Sans Unicode"/>
              </a:rPr>
              <a:t>Bernardo Severino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Los factores que afectan la composición del tipo de polietileno so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1687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nsidad: Al aumentarla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Mayor el punto de ablandamiento, impermeabilidad a gases y líquidos, claridad y brillo, menor flexibilidad y tenac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Peso promedio molecular: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 Al aumentarlo, dalo, da mayor f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exi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b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ilidad y ten</a:t>
            </a: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a</a:t>
            </a:r>
            <a:r>
              <a:rPr b="0" lang="es-ES_tradnl" sz="2700" spc="-1" strike="noStrike">
                <a:solidFill>
                  <a:srgbClr val="000000"/>
                </a:solidFill>
                <a:latin typeface="Lucida Sans Unicode"/>
              </a:rPr>
              <a:t>sid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"/>
          <p:cNvPicPr/>
          <p:nvPr/>
        </p:nvPicPr>
        <p:blipFill>
          <a:blip r:embed="rId2"/>
          <a:stretch/>
        </p:blipFill>
        <p:spPr>
          <a:xfrm>
            <a:off x="1857240" y="1357200"/>
            <a:ext cx="52866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"/>
          <p:cNvPicPr/>
          <p:nvPr/>
        </p:nvPicPr>
        <p:blipFill>
          <a:blip r:embed="rId1"/>
          <a:stretch/>
        </p:blipFill>
        <p:spPr>
          <a:xfrm>
            <a:off x="1714680" y="1500120"/>
            <a:ext cx="5567040" cy="4319640"/>
          </a:xfrm>
          <a:prstGeom prst="rect">
            <a:avLst/>
          </a:prstGeom>
          <a:ln w="0">
            <a:noFill/>
          </a:ln>
        </p:spPr>
      </p:pic>
      <p:pic>
        <p:nvPicPr>
          <p:cNvPr id="396" name="1 Título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6840" y="1599840"/>
            <a:ext cx="518652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Baja densidad LDP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lsas industriales y de uso gener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Film termocontraíbl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ado automátic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Tuberías para rieg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herméticos doméstic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5 Imagen" descr="bolsas.png"/>
          <p:cNvPicPr/>
          <p:nvPr/>
        </p:nvPicPr>
        <p:blipFill>
          <a:blip r:embed="rId2"/>
          <a:srcRect l="59357" t="0" r="0" b="0"/>
          <a:stretch/>
        </p:blipFill>
        <p:spPr>
          <a:xfrm>
            <a:off x="4286160" y="3786120"/>
            <a:ext cx="2714760" cy="2895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" descr=""/>
          <p:cNvPicPr/>
          <p:nvPr/>
        </p:nvPicPr>
        <p:blipFill>
          <a:blip r:embed="rId3"/>
          <a:stretch/>
        </p:blipFill>
        <p:spPr>
          <a:xfrm>
            <a:off x="5072040" y="12142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6840" y="1600200"/>
            <a:ext cx="43290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Alta densidad HDEP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Envases soplado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Botellas y bidon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Contenedores industrial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Lucida Sans Unicode"/>
              </a:rPr>
              <a:t>Maceta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4857840" y="1428840"/>
            <a:ext cx="3381120" cy="18954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214960" y="3929040"/>
            <a:ext cx="3352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857160" y="1857240"/>
            <a:ext cx="702972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Lucida Sans Unicode"/>
              </a:rPr>
              <a:t>Características que lo hacen un buen aisl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condu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permi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ctor de potencia bajo (cuidado con la oxid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sistividad dieléctrica elev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Baja absorción de ag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4"/>
          <p:cNvSpPr/>
          <p:nvPr/>
        </p:nvSpPr>
        <p:spPr>
          <a:xfrm>
            <a:off x="285840" y="1357200"/>
            <a:ext cx="5715000" cy="462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ubo Conduit de Polietil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</a:rPr>
              <a:t>Esta diseñada para una larga duración libre de problemas en telecomunicaciones, fibra óptica y cableado eléctrico de baja ten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 de polietileno de alta dens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Fr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requiere pegamento ni termofus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Excelente Flexibil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No se recomienda su utilización oculto en techos o en instalaciones vis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7 Imagen" descr="tubo.jpg"/>
          <p:cNvPicPr/>
          <p:nvPr/>
        </p:nvPicPr>
        <p:blipFill>
          <a:blip r:embed="rId2"/>
          <a:stretch/>
        </p:blipFill>
        <p:spPr>
          <a:xfrm>
            <a:off x="5786280" y="2643120"/>
            <a:ext cx="235764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57120" y="1643040"/>
            <a:ext cx="6357960" cy="22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 ¿Qué 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Hermano del más conocido PV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roceso de reticulación,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aterial termoes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8 Imagen" descr="http://propol.files.wordpress.com/2009/05/tela-arana1.jpg?w=269&amp;h=20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86120" y="3500280"/>
            <a:ext cx="428616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4"/>
          <p:cNvSpPr/>
          <p:nvPr/>
        </p:nvSpPr>
        <p:spPr>
          <a:xfrm>
            <a:off x="357120" y="1643040"/>
            <a:ext cx="6357960" cy="40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 Reti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ormación de enlaces transversales en las cadenas del polietile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una mayor clase térmica, es decir, una mayor capacidad de corriente o de transmisión de energ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ra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do por vía húme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Reticulación Contin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380880" y="1752480"/>
            <a:ext cx="490536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Cables de polietileno Reticulado XL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Muy usados en Media y Alta Tensión(hasta 500KV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Fabricados con Tecnología de cable extru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Pueden incorporar fibra óp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Cuentan con certificación ISO9001 y 14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Lucida Sans Unicode"/>
                <a:ea typeface="Arial"/>
              </a:rPr>
              <a:t>Temperatura máxima de operación es 9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Picture 6" descr=""/>
          <p:cNvPicPr/>
          <p:nvPr/>
        </p:nvPicPr>
        <p:blipFill>
          <a:blip r:embed="rId2"/>
          <a:stretch/>
        </p:blipFill>
        <p:spPr>
          <a:xfrm>
            <a:off x="5197320" y="2000160"/>
            <a:ext cx="351792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¿Qué es polietileno?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Origen Polietilenos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piedades y características constructivas del material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ceso productivo  (lili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Tipos de polietilen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Formas de suministro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Las aplicaciones que hoy en día (aislante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Productos ( Cables)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Lucida Sans Unicode"/>
              </a:rPr>
              <a:t>Mayores proveedores que en Chile existen (bern)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" descr=""/>
          <p:cNvPicPr/>
          <p:nvPr/>
        </p:nvPicPr>
        <p:blipFill>
          <a:blip r:embed="rId2"/>
          <a:stretch/>
        </p:blipFill>
        <p:spPr>
          <a:xfrm>
            <a:off x="500040" y="1857240"/>
            <a:ext cx="3219480" cy="14670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3"/>
          <a:stretch/>
        </p:blipFill>
        <p:spPr>
          <a:xfrm>
            <a:off x="5143680" y="1928880"/>
            <a:ext cx="3014640" cy="11811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4" descr=""/>
          <p:cNvPicPr/>
          <p:nvPr/>
        </p:nvPicPr>
        <p:blipFill>
          <a:blip r:embed="rId4"/>
          <a:stretch/>
        </p:blipFill>
        <p:spPr>
          <a:xfrm>
            <a:off x="3286080" y="4357800"/>
            <a:ext cx="1905120" cy="1400040"/>
          </a:xfrm>
          <a:prstGeom prst="rect">
            <a:avLst/>
          </a:prstGeom>
          <a:ln w="0">
            <a:noFill/>
          </a:ln>
        </p:spPr>
      </p:pic>
      <p:sp>
        <p:nvSpPr>
          <p:cNvPr id="422" name="10 CuadroTexto"/>
          <p:cNvSpPr/>
          <p:nvPr/>
        </p:nvSpPr>
        <p:spPr>
          <a:xfrm>
            <a:off x="642960" y="3429000"/>
            <a:ext cx="257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ow Chemical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11 CuadroTexto"/>
          <p:cNvSpPr/>
          <p:nvPr/>
        </p:nvSpPr>
        <p:spPr>
          <a:xfrm>
            <a:off x="285768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Union Carbide Co (EEU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12 CuadroTexto"/>
          <p:cNvSpPr/>
          <p:nvPr/>
        </p:nvSpPr>
        <p:spPr>
          <a:xfrm>
            <a:off x="5572080" y="350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Lucida Sans Unicode"/>
              </a:rPr>
              <a:t>Du Pont (Canadá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3 CuadroTexto"/>
          <p:cNvSpPr/>
          <p:nvPr/>
        </p:nvSpPr>
        <p:spPr>
          <a:xfrm>
            <a:off x="285840" y="292896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Asesoría , Fabricación, y Montaje de piezas y equipos construidos en materiales plásticos de elevada resistencia a la corro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4 CuadroTexto"/>
          <p:cNvSpPr/>
          <p:nvPr/>
        </p:nvSpPr>
        <p:spPr>
          <a:xfrm>
            <a:off x="4929120" y="5072040"/>
            <a:ext cx="357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Lucida Sans Unicode"/>
              </a:rPr>
              <a:t>calidad superior de sus productos en plásticos flexi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5 Imagen" descr=""/>
          <p:cNvPicPr/>
          <p:nvPr/>
        </p:nvPicPr>
        <p:blipFill>
          <a:blip r:embed="rId2"/>
          <a:stretch/>
        </p:blipFill>
        <p:spPr>
          <a:xfrm>
            <a:off x="785880" y="1571760"/>
            <a:ext cx="2928960" cy="1143000"/>
          </a:xfrm>
          <a:prstGeom prst="rect">
            <a:avLst/>
          </a:prstGeom>
          <a:ln w="0">
            <a:noFill/>
          </a:ln>
        </p:spPr>
      </p:pic>
      <p:pic>
        <p:nvPicPr>
          <p:cNvPr id="429" name="6 Imagen" descr=""/>
          <p:cNvPicPr/>
          <p:nvPr/>
        </p:nvPicPr>
        <p:blipFill>
          <a:blip r:embed="rId3"/>
          <a:stretch/>
        </p:blipFill>
        <p:spPr>
          <a:xfrm>
            <a:off x="4929120" y="3500280"/>
            <a:ext cx="32148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Lucida Sans Unicode"/>
              </a:rPr>
              <a:t>Polímero: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Polimerización del etileno o eten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Lucida Sans Unicode"/>
              </a:rPr>
              <a:t>CH2=CH2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0" descr=""/>
          <p:cNvPicPr/>
          <p:nvPr/>
        </p:nvPicPr>
        <p:blipFill>
          <a:blip r:embed="rId2"/>
          <a:stretch/>
        </p:blipFill>
        <p:spPr>
          <a:xfrm>
            <a:off x="571680" y="3214800"/>
            <a:ext cx="2960640" cy="14270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" descr=""/>
          <p:cNvPicPr/>
          <p:nvPr/>
        </p:nvPicPr>
        <p:blipFill>
          <a:blip r:embed="rId3"/>
          <a:stretch/>
        </p:blipFill>
        <p:spPr>
          <a:xfrm>
            <a:off x="500040" y="5214960"/>
            <a:ext cx="5416560" cy="1071720"/>
          </a:xfrm>
          <a:prstGeom prst="rect">
            <a:avLst/>
          </a:prstGeom>
          <a:ln w="0">
            <a:noFill/>
          </a:ln>
        </p:spPr>
      </p:pic>
      <p:sp>
        <p:nvSpPr>
          <p:cNvPr id="378" name="7 Nube"/>
          <p:cNvSpPr/>
          <p:nvPr/>
        </p:nvSpPr>
        <p:spPr>
          <a:xfrm>
            <a:off x="5143680" y="2071800"/>
            <a:ext cx="3786120" cy="3071880"/>
          </a:xfrm>
          <a:prstGeom prst="pie">
            <a:avLst/>
          </a:prstGeom>
          <a:solidFill>
            <a:srgbClr val="00b0f0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Polimerización: Proceso químico por el que los monómer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1d314e"/>
                </a:solidFill>
                <a:latin typeface="Lucida Sans Unicode"/>
              </a:rPr>
              <a:t>(compuestos de bajo peso molecular) se agrupan químicamente entre sí, dando lugar a una molécula de gran peso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El polietileno tiene una conductividad eléctrica pequeña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Baja permitividad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Resistencia dieléctrica elevada. </a:t>
            </a:r>
            <a:br>
              <a:rPr sz="2700"/>
            </a:br>
            <a:r>
              <a:rPr b="0" lang="es-ES" sz="2700" spc="-1" strike="noStrike">
                <a:solidFill>
                  <a:srgbClr val="000000"/>
                </a:solidFill>
                <a:latin typeface="Lucida Sans Unicode"/>
              </a:rPr>
              <a:t>Las propiedades eléctricas no son especialmente sensibles a la humedad en virtud de la absorción muy pequeña de agua por el poli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1 Título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nsidad, peso molecular promedio y 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istribución determinan las propieda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mecánicas, que a su vez dependen d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estructura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s propiedades eléctric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no cambian, ya que l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omposición química 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la mism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de la den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punto de ablandamiento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impermeabilidad a gases y líquidos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claridad y brill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- flexibilidad y tenac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700" spc="-1" strike="noStrike">
                <a:solidFill>
                  <a:srgbClr val="000000"/>
                </a:solidFill>
                <a:latin typeface="Lucida Sans Unicode"/>
              </a:rPr>
              <a:t>Aumento promedio peso molecul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+ tenacidad, viscosida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LDPE: Low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Flexi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Livia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Transparent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nerte (al contenido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Impermeab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o cost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0000"/>
                </a:solidFill>
                <a:latin typeface="Lucida Sans Unicode"/>
              </a:rPr>
              <a:t>HDPE: High Density Polyethylen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Resistente a las bajas temperatura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Alta resistencia a la tensión compresión tracció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! Baja densidad en comparación con metales u otro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Lucida Sans Unicode"/>
              </a:rPr>
              <a:t>material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ara obtener polietileno, se necesita 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puro, por ejemplo por refinación del gas natur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Después, se produce la polimerización del etilen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Alta presión para L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Lucida Sans Unicode"/>
              </a:rPr>
              <a:t>! Baja presión para LLDPE y HDP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23:16:13Z</dcterms:created>
  <dc:creator>lilian</dc:creator>
  <dc:description/>
  <dc:language>en-US</dc:language>
  <cp:lastModifiedBy> Alberto Botteselle Doggenweiler</cp:lastModifiedBy>
  <dcterms:modified xsi:type="dcterms:W3CDTF">2010-01-04T12:59:24Z</dcterms:modified>
  <cp:revision>28</cp:revision>
  <dc:subject/>
  <dc:title>Taller de Diseño Polietileno</dc:title>
</cp:coreProperties>
</file>