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8AA8-3BAD-4F86-9EA1-A875C3F8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AC0D-BBC5-4C3E-B7E2-769AD3BD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831A-D895-4758-8D1C-08E3A27C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3B68-228B-4A4F-9E33-35FE5B7E0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428C-4E9A-4DB4-8954-0628C723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F43C-9FBB-462B-A363-C93BCD8F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A18B-8BBA-47F1-A8C9-745C1B86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BDF1-0864-41B4-B780-C4E33267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4673-D01D-4C5E-8501-3CA1E443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991A-4181-4FEB-BE20-C7A0B94B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C446-8790-4ABE-9C12-75E26789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C2B8-8C55-449D-A569-74E472CB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F6A2-7A53-4FF2-A89C-77089C08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DCBB-15DF-41EB-B335-11499387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9F2A-D451-4E9C-BDF9-393E5C6F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E566-B197-4E4F-9CF1-3117F2A52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68A3-72C1-41A4-AB44-2D754341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CE27-5E0B-446C-BC70-7FACDC8F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798C-3995-4151-AC07-410ECFC5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5D91-D597-4348-9E70-29D49012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C3D2-8F34-486E-83F7-A9563D04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79AB-1306-4326-B6A9-8DB7418A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A4F9-BDE2-48A7-A403-3DD94FE3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8AE9-3A65-4AF9-8685-F8742003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3c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9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9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35BA-823C-4B7E-8B55-AE60CDD01C52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3c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9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9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5113-B332-4D8C-9399-4EB52783589D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340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Especificaciones técnicas de un transformador de distribución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427280" y="5660640"/>
            <a:ext cx="471636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rancisco Becerra 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Rodrigo Vallejos 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79280" y="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8930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Tipos de transformador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357120" y="1428840"/>
            <a:ext cx="850104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Transformadores de superficie (Pad Mounted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1143000" y="2714760"/>
            <a:ext cx="2244600" cy="2438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4714920" y="2214720"/>
            <a:ext cx="321480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8930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uebas a transformado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ruebas de inspección visua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ruebas de resistencia de aislamien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ruebas del índice de absorció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ruebas del índice de polarizació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ruebas de la relación de transformació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8930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uebas a transformado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ruebas de rigidez dieléctrica del aceit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ruebas de factor de potencia, a devanado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rueba de resistencia ohmic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71640" y="509400"/>
            <a:ext cx="88930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mpresas fabricantes de transformador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22960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Verdana"/>
              </a:rPr>
              <a:t>AB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Verdana"/>
              </a:rPr>
              <a:t>WE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Verdana"/>
              </a:rPr>
              <a:t>Cromptom Grav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Verdana"/>
              </a:rPr>
              <a:t>Sieme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Verdana"/>
              </a:rPr>
              <a:t>Toshib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Verdana"/>
              </a:rPr>
              <a:t>Rhon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920" y="133200"/>
            <a:ext cx="7345440" cy="91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Arial"/>
              </a:rPr>
              <a:t>Resumen de la presentación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428840"/>
            <a:ext cx="8300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Verdana"/>
              </a:rPr>
              <a:t>Introducció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Verdana"/>
              </a:rPr>
              <a:t>Contenidos Básicos de una especificación técnic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Verdana"/>
              </a:rPr>
              <a:t>Partes de un transformado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Verdana"/>
              </a:rPr>
              <a:t>Tipos de transformador de distribució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Verdana"/>
              </a:rPr>
              <a:t>Pruebas a transformador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Verdana"/>
              </a:rPr>
              <a:t>Empresas fabricantes de transformador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8930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Las especificaciones técnicas son los documentos en los cuales se define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Norm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xigenci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rocedimient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laboración de estudio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Fabricación de equipos, etc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Contenidos básicos de una especificación técnica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2920" y="1412640"/>
            <a:ext cx="81723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Introducció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Alcance, trabajos excluidos, documentos complementario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Verdana"/>
              </a:rPr>
              <a:t>Códigos y estándar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474920" y="2660760"/>
          <a:ext cx="6481800" cy="3794040"/>
        </p:xfrm>
        <a:graphic>
          <a:graphicData uri="http://schemas.openxmlformats.org/drawingml/2006/table">
            <a:tbl>
              <a:tblPr/>
              <a:tblGrid>
                <a:gridCol w="1523880"/>
                <a:gridCol w="4957920"/>
              </a:tblGrid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r" pos="60530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Sigl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r" pos="60530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Descrip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ANS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American National Standards Institu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AST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American Society for Testing and Materi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IE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International Electrotechnical Commiss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IEE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Institute of Electrical and Electronics Engine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NE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National Electrical Co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NEM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National Electrical Manufacturers Associ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NFP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National Fire Protection Associ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U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Underwriters Laborator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NES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National Electrical Safety Co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MSH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Mine Safety and Health Associ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76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riterios genera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Condiciones ambientales, condiciones de servici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Aspectos constructiv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escripciones genera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Inspección y pruebas en fábric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ocumentació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Garantí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Contenidos básicos de una especificación técnica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8930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ccecff"/>
                </a:solidFill>
                <a:latin typeface="Arial"/>
              </a:rPr>
              <a:t>Partes de un transformado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4183200" y="2000160"/>
            <a:ext cx="4784760" cy="3071880"/>
          </a:xfrm>
          <a:prstGeom prst="rect">
            <a:avLst/>
          </a:prstGeom>
          <a:ln w="0">
            <a:noFill/>
          </a:ln>
        </p:spPr>
      </p:pic>
      <p:sp>
        <p:nvSpPr>
          <p:cNvPr id="187" name="9 CuadroTexto"/>
          <p:cNvSpPr/>
          <p:nvPr/>
        </p:nvSpPr>
        <p:spPr>
          <a:xfrm>
            <a:off x="142920" y="1357200"/>
            <a:ext cx="392904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Partes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interna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Núcle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Enrollados primarios y secundari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Cub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Elementos de protecció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Relé Bucholz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Indicador de nivel de aceit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Desecado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Termostat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8930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Tipos de transformador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4352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Transformadores Secos Encapsulados en Resina Epox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4714920" y="1428840"/>
            <a:ext cx="40431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Transformadores herméticos de llenado integr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12 Imagen" descr="trafointegral.jpg (15043 bytes)"/>
          <p:cNvPicPr/>
          <p:nvPr/>
        </p:nvPicPr>
        <p:blipFill>
          <a:blip r:embed="rId1"/>
          <a:stretch/>
        </p:blipFill>
        <p:spPr>
          <a:xfrm>
            <a:off x="4857840" y="3357720"/>
            <a:ext cx="3500280" cy="2722320"/>
          </a:xfrm>
          <a:prstGeom prst="rect">
            <a:avLst/>
          </a:prstGeom>
          <a:ln w="0">
            <a:noFill/>
          </a:ln>
        </p:spPr>
      </p:pic>
      <p:pic>
        <p:nvPicPr>
          <p:cNvPr id="195" name="13 Imagen" descr="resina"/>
          <p:cNvPicPr/>
          <p:nvPr/>
        </p:nvPicPr>
        <p:blipFill>
          <a:blip r:embed="rId2"/>
          <a:stretch/>
        </p:blipFill>
        <p:spPr>
          <a:xfrm>
            <a:off x="714240" y="3143160"/>
            <a:ext cx="307188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8930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Tipos de transformador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4352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Transformadores monofásicos (Rurale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4714920" y="1428840"/>
            <a:ext cx="40431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Transformadores subterráne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7 Imagen" descr="trafomonoposte.gif (4061 bytes)"/>
          <p:cNvPicPr/>
          <p:nvPr/>
        </p:nvPicPr>
        <p:blipFill>
          <a:blip r:embed="rId1"/>
          <a:stretch/>
        </p:blipFill>
        <p:spPr>
          <a:xfrm>
            <a:off x="1285920" y="3429000"/>
            <a:ext cx="1500120" cy="2406600"/>
          </a:xfrm>
          <a:prstGeom prst="rect">
            <a:avLst/>
          </a:prstGeom>
          <a:ln w="0">
            <a:noFill/>
          </a:ln>
        </p:spPr>
      </p:pic>
      <p:pic>
        <p:nvPicPr>
          <p:cNvPr id="203" name="8 Imagen" descr="trafosub.jpg (23095 bytes)"/>
          <p:cNvPicPr/>
          <p:nvPr/>
        </p:nvPicPr>
        <p:blipFill>
          <a:blip r:embed="rId2"/>
          <a:stretch/>
        </p:blipFill>
        <p:spPr>
          <a:xfrm>
            <a:off x="5429160" y="3286080"/>
            <a:ext cx="248436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8930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Tipos de transformador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4352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Transformadores auto protegid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4714920" y="1428840"/>
            <a:ext cx="40431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Transformadores de distribución de potenc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9 Imagen" descr="trafoproteccion.jpg (11841 bytes)"/>
          <p:cNvPicPr/>
          <p:nvPr/>
        </p:nvPicPr>
        <p:blipFill>
          <a:blip r:embed="rId1"/>
          <a:stretch/>
        </p:blipFill>
        <p:spPr>
          <a:xfrm>
            <a:off x="1143000" y="2714760"/>
            <a:ext cx="2000160" cy="3448080"/>
          </a:xfrm>
          <a:prstGeom prst="rect">
            <a:avLst/>
          </a:prstGeom>
          <a:ln w="0">
            <a:noFill/>
          </a:ln>
        </p:spPr>
      </p:pic>
      <p:pic>
        <p:nvPicPr>
          <p:cNvPr id="211" name="10 Imagen" descr="transfromador1040 Kva."/>
          <p:cNvPicPr/>
          <p:nvPr/>
        </p:nvPicPr>
        <p:blipFill>
          <a:blip r:embed="rId2"/>
          <a:stretch/>
        </p:blipFill>
        <p:spPr>
          <a:xfrm>
            <a:off x="4643280" y="2714760"/>
            <a:ext cx="381348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5:30:17Z</dcterms:created>
  <dc:creator>Wolf</dc:creator>
  <dc:description/>
  <dc:language>en-US</dc:language>
  <cp:lastModifiedBy> Alberto Botteselle Doggenweiler</cp:lastModifiedBy>
  <dcterms:modified xsi:type="dcterms:W3CDTF">2009-11-19T12:32:26Z</dcterms:modified>
  <cp:revision>9</cp:revision>
  <dc:subject/>
  <dc:title>Especificaciones técnicas de un transformador de distribución</dc:title>
</cp:coreProperties>
</file>