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C808-57B3-4C02-BF7F-455DE1B0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F090-F09E-4465-B219-A2488260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ED3-D3C7-4EB6-8B36-C4C9B372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C050-733A-428E-9951-8FBCA84A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B1CB-A882-420D-8F02-8D52E29D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98A7-E850-441D-A28F-2693213A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D96C-82C2-4D06-A72B-3AA1AA24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49FA-9A2E-48B2-8BCB-5B82445E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369B-1EE9-4A2F-BDF3-616FCFDA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BE15-F103-4F97-ADB1-EED70B02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17D0-E3C6-474E-9BBC-DDA288BE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9C63-F99A-424D-B66C-B3C826BA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1EBC-75F6-4081-A257-8FD7F026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AB78-3D39-4ED7-B23C-EA2C719C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0534-F6C2-4A31-8709-79FB18D9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C0A2-D754-49F6-9A97-F86F27B61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9E4B-13AA-4091-AC8F-D1EBAF1E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15D-3D32-43D1-8179-2EF52400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64B-E382-4EC5-84D1-17C94EA0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24EE-F09A-42BA-B849-00CCC614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F0D-EA98-4593-BF18-B228DFDD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9E71-241F-4066-BA62-0DC327B3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A55-D8EF-467B-B349-72461B37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1202-41D5-44DF-A215-D790A0D7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3c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D739-36B3-4760-8008-143763E2B1F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003c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9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3AC0-4573-4F7D-BC33-568B9588064D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340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Especificaciones técnicas de un transformador de distribució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427280" y="5660640"/>
            <a:ext cx="4716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rancisco Becerra 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Rodrigo Vallejos 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280" y="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Tipos de transformado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57120" y="1428840"/>
            <a:ext cx="850104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de superficie (Pad Mounted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143000" y="2714760"/>
            <a:ext cx="2244600" cy="2438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4714920" y="2214720"/>
            <a:ext cx="32148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uebas a transformado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inspección visu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resistencia de aislamien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l índice de absor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l índice de polariza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la relación de transformació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uebas a transformado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rigidez dieléctrica del aceit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s de factor de potencia, a devanad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Prueba de resistencia ohmic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71640" y="50940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ecff"/>
                </a:solidFill>
                <a:latin typeface="Arial"/>
              </a:rPr>
              <a:t>Empresas fabricantes de transformadore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AB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WE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Cromptom Gra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Sieme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Toshib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Rho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920" y="133200"/>
            <a:ext cx="7345440" cy="91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Arial"/>
              </a:rPr>
              <a:t>Resumen de la presentación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42884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Introducció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Contenidos Básicos de una especificación técnic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Verdana"/>
              </a:rPr>
              <a:t>Partes de un transformad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Tipos de transformador de distribució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Pruebas a transformador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</a:rPr>
              <a:t>Empresas fabricantes de transformador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Las especificaciones técnicas son los documentos en los cuales se define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Norm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xigenci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rocedimient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aboración de estudio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Fabricación de equipos, et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Contenidos básicos de una especificación técnica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1412640"/>
            <a:ext cx="81723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Introduc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Alcance, trabajos excluidos, documentos complementari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Verdana"/>
              </a:rPr>
              <a:t>Códigos y estándar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474920" y="2660760"/>
          <a:ext cx="6481800" cy="3794040"/>
        </p:xfrm>
        <a:graphic>
          <a:graphicData uri="http://schemas.openxmlformats.org/drawingml/2006/table">
            <a:tbl>
              <a:tblPr/>
              <a:tblGrid>
                <a:gridCol w="1523880"/>
                <a:gridCol w="4957920"/>
              </a:tblGrid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r" pos="60530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Sig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r" pos="60530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Descrip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ANS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American National Standards Institu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AS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American Society for Testing and Materi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IE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International Electrotechnical Commis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IEE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Institute of Electrical and Electronics Engine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E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ational Electrical Co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E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ational Electrical Manufacturers Associ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FP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ational Fire Protection Associ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U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Underwriters Laborato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ES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National Electrical Safety Co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MS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Univers"/>
                          <a:ea typeface="Times New Roman"/>
                        </a:rPr>
                        <a:t>Mine Safety and Health Associ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76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riterios genera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Condiciones ambientales, condiciones de servici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spectos constructiv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scripciones genera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Inspección y pruebas en fábr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ocumenta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Garantí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Contenidos básicos de una especificación técnica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ccecff"/>
                </a:solidFill>
                <a:latin typeface="Arial"/>
              </a:rPr>
              <a:t>Partes de un transformad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4183200" y="2000160"/>
            <a:ext cx="4784760" cy="3071880"/>
          </a:xfrm>
          <a:prstGeom prst="rect">
            <a:avLst/>
          </a:prstGeom>
          <a:ln w="0">
            <a:noFill/>
          </a:ln>
        </p:spPr>
      </p:pic>
      <p:sp>
        <p:nvSpPr>
          <p:cNvPr id="187" name="9 CuadroTexto"/>
          <p:cNvSpPr/>
          <p:nvPr/>
        </p:nvSpPr>
        <p:spPr>
          <a:xfrm>
            <a:off x="142920" y="1357200"/>
            <a:ext cx="392904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Partes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interna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Núcle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Enrollados primarios y secundar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ub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Elementos de protecció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Relé Bucholz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Indicador de nivel de acei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Desecado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Verdana"/>
              </a:rPr>
              <a:t>Termostat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Tipos de transformado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435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Secos Encapsulados en Resina Epox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4714920" y="1428840"/>
            <a:ext cx="40431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herméticos de llenado integ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12 Imagen" descr="trafointegral.jpg (15043 bytes)"/>
          <p:cNvPicPr/>
          <p:nvPr/>
        </p:nvPicPr>
        <p:blipFill>
          <a:blip r:embed="rId1"/>
          <a:stretch/>
        </p:blipFill>
        <p:spPr>
          <a:xfrm>
            <a:off x="4857840" y="3357720"/>
            <a:ext cx="3500280" cy="2722320"/>
          </a:xfrm>
          <a:prstGeom prst="rect">
            <a:avLst/>
          </a:prstGeom>
          <a:ln w="0">
            <a:noFill/>
          </a:ln>
        </p:spPr>
      </p:pic>
      <p:pic>
        <p:nvPicPr>
          <p:cNvPr id="195" name="13 Imagen" descr="resina"/>
          <p:cNvPicPr/>
          <p:nvPr/>
        </p:nvPicPr>
        <p:blipFill>
          <a:blip r:embed="rId2"/>
          <a:stretch/>
        </p:blipFill>
        <p:spPr>
          <a:xfrm>
            <a:off x="714240" y="3143160"/>
            <a:ext cx="307188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Tipos de transformado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435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monofásicos (Rural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4714920" y="1428840"/>
            <a:ext cx="40431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subterráne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7 Imagen" descr="trafomonoposte.gif (4061 bytes)"/>
          <p:cNvPicPr/>
          <p:nvPr/>
        </p:nvPicPr>
        <p:blipFill>
          <a:blip r:embed="rId1"/>
          <a:stretch/>
        </p:blipFill>
        <p:spPr>
          <a:xfrm>
            <a:off x="1285920" y="3429000"/>
            <a:ext cx="1500120" cy="2406600"/>
          </a:xfrm>
          <a:prstGeom prst="rect">
            <a:avLst/>
          </a:prstGeom>
          <a:ln w="0">
            <a:noFill/>
          </a:ln>
        </p:spPr>
      </p:pic>
      <p:pic>
        <p:nvPicPr>
          <p:cNvPr id="203" name="8 Imagen" descr="trafosub.jpg (23095 bytes)"/>
          <p:cNvPicPr/>
          <p:nvPr/>
        </p:nvPicPr>
        <p:blipFill>
          <a:blip r:embed="rId2"/>
          <a:stretch/>
        </p:blipFill>
        <p:spPr>
          <a:xfrm>
            <a:off x="5429160" y="3286080"/>
            <a:ext cx="24843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89308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ecff"/>
                </a:solidFill>
                <a:latin typeface="Arial"/>
              </a:rPr>
              <a:t>Tipos de transformado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404352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auto protegi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0" y="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ller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e diseño 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4572000" y="0"/>
            <a:ext cx="4572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f. Alberto Botteselle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0" y="6453360"/>
            <a:ext cx="9144000" cy="368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Francisco Becerra Y.                           Rodrigo Vallejos V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714920" y="1428840"/>
            <a:ext cx="40431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Transformadores de distribución de potenc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9 Imagen" descr="trafoproteccion.jpg (11841 bytes)"/>
          <p:cNvPicPr/>
          <p:nvPr/>
        </p:nvPicPr>
        <p:blipFill>
          <a:blip r:embed="rId1"/>
          <a:stretch/>
        </p:blipFill>
        <p:spPr>
          <a:xfrm>
            <a:off x="1143000" y="2714760"/>
            <a:ext cx="2000160" cy="3448080"/>
          </a:xfrm>
          <a:prstGeom prst="rect">
            <a:avLst/>
          </a:prstGeom>
          <a:ln w="0">
            <a:noFill/>
          </a:ln>
        </p:spPr>
      </p:pic>
      <p:pic>
        <p:nvPicPr>
          <p:cNvPr id="211" name="10 Imagen" descr="transfromador1040 Kva."/>
          <p:cNvPicPr/>
          <p:nvPr/>
        </p:nvPicPr>
        <p:blipFill>
          <a:blip r:embed="rId2"/>
          <a:stretch/>
        </p:blipFill>
        <p:spPr>
          <a:xfrm>
            <a:off x="4643280" y="2714760"/>
            <a:ext cx="381348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5:30:17Z</dcterms:created>
  <dc:creator>Wolf</dc:creator>
  <dc:description/>
  <dc:language>en-US</dc:language>
  <cp:lastModifiedBy> Alberto Botteselle Doggenweiler</cp:lastModifiedBy>
  <dcterms:modified xsi:type="dcterms:W3CDTF">2009-11-19T12:32:26Z</dcterms:modified>
  <cp:revision>9</cp:revision>
  <dc:subject/>
  <dc:title>Especificaciones técnicas de un transformador de distribución</dc:title>
</cp:coreProperties>
</file>