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B03-DB19-4DC4-BF73-AC7A2B48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221B-84EA-4BBE-8843-5C4295D2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B453-8A48-4FFD-8062-91372E02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0A1-1C30-44D4-8A4F-28252AF0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D397-BEEC-4690-8442-8274ECAC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8F16-830B-43AE-8C98-6206C0F8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48DA-AF42-4234-93D9-E087A706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88D5-A6F5-4585-8A9A-8A02589C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B391-8684-4D42-BA32-3635E1B9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1EC5-E134-49ED-96CC-F6063234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CDB8-2FFC-421F-A199-EDF289B2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1D41-39A4-4355-A111-2CF6D1CF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66CE-222A-472D-A459-0800C574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3D04-4A51-4B01-B508-E730BC42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3962-5CB2-4CE8-A1E2-CAB293EE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D24F-4A21-426F-9881-4B36413B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6F0E-8A32-4DA8-AE32-529A962D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609-9BB9-4FCE-824F-150F5C81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A19D-F4AD-4397-B6E3-3AA0C796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4B0-25AB-45A1-B860-3B294F4F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452-5AE1-43DE-B7CE-752243D3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92AB-94D8-416C-B47C-95C4A8F2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BA1-494E-4DC0-B2E1-ED3D97A9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1FD-0FD5-4E36-BCCE-FE94B1DD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3c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DBA1-6E03-4842-A6C0-74DD2D1F0CD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3c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82A6-1627-42BE-90BC-76A8D7D24133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340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Especificaciones técnicas de un transformador de distribució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427280" y="5660640"/>
            <a:ext cx="4716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rancisco Becerra 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Rodrigo Vallejos 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280" y="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Tipos de transformado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57120" y="1428840"/>
            <a:ext cx="850104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de superficie (Pad Mounted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143000" y="2714760"/>
            <a:ext cx="2244600" cy="2438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4714920" y="2214720"/>
            <a:ext cx="32148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uebas a transformado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inspección visu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resistencia de aislamien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l índice de absor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l índice de polariza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la relación de transforma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uebas a transformado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rigidez dieléctrica del aceit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factor de potencia, a devanad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 de resistencia ohmic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71640" y="50940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mpresas fabricantes de transformador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AB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WE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Cromptom Gra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Sieme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Toshib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Rho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920" y="133200"/>
            <a:ext cx="7345440" cy="91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Arial"/>
              </a:rPr>
              <a:t>Resumen de la presentación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42884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Introducció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Contenidos Básicos de una especificación técnic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Verdana"/>
              </a:rPr>
              <a:t>Partes de un transformad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Tipos de transformador de distribució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Pruebas a transformado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Empresas fabricantes de transformado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Las especificaciones técnicas son los documentos en los cuales se define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Norm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xigenci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rocedimient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aboración de estudi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Fabricación de equipos, et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Contenidos básicos de una especificación técnica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412640"/>
            <a:ext cx="81723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Introduc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Alcance, trabajos excluidos, documentos complementari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Verdana"/>
              </a:rPr>
              <a:t>Códigos y estánda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474920" y="2660760"/>
          <a:ext cx="6481800" cy="3794040"/>
        </p:xfrm>
        <a:graphic>
          <a:graphicData uri="http://schemas.openxmlformats.org/drawingml/2006/table">
            <a:tbl>
              <a:tblPr/>
              <a:tblGrid>
                <a:gridCol w="1523880"/>
                <a:gridCol w="4957920"/>
              </a:tblGrid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r" pos="60530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Sig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r" pos="60530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Descrip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AN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American National Standards Institu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AS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American Society for Testing and Materi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IE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International Electrotechnical Commis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IEE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Institute of Electrical and Electronics Engine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E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ational Electrical Co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E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ational Electrical Manufacturers Associ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FP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ational Fire Protection Associ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U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Underwriters Laborato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ES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ational Electrical Safety Co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MS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Mine Safety and Health Associ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76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riterios genera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Condiciones ambientales, condiciones de servici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spectos constructiv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scripciones genera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Inspección y pruebas en fábr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ocumenta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Garantí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Contenidos básicos de una especificación técnica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ccecff"/>
                </a:solidFill>
                <a:latin typeface="Arial"/>
              </a:rPr>
              <a:t>Partes de un transformad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4183200" y="2000160"/>
            <a:ext cx="4784760" cy="3071880"/>
          </a:xfrm>
          <a:prstGeom prst="rect">
            <a:avLst/>
          </a:prstGeom>
          <a:ln w="0">
            <a:noFill/>
          </a:ln>
        </p:spPr>
      </p:pic>
      <p:sp>
        <p:nvSpPr>
          <p:cNvPr id="187" name="9 CuadroTexto"/>
          <p:cNvSpPr/>
          <p:nvPr/>
        </p:nvSpPr>
        <p:spPr>
          <a:xfrm>
            <a:off x="142920" y="1357200"/>
            <a:ext cx="392904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Partes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interna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Núcle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nrollados primarios y secundar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ub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lementos de protecció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Relé Bucholz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Indicador de nivel de acei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Desecad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Termostat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Tipos de transformado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435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Secos Encapsulados en Resina Epox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4714920" y="1428840"/>
            <a:ext cx="40431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herméticos de llenado integ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12 Imagen" descr="trafointegral.jpg (15043 bytes)"/>
          <p:cNvPicPr/>
          <p:nvPr/>
        </p:nvPicPr>
        <p:blipFill>
          <a:blip r:embed="rId1"/>
          <a:stretch/>
        </p:blipFill>
        <p:spPr>
          <a:xfrm>
            <a:off x="4857840" y="3357720"/>
            <a:ext cx="3500280" cy="2722320"/>
          </a:xfrm>
          <a:prstGeom prst="rect">
            <a:avLst/>
          </a:prstGeom>
          <a:ln w="0">
            <a:noFill/>
          </a:ln>
        </p:spPr>
      </p:pic>
      <p:pic>
        <p:nvPicPr>
          <p:cNvPr id="195" name="13 Imagen" descr="resina"/>
          <p:cNvPicPr/>
          <p:nvPr/>
        </p:nvPicPr>
        <p:blipFill>
          <a:blip r:embed="rId2"/>
          <a:stretch/>
        </p:blipFill>
        <p:spPr>
          <a:xfrm>
            <a:off x="714240" y="3143160"/>
            <a:ext cx="307188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Tipos de transformado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435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monofásicos (Rural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4714920" y="1428840"/>
            <a:ext cx="40431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subterráne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7 Imagen" descr="trafomonoposte.gif (4061 bytes)"/>
          <p:cNvPicPr/>
          <p:nvPr/>
        </p:nvPicPr>
        <p:blipFill>
          <a:blip r:embed="rId1"/>
          <a:stretch/>
        </p:blipFill>
        <p:spPr>
          <a:xfrm>
            <a:off x="1285920" y="3429000"/>
            <a:ext cx="1500120" cy="2406600"/>
          </a:xfrm>
          <a:prstGeom prst="rect">
            <a:avLst/>
          </a:prstGeom>
          <a:ln w="0">
            <a:noFill/>
          </a:ln>
        </p:spPr>
      </p:pic>
      <p:pic>
        <p:nvPicPr>
          <p:cNvPr id="203" name="8 Imagen" descr="trafosub.jpg (23095 bytes)"/>
          <p:cNvPicPr/>
          <p:nvPr/>
        </p:nvPicPr>
        <p:blipFill>
          <a:blip r:embed="rId2"/>
          <a:stretch/>
        </p:blipFill>
        <p:spPr>
          <a:xfrm>
            <a:off x="5429160" y="3286080"/>
            <a:ext cx="24843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Tipos de transformado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435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auto protegi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714920" y="1428840"/>
            <a:ext cx="40431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de distribución de potenc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9 Imagen" descr="trafoproteccion.jpg (11841 bytes)"/>
          <p:cNvPicPr/>
          <p:nvPr/>
        </p:nvPicPr>
        <p:blipFill>
          <a:blip r:embed="rId1"/>
          <a:stretch/>
        </p:blipFill>
        <p:spPr>
          <a:xfrm>
            <a:off x="1143000" y="2714760"/>
            <a:ext cx="2000160" cy="3448080"/>
          </a:xfrm>
          <a:prstGeom prst="rect">
            <a:avLst/>
          </a:prstGeom>
          <a:ln w="0">
            <a:noFill/>
          </a:ln>
        </p:spPr>
      </p:pic>
      <p:pic>
        <p:nvPicPr>
          <p:cNvPr id="211" name="10 Imagen" descr="transfromador1040 Kva."/>
          <p:cNvPicPr/>
          <p:nvPr/>
        </p:nvPicPr>
        <p:blipFill>
          <a:blip r:embed="rId2"/>
          <a:stretch/>
        </p:blipFill>
        <p:spPr>
          <a:xfrm>
            <a:off x="4643280" y="2714760"/>
            <a:ext cx="38134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5:30:17Z</dcterms:created>
  <dc:creator>Wolf</dc:creator>
  <dc:description/>
  <dc:language>en-US</dc:language>
  <cp:lastModifiedBy> Alberto Botteselle Doggenweiler</cp:lastModifiedBy>
  <dcterms:modified xsi:type="dcterms:W3CDTF">2009-11-19T12:32:26Z</dcterms:modified>
  <cp:revision>9</cp:revision>
  <dc:subject/>
  <dc:title>Especificaciones técnicas de un transformador de distribución</dc:title>
</cp:coreProperties>
</file>