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0F219-77AF-489F-8624-47006B339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06AF6-E0FF-4D35-9796-5808F4779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B1609-DD06-4A2E-949F-7CDEC4D33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851A6-584C-4372-B032-63F158326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BE50E-33F2-4CF8-8E39-15C54176A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F1AF3-672B-43E5-A3C9-C90923F7B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176BA-8050-41D1-AF37-3F52BDCFB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475BF-0F14-4EFB-91C1-4E95033FA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F6E7E-5E9C-4136-8D6F-C36404735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D70E2-9DDD-4273-BA7D-076096D84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D664F-0C14-4615-807D-0B4821DC8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B62A8-7336-4C8A-AE65-FBF1B9B58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1EF91-65A8-4907-848E-A28F72044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D1EDA-E408-488A-B068-37D863F9C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6A687-87B1-468F-B54F-5DBE4B939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E56A0-1317-492F-917A-F02D9FEEB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3694A-9488-4DD4-AA8A-3ED11B76B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A715D4-3572-46D0-9251-AFF7609D5B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976101-C829-4099-B484-BC007BC76E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0034D4-D8E7-43C0-8132-385CA70E2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64040A-9E5A-4167-AAE4-3774AA5C0F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67BFAE-BE74-4FBC-966F-B9B38479CC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917B9-61D6-4E8A-9113-3A373BDB2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4B8CB-E0C5-430D-98C0-3DB6400C6E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9AB28-0802-4605-938D-0AFDA85E6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B4837-4FFE-48D7-8869-BDA4E0730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EF8913-9CD3-4542-8764-D0946FFF7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7893EB-9A6D-4E92-98D2-76F835F4AE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254FC4-C227-4F1C-8ABE-D1D7219EF3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E0EA96-37FC-40A9-A264-B919D0449E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7D0133-DB0E-4C5D-812D-01C796165E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EED737-9200-4F85-868B-2DB9859BF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B56F7E-A86B-40E7-B12E-576867B371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EE485-96EA-4014-AFD6-0958D70AC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96C5A-0755-4211-B8C8-4E235CE667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94488-3C85-470D-9E8B-96D8DD6B26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84370-58DF-476B-822A-F7B8705A39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BBEDA-904E-42F1-A385-0067D9C22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C4824-9902-4DF0-ACBC-3DC087234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A335B-41DC-46DB-9448-F5C4FBB53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C53A5-C537-4525-BA9D-BA8B756358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D4035D-CD50-4E32-B8CA-42E66064DD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99FF9C-2D19-465A-BBC7-20F4FD6A96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4B2C5C-C231-471F-A77E-8788405EC3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50FEE-4B6F-4804-842E-92D4D9A73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314B83-4C78-40CA-8777-99C775D841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96B454-41E1-4478-A6C7-66A4133F9E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2258FD-10CC-4640-88B5-50BCFBF5C5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82761-6EE8-4830-816D-39421C9CF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8144D6-3624-460C-AB8E-B3D354445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9DCAA6-F789-44A6-8368-424EF6FD6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419F2-59FA-4D4A-B708-CF977E9AB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B65F9-B671-48B9-AAFE-793DBBC9E3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76D874-2266-4826-A0EA-7F906E2232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7A4945-6AA5-4B40-9ECB-BC05106A34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31DF1-F313-4C7C-9E2B-052B1D93D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E08F0E-351C-42CC-8B63-9D82E7F752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95367C-31C6-4E62-B159-A8CB009EBB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A4A6B-964E-4A48-823A-4E0EE2DF0B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92A62E-99BC-46F2-B3CD-6463B8EA1B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01B345-BBED-482F-89CA-A893B3B0D2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7C88E4-5424-446D-9886-EF9AEE40F1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80EA94-09A4-4DEC-8647-C00950D8C7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68671-FD17-4DEF-99E4-653227AA87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BFE45-768D-4B24-B2A4-6E4DA2D34C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245A5F-35FA-4F68-B632-66064013F8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15EBF-81B4-4A0A-84B0-1D1AD2A7B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40DB46-87BE-4893-9E97-CA027F2F5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00461C-4CB5-4079-B9CA-8A4F5CC38B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4D3636-2421-42E7-B08B-877A24FF12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94EC79-8439-4765-A87E-B7C647FF86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53E3FC-9884-4C89-8C27-B824CCFC3F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2A112A-B0C0-49A2-938B-CB92E39235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ADCDBE-D83F-4108-AD26-E3A1D6FD6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32B601-25BB-4CF2-B819-EBC5215B6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4AC421-D80E-4EFF-A358-EE5BD2889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1D60EF-C5B1-4168-953A-BEC3B646FD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346D3-2151-4ED2-8ADA-6BED8A7FB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547F7-469F-4E21-80D6-98FA15AF07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31648-7F48-4DA9-9A3B-9C813EC11A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27E70C-1D80-4D15-B007-242ADB04EC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F75427-0BB3-45E4-B62D-63D33C9B77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BED991-EF81-46B2-B4B0-8D3268F161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C745E-4AFD-4521-A9A5-C1CC45B03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D8F5-D911-4E24-8873-0F914CC21235}"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A574-9B22-4358-ABA3-E141099B5508}"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E751-CB07-4A02-ABFF-BAA05B2F4B76}"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29B3-9B0B-431D-91FC-AD00561E66F2}"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7F0B-3320-433B-A6A9-569EDE517358}"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2AED-7391-4B16-A6E0-E2D4289E5703}"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DF57-2145-4682-9090-92421906E01E}"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olicloruro de Vinilo: PVC</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500120" y="3571920"/>
            <a:ext cx="6400800" cy="1752480"/>
          </a:xfrm>
          <a:prstGeom prst="rect">
            <a:avLst/>
          </a:prstGeom>
          <a:noFill/>
          <a:ln w="0">
            <a:noFill/>
          </a:ln>
        </p:spPr>
        <p:txBody>
          <a:bodyPr tIns="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José Manuel Moya L.</a:t>
            </a:r>
            <a:endParaRPr b="0" lang="en-US" sz="18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uis Sanchez L.</a:t>
            </a:r>
            <a:endParaRPr b="0" lang="en-US" sz="1800" spc="-1" strike="noStrike">
              <a:solidFill>
                <a:srgbClr val="000000"/>
              </a:solidFill>
              <a:latin typeface="Gill Sans MT"/>
            </a:endParaRPr>
          </a:p>
        </p:txBody>
      </p:sp>
      <p:sp>
        <p:nvSpPr>
          <p:cNvPr id="320" name="4 CuadroTexto"/>
          <p:cNvSpPr/>
          <p:nvPr/>
        </p:nvSpPr>
        <p:spPr>
          <a:xfrm>
            <a:off x="2857680" y="1714680"/>
            <a:ext cx="3071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Materiales Aislan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Vendedores</a:t>
            </a:r>
            <a:endParaRPr b="0" lang="en-US" sz="4300" spc="-1" strike="noStrike">
              <a:solidFill>
                <a:srgbClr val="572314"/>
              </a:solidFill>
              <a:latin typeface="Gill Sans MT"/>
            </a:endParaRPr>
          </a:p>
        </p:txBody>
      </p:sp>
      <p:sp>
        <p:nvSpPr>
          <p:cNvPr id="339"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D65C-B85D-4CBD-99D9-25999B847A0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0" name="Picture 6" descr="IngElectrica"/>
          <p:cNvPicPr/>
          <p:nvPr/>
        </p:nvPicPr>
        <p:blipFill>
          <a:blip r:embed="rId1"/>
          <a:stretch/>
        </p:blipFill>
        <p:spPr>
          <a:xfrm>
            <a:off x="6786720" y="5857920"/>
            <a:ext cx="1981080" cy="647640"/>
          </a:xfrm>
          <a:prstGeom prst="rect">
            <a:avLst/>
          </a:prstGeom>
          <a:ln w="0">
            <a:noFill/>
          </a:ln>
        </p:spPr>
      </p:pic>
      <p:sp>
        <p:nvSpPr>
          <p:cNvPr id="341"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2"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sp>
        <p:nvSpPr>
          <p:cNvPr id="343" name="Text Box 8"/>
          <p:cNvSpPr/>
          <p:nvPr/>
        </p:nvSpPr>
        <p:spPr>
          <a:xfrm>
            <a:off x="1042920" y="1700280"/>
            <a:ext cx="7105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TIGRE CH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Es fabricante, entre otros productos, de “tuberias” </a:t>
            </a:r>
            <a:r>
              <a:rPr b="0" lang="es-ES" sz="1800" spc="-1" strike="noStrike">
                <a:solidFill>
                  <a:srgbClr val="4f271c"/>
                </a:solidFill>
                <a:latin typeface="Arial"/>
              </a:rPr>
              <a:t>para instalaciones eléctricas de baja y media tensión, enterradas, embutidas o sobrepuestas. Son fabricadas cumpliendo todas los requisitos del reglamento eléctrico de la Superintendencia de Electricidad y Combustibles (SEC), y certificado por CESME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También fabrican Líneas de Tuberías para Telecomunicaciones, para la conducción de cables telefónicos, fabricados para una variedad de empresas de telefonía tales como Telefónica CTC, Manquehue Net, ENTEL, VTR, Telmex, Telefónica del Sur y CMET, entre otr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Otro fabricante y vendedor de PVC importante es VINILIT, que no cuenta con una gran gama de productos eléctr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Ejemplo MADECO CHILE</a:t>
            </a:r>
            <a:endParaRPr b="0" lang="en-US" sz="4300" spc="-1" strike="noStrike">
              <a:solidFill>
                <a:srgbClr val="572314"/>
              </a:solidFill>
              <a:latin typeface="Gill Sans MT"/>
            </a:endParaRPr>
          </a:p>
        </p:txBody>
      </p:sp>
      <p:sp>
        <p:nvSpPr>
          <p:cNvPr id="345"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90AA-0D1B-4996-90E4-F9B5966D84D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6" name="Picture 6" descr="IngElectrica"/>
          <p:cNvPicPr/>
          <p:nvPr/>
        </p:nvPicPr>
        <p:blipFill>
          <a:blip r:embed="rId1"/>
          <a:stretch/>
        </p:blipFill>
        <p:spPr>
          <a:xfrm>
            <a:off x="6786720" y="5857920"/>
            <a:ext cx="1981080" cy="647640"/>
          </a:xfrm>
          <a:prstGeom prst="rect">
            <a:avLst/>
          </a:prstGeom>
          <a:ln w="0">
            <a:noFill/>
          </a:ln>
        </p:spPr>
      </p:pic>
      <p:sp>
        <p:nvSpPr>
          <p:cNvPr id="347"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8"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pic>
        <p:nvPicPr>
          <p:cNvPr id="349" name="Picture 8" descr="d-4"/>
          <p:cNvPicPr/>
          <p:nvPr/>
        </p:nvPicPr>
        <p:blipFill>
          <a:blip r:embed="rId2"/>
          <a:stretch/>
        </p:blipFill>
        <p:spPr>
          <a:xfrm>
            <a:off x="684360" y="2421000"/>
            <a:ext cx="1050840" cy="2286000"/>
          </a:xfrm>
          <a:prstGeom prst="rect">
            <a:avLst/>
          </a:prstGeom>
          <a:ln w="0">
            <a:noFill/>
          </a:ln>
        </p:spPr>
      </p:pic>
      <p:sp>
        <p:nvSpPr>
          <p:cNvPr id="350" name="Text Box 9"/>
          <p:cNvSpPr/>
          <p:nvPr/>
        </p:nvSpPr>
        <p:spPr>
          <a:xfrm>
            <a:off x="2195640" y="1700280"/>
            <a:ext cx="6724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Producto: NYMHY / H03VVF / H05VVF</a:t>
            </a:r>
            <a:br>
              <a:rPr sz="1800"/>
            </a:br>
            <a:r>
              <a:rPr b="1" lang="es-ES" sz="1800" spc="-1" strike="noStrike">
                <a:solidFill>
                  <a:srgbClr val="4f271c"/>
                </a:solidFill>
                <a:latin typeface="Arial"/>
              </a:rPr>
              <a:t>Cordón para Servicio Liviano y Mediano</a:t>
            </a:r>
            <a:r>
              <a:rPr b="0" lang="es-ES" sz="1800" spc="-1" strike="noStrike">
                <a:solidFill>
                  <a:srgbClr val="4f271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Usos: </a:t>
            </a:r>
            <a:br>
              <a:rPr sz="1800"/>
            </a:br>
            <a:r>
              <a:rPr b="0" lang="es-ES" sz="1800" spc="-1" strike="noStrike">
                <a:solidFill>
                  <a:srgbClr val="4f271c"/>
                </a:solidFill>
                <a:latin typeface="Arial"/>
              </a:rPr>
              <a:t>Cordón para esfuerzos mecánicos liviano y median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ara aparatos electrodomésticos, incluso en recintos húme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Especificaciones Técnicas: </a:t>
            </a:r>
            <a:br>
              <a:rPr sz="1800"/>
            </a:br>
            <a:r>
              <a:rPr b="1" lang="es-ES" sz="1800" spc="-1" strike="noStrike">
                <a:solidFill>
                  <a:srgbClr val="4f271c"/>
                </a:solidFill>
                <a:latin typeface="Arial"/>
              </a:rPr>
              <a:t>Conductor:</a:t>
            </a:r>
            <a:r>
              <a:rPr b="0" lang="es-ES" sz="1800" spc="-1" strike="noStrike">
                <a:solidFill>
                  <a:srgbClr val="4f271c"/>
                </a:solidFill>
                <a:latin typeface="Arial"/>
              </a:rPr>
              <a:t> Conductores flexible, formado por alambre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cobre blando electrolítico, con aislación de termoplástico (PV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olarizado por colores,</a:t>
            </a:r>
            <a:br>
              <a:rPr sz="1800"/>
            </a:br>
            <a:r>
              <a:rPr b="0" lang="es-ES" sz="1800" spc="-1" strike="noStrike">
                <a:solidFill>
                  <a:srgbClr val="4f271c"/>
                </a:solidFill>
                <a:latin typeface="Arial"/>
              </a:rPr>
              <a:t>Tensión del Servicio: 500Volt</a:t>
            </a:r>
            <a:br>
              <a:rPr sz="1800"/>
            </a:br>
            <a:r>
              <a:rPr b="0" lang="es-ES" sz="1800" spc="-1" strike="noStrike">
                <a:solidFill>
                  <a:srgbClr val="4f271c"/>
                </a:solidFill>
                <a:latin typeface="Arial"/>
              </a:rPr>
              <a:t>Temperatura del Servicio: 70 ºC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Norma:</a:t>
            </a:r>
            <a:br>
              <a:rPr sz="1800"/>
            </a:br>
            <a:r>
              <a:rPr b="0" lang="es-ES" sz="1800" spc="-1" strike="noStrike">
                <a:solidFill>
                  <a:srgbClr val="4f271c"/>
                </a:solidFill>
                <a:latin typeface="Arial"/>
              </a:rPr>
              <a:t>VDE 02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structura</a:t>
            </a:r>
            <a:endParaRPr b="0" lang="en-US" sz="4300" spc="-1" strike="noStrike">
              <a:solidFill>
                <a:srgbClr val="572314"/>
              </a:solidFill>
              <a:latin typeface="Gill Sans MT"/>
            </a:endParaRPr>
          </a:p>
        </p:txBody>
      </p:sp>
      <p:sp>
        <p:nvSpPr>
          <p:cNvPr id="322" name=""/>
          <p:cNvSpPr txBox="1"/>
          <p:nvPr/>
        </p:nvSpPr>
        <p:spPr>
          <a:xfrm>
            <a:off x="500040" y="164304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Historia</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piedades Físic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Materias Prim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ceso de Producción</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Características del PVC</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Uso Industrial</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Fabricantes</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Historia</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Fue descubierto accidentalmente en 1835 por </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	</a:t>
            </a:r>
            <a:r>
              <a:rPr b="0" lang="es-ES" sz="2600" spc="-1" strike="noStrike">
                <a:solidFill>
                  <a:srgbClr val="000000"/>
                </a:solidFill>
                <a:latin typeface="Gill Sans MT"/>
              </a:rPr>
              <a:t>Henri Victor Regnault.</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 1872 Eugen Baumann polimeriza haluros de vinilo en forma de producto plastico.</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n 1912 Klatte patentó el primer proceso de polimerización de PVC, logrado vía emul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1930 – 1940: Desarrollo de la polimerización de PVC vía suspen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Materias Primas</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loruro de Sodio </a:t>
            </a:r>
            <a:r>
              <a:rPr b="0" lang="es-ES" sz="3200" spc="-1" strike="noStrike">
                <a:solidFill>
                  <a:srgbClr val="000000"/>
                </a:solidFill>
                <a:latin typeface="Gill Sans MT"/>
              </a:rPr>
              <a:t>(sal comú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etróleo o gas natural</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Aditivos usados para la fabricación:</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Plastif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Estabiliz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Lubr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Otro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piedades Física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Densidad</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1380 </a:t>
            </a:r>
            <a:r>
              <a:rPr b="0" lang="es-CL" sz="2600" spc="-1" strike="noStrike">
                <a:solidFill>
                  <a:srgbClr val="000000"/>
                </a:solidFill>
                <a:latin typeface="Gill Sans MT"/>
              </a:rPr>
              <a:t>	</a:t>
            </a:r>
            <a:r>
              <a:rPr b="0" lang="es-CL" sz="2600" spc="-1" strike="noStrike">
                <a:solidFill>
                  <a:srgbClr val="000000"/>
                </a:solidFill>
                <a:latin typeface="Gill Sans MT"/>
              </a:rPr>
              <a:t>           [kg/m3]</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Modulo de Young</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2900-3400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sfuerz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50-80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longación Máxima</a:t>
            </a:r>
            <a:r>
              <a:rPr b="0" lang="es-CL" sz="2600" spc="-1" strike="noStrike">
                <a:solidFill>
                  <a:srgbClr val="000000"/>
                </a:solidFill>
                <a:latin typeface="Gill Sans MT"/>
              </a:rPr>
              <a:t>	</a:t>
            </a:r>
            <a:r>
              <a:rPr b="0" lang="es-CL" sz="2600" spc="-1" strike="noStrike">
                <a:solidFill>
                  <a:srgbClr val="000000"/>
                </a:solidFill>
                <a:latin typeface="Gill Sans MT"/>
              </a:rPr>
              <a:t>20-40</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Temperatura Máxima</a:t>
            </a:r>
            <a:r>
              <a:rPr b="0" lang="es-CL" sz="2600" spc="-1" strike="noStrike">
                <a:solidFill>
                  <a:srgbClr val="000000"/>
                </a:solidFill>
                <a:latin typeface="Gill Sans MT"/>
              </a:rPr>
              <a:t>	</a:t>
            </a:r>
            <a:r>
              <a:rPr b="0" lang="es-CL" sz="2600" spc="-1" strike="noStrike">
                <a:solidFill>
                  <a:srgbClr val="000000"/>
                </a:solidFill>
                <a:latin typeface="Gill Sans MT"/>
              </a:rPr>
              <a:t>212</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C]</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oef. de Transf. de Calor</a:t>
            </a:r>
            <a:r>
              <a:rPr b="0" lang="es-CL" sz="2600" spc="-1" strike="noStrike">
                <a:solidFill>
                  <a:srgbClr val="000000"/>
                </a:solidFill>
                <a:latin typeface="Gill Sans MT"/>
              </a:rPr>
              <a:t>	</a:t>
            </a:r>
            <a:r>
              <a:rPr b="0" lang="es-CL" sz="2600" spc="-1" strike="noStrike">
                <a:solidFill>
                  <a:srgbClr val="000000"/>
                </a:solidFill>
                <a:latin typeface="Gill Sans MT"/>
              </a:rPr>
              <a:t>0,16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W/m]</a:t>
            </a:r>
            <a:r>
              <a:rPr b="0" lang="es-CL" sz="2800" spc="-1" strike="noStrike">
                <a:solidFill>
                  <a:srgbClr val="000000"/>
                </a:solidFill>
                <a:latin typeface="Gill Sans MT"/>
              </a:rPr>
              <a:t>	</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alor Especific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0,9</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kJ/kg·K]</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Resistividad Eléctrica</a:t>
            </a:r>
            <a:r>
              <a:rPr b="0" lang="es-CL" sz="2600" spc="-1" strike="noStrike">
                <a:solidFill>
                  <a:srgbClr val="000000"/>
                </a:solidFill>
                <a:latin typeface="Gill Sans MT"/>
              </a:rPr>
              <a:t>	</a:t>
            </a:r>
            <a:r>
              <a:rPr b="0" lang="el-GR" sz="2600" spc="-1" strike="noStrike">
                <a:solidFill>
                  <a:srgbClr val="000000"/>
                </a:solidFill>
                <a:latin typeface="Corbel"/>
              </a:rPr>
              <a:t>10</a:t>
            </a:r>
            <a:r>
              <a:rPr b="0" lang="el-GR" sz="2600" spc="-1" strike="noStrike" baseline="30000">
                <a:solidFill>
                  <a:srgbClr val="000000"/>
                </a:solidFill>
                <a:latin typeface="Corbel"/>
              </a:rPr>
              <a:t>17 </a:t>
            </a:r>
            <a:r>
              <a:rPr b="0" lang="es-ES" sz="2600" spc="-1" strike="noStrike" baseline="30000">
                <a:solidFill>
                  <a:srgbClr val="000000"/>
                </a:solidFill>
                <a:latin typeface="Gill Sans MT"/>
              </a:rPr>
              <a:t>	</a:t>
            </a:r>
            <a:r>
              <a:rPr b="0" lang="es-ES" sz="2600" spc="-1" strike="noStrike" baseline="30000">
                <a:solidFill>
                  <a:srgbClr val="000000"/>
                </a:solidFill>
                <a:latin typeface="Gill Sans MT"/>
              </a:rPr>
              <a:t>	</a:t>
            </a:r>
            <a:r>
              <a:rPr b="0" lang="es-CL" sz="2600" spc="-1" strike="noStrike">
                <a:solidFill>
                  <a:srgbClr val="000000"/>
                </a:solidFill>
                <a:latin typeface="Gill Sans MT"/>
              </a:rPr>
              <a:t>[</a:t>
            </a:r>
            <a:r>
              <a:rPr b="0" lang="el-GR" sz="2600" spc="-1" strike="noStrike">
                <a:solidFill>
                  <a:srgbClr val="000000"/>
                </a:solidFill>
                <a:latin typeface="Corbel"/>
              </a:rPr>
              <a:t>Ω</a:t>
            </a:r>
            <a:r>
              <a:rPr b="0" lang="es-ES" sz="2600" spc="-1" strike="noStrike">
                <a:solidFill>
                  <a:srgbClr val="000000"/>
                </a:solidFill>
                <a:latin typeface="Gill Sans MT"/>
              </a:rPr>
              <a:t>/Cm]</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ceso de Producción</a:t>
            </a:r>
            <a:endParaRPr b="0" lang="en-US" sz="4300" spc="-1" strike="noStrike">
              <a:solidFill>
                <a:srgbClr val="572314"/>
              </a:solidFill>
              <a:latin typeface="Gill Sans MT"/>
            </a:endParaRPr>
          </a:p>
        </p:txBody>
      </p:sp>
      <p:pic>
        <p:nvPicPr>
          <p:cNvPr id="330" name="Picture 2" descr=""/>
          <p:cNvPicPr/>
          <p:nvPr/>
        </p:nvPicPr>
        <p:blipFill>
          <a:blip r:embed="rId1"/>
          <a:stretch/>
        </p:blipFill>
        <p:spPr>
          <a:xfrm>
            <a:off x="571680" y="1643040"/>
            <a:ext cx="3500280" cy="4429080"/>
          </a:xfrm>
          <a:prstGeom prst="rect">
            <a:avLst/>
          </a:prstGeom>
          <a:ln w="0">
            <a:noFill/>
          </a:ln>
        </p:spPr>
      </p:pic>
      <p:pic>
        <p:nvPicPr>
          <p:cNvPr id="331" name="4 CuadroTexto" descr=""/>
          <p:cNvPicPr/>
          <p:nvPr/>
        </p:nvPicPr>
        <p:blipFill>
          <a:blip r:embed="rId2"/>
          <a:stretch/>
        </p:blipFill>
        <p:spPr>
          <a:xfrm>
            <a:off x="4316400" y="1682640"/>
            <a:ext cx="4406760" cy="42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Características del PVC</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sistente y liviano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Versat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stab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Longev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Segur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icl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uperación de energía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Buen uso de los recursos.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nt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utoextingui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islante eléctrico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Uso Industrial</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onstrucció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plicaciones Médica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Industria Automotriz</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t>
            </a:r>
            <a:r>
              <a:rPr b="0" lang="es-ES_tradnl" sz="3200" spc="-1" strike="noStrike">
                <a:solidFill>
                  <a:srgbClr val="000000"/>
                </a:solidFill>
                <a:latin typeface="Gill Sans MT"/>
              </a:rPr>
              <a:t>Pack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 </a:t>
            </a:r>
            <a:r>
              <a:rPr b="0" lang="es-ES_tradnl" sz="3200" spc="-1" strike="noStrike">
                <a:solidFill>
                  <a:srgbClr val="000000"/>
                </a:solidFill>
                <a:latin typeface="Gill Sans MT"/>
              </a:rPr>
              <a:t>Vario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Electricidad y Electronic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Aplicaciones Eléctricas</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ill Sans MT"/>
              </a:rPr>
              <a:t>El </a:t>
            </a:r>
            <a:r>
              <a:rPr b="1" lang="es-ES" sz="2200" spc="-1" strike="noStrike">
                <a:solidFill>
                  <a:srgbClr val="000000"/>
                </a:solidFill>
                <a:latin typeface="Gill Sans MT"/>
              </a:rPr>
              <a:t>PVC</a:t>
            </a:r>
            <a:r>
              <a:rPr b="0" lang="es-ES" sz="2200" spc="-1" strike="noStrike">
                <a:solidFill>
                  <a:srgbClr val="000000"/>
                </a:solidFill>
                <a:latin typeface="Gill Sans MT"/>
              </a:rPr>
              <a:t> es un material ampliamente utilizado para el revestimiento y aislación de cables de todo tipo, debido a que presenta las siguientes características: </a:t>
            </a:r>
            <a:endParaRPr b="0" lang="en-US" sz="22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Buenas propiedades eléctricas y de aislamiento sobre un amplio rango de temperatura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Excelente durabilidad y tiene aproximadamente una vida útil de 40 o más añ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Características de procesamiento fáciles para obtener las especificaciones deseadas del producto final.</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Resistente a ambientes agresiv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ill Sans MT"/>
              </a:rPr>
              <a:t>Ejemplos de utilización </a:t>
            </a:r>
            <a:br>
              <a:rPr sz="1700"/>
            </a:br>
            <a:r>
              <a:rPr b="0" lang="es-CL" sz="1700" spc="-1" strike="noStrike">
                <a:solidFill>
                  <a:srgbClr val="000000"/>
                </a:solidFill>
                <a:latin typeface="Gill Sans MT"/>
              </a:rPr>
              <a:t> </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Partes de artefactos eléctrico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Aislamiento de cabl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jas de distribución.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Enchuf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rcazas y partes de computadoras.</a:t>
            </a:r>
            <a:r>
              <a:rPr b="1" lang="es-CL" sz="1600" spc="-1" strike="noStrike">
                <a:solidFill>
                  <a:srgbClr val="000000"/>
                </a:solidFill>
                <a:latin typeface="Gill Sans MT"/>
              </a:rPr>
              <a:t> </a:t>
            </a:r>
            <a:endParaRPr b="0" lang="en-US" sz="1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0:48:07Z</dcterms:created>
  <dc:creator>jomoya</dc:creator>
  <dc:description/>
  <dc:language>en-US</dc:language>
  <cp:lastModifiedBy> Alberto Botteselle Doggenweiler</cp:lastModifiedBy>
  <dcterms:modified xsi:type="dcterms:W3CDTF">2009-11-17T15:38:49Z</dcterms:modified>
  <cp:revision>32</cp:revision>
  <dc:subject/>
  <dc:title>Policloruro de Vinilo: PVC</dc:title>
</cp:coreProperties>
</file>