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72A-5F45-4EC6-B309-D0BFDB77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9D76-CB4E-42DA-B81F-4654F89D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720D-CD8D-41FD-A9D2-866A778D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6790-E38E-4B53-B0BB-69565B0B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4BF-2A55-4C78-8183-AD50E3E2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946C-8158-45B4-BF2C-AB5CB648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5E38-F8E0-430C-9BE4-AA009D3F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0558-435C-4BC8-BBFE-B94C6B57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FE3A-FB31-4921-826F-83AF2885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340-CFBA-44FE-8B72-AB0B1425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E9E7-7579-4CEF-A65F-AE12FE65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34C8-8DD4-4FD9-844C-159CFBDA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9917-E8C6-400E-B46C-EFD996EA9D1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nternet-explorer-blue-wallpaper-h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828440"/>
            <a:ext cx="8686800" cy="26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6000" spc="-1" strike="noStrike">
                <a:solidFill>
                  <a:srgbClr val="ffffff"/>
                </a:solidFill>
                <a:latin typeface="Impact"/>
              </a:rPr>
              <a:t>Búsquedas en Intern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943240" y="5562360"/>
            <a:ext cx="2971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Ignacio Catal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Nicolas Hunf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L57C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: IE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Base de datos de la 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tiene artículos, papers, revistas y lib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quiere suscripción para acceder a todos los conte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ectarse a través de los computadores de la Univer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ectarse a través de SSH con una cuenta de la univer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Busca trabajo de un cierto tema de int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lee el “abstract” que consiste en un breve resumen de lo que trata 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piar la dirección del archivo pdf que se desea 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684360" y="5084640"/>
            <a:ext cx="7920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SSH con una cuenta de la universidad escribi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wget “dirección de archivo pdf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documento quedará en la cuenta del usu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734544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cholar.google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oogle acadé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mite buscar bibliografía especializ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cluye distintas disciplinas y fue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sis, libros, resúmenes y artículos de editoriales académicas, sociedades profesionales, universidad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OOKS.GOOGLE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ibros Goog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ona igual que un buscador norm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cluye vistas preliminares de libros y en algunos casos la versión comp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rega información de donde se puede comprar el libro comple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Documentos de Diseño de Máquinas Eléc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78454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xisten algunas organizaciones (universidades) que tienen disponibles en sus páginas documentos completos gratui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ttp://ocw.mit.edu/OcwWeb/web/courses/courses/index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em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ttp://www.sea.siemens.com/step/download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752480" y="6095880"/>
            <a:ext cx="2752920" cy="343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5181480" y="6172200"/>
            <a:ext cx="180036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D DE BIBLIOTE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Calibri"/>
              </a:rPr>
              <a:t>bibliotecas.uchile.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ybertesis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Catálogo Be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nformar sobre los tipos de buscadores con ejemplos concr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señar trucos para realizar búsquedas de libros de diseño de máquinas eléct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strar ejemplos de sitios que contengan grandes bases de datos y como acceder a el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yuda en Bus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úsqueda básica es directa (intuiti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búsquedas con más “trucos” se debe buscar en la ayuda del buscador por estos “trucos” o bien realizar una búsqueda avan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6943680" cy="4162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914400" y="228600"/>
            <a:ext cx="7229520" cy="6248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ipo de Bus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No temá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etabus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emá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d de Bibliote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NO TEMÁ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cha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puestas ma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dundancia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ww.googl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ww.lyco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ww.yaho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ww.altavista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ww.infoseek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www.b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J: GOO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uscador rápido y típico de primera instancia que prioriza las búsquedas según el idioma y país escog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mejorar la búsque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Uso de Comas para separar nombres prop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Uso de los símbolos + o – para agregar  o quitar importancia a las palab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- Uso de “ “ para limitar resultados a la frase comp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2"/>
          <a:stretch/>
        </p:blipFill>
        <p:spPr>
          <a:xfrm>
            <a:off x="5943600" y="4343400"/>
            <a:ext cx="3200400" cy="1376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6172200" y="5500800"/>
            <a:ext cx="2971800" cy="1357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4"/>
          <a:stretch/>
        </p:blipFill>
        <p:spPr>
          <a:xfrm>
            <a:off x="0" y="5487840"/>
            <a:ext cx="2895480" cy="137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5"/>
          <a:stretch/>
        </p:blipFill>
        <p:spPr>
          <a:xfrm>
            <a:off x="0" y="4343400"/>
            <a:ext cx="3200400" cy="1319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6"/>
          <a:stretch/>
        </p:blipFill>
        <p:spPr>
          <a:xfrm>
            <a:off x="2362320" y="4648320"/>
            <a:ext cx="401004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ETABUSC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usc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queda en multiples sitios y Bus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iene el m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mo recurso disponible de la 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Metacrawler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Dogpil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Mamma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Search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MÁ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ción Limit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ción Prec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Buscacine.com (c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InfoAgro.com  (Agricul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GunHoo.com (ar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Amazon.com (comprar discos , libros, pelicul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Andinia.com (deportes de mont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ña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www.HotelBook.c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oteles en todo el Mun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free-digital-PPT-01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ww.Scitopia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bliotecas digitales de sociedades científicas y tecnólog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más busca patentes y documentos gubernam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ww.IEEE.or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cador de las más recientes publicaciones tecnólog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tp://scholar.google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19:02:21Z</dcterms:created>
  <dc:creator>Warius</dc:creator>
  <dc:description/>
  <dc:language>en-US</dc:language>
  <cp:lastModifiedBy> Alberto Botteselle Doggenweiler</cp:lastModifiedBy>
  <dcterms:modified xsi:type="dcterms:W3CDTF">2009-09-28T12:55:44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