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5FB-6209-42A0-85A7-1497968A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CC6-9E67-40A2-ADBB-414E27D5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A27-EBA5-4647-BA44-F1B09F66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641-2A6B-416F-B778-F99AF42A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51A-E6F6-4AD1-91A3-41AC3985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0B3-43F0-4A48-A380-B2BF9246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EC0-187A-4DC8-9EC6-374B5AF6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A7B-5320-4859-845E-13120250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DC0-63B8-4F79-BE0E-B0C79342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EF4-EE96-4BFC-BDD8-25ACAEF0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DED-41B2-4023-AFBC-99B87D9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97D-190B-4C2C-A0CA-58180370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625F-D58C-4ADC-AC8C-67A6F614BE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nternet-explorer-blue-wallpaper-h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26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0" spc="-1" strike="noStrike">
                <a:solidFill>
                  <a:srgbClr val="ffffff"/>
                </a:solidFill>
                <a:latin typeface="Impact"/>
              </a:rPr>
              <a:t>Búsquedas en Intern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43240" y="556236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gnacio Cata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icolas Hun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57C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: I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ase de datos de la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iene artículos, papers, revistas y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quiere suscripción para acceder a todos los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ectarse a través de los computadores de la Univer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ectarse a través de SSH con una cuenta de la univer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usca trabajo de un cierto tema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lee el “abstract” que consiste en un breve resumen de lo que trata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piar la dirección del archivo pdf que se desea 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684360" y="5084640"/>
            <a:ext cx="792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SSH con una cuenta de la universidad escrib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wget “dirección de archivo pd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documento quedará en la cuenta d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345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cholar.google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oogle acadé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 buscar bibliografía especializ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distintas disciplinas y fu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sis, libros, resúmenes y artículos de editoriales académicas, sociedades profesionales, universida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OOKS.GOOGLE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ibros Goo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a igual que un buscador norm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vistas preliminares de libros y en algunos casos la versión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ga información de donde se puede comprar el libro compl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ocumentos de Diseño de Máquinas Eléc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845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isten algunas organizaciones (universidades) que tienen disponibles en sus páginas documentos completos gratu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ocw.mit.edu/OcwWeb/web/courses/course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sea.siemens.com/step/download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752480" y="6095880"/>
            <a:ext cx="2752920" cy="34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5181480" y="6172200"/>
            <a:ext cx="180036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D DE BIBLIOTE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bibliotecas.uchile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ybertesi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atálogo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formar sobre los tipos de buscadores con ejemplos concr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señar trucos para realizar búsquedas de libros de diseño de máquinas eléct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strar ejemplos de sitios que contengan grandes bases de datos y como acceder a e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yuda en Bus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úsqueda básica es directa (intuit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búsquedas con más “trucos” se debe buscar en la ayuda del buscador por estos “trucos” o bien realizar una búsqueda avan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943680" cy="41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229520" cy="624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ipo de Bus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No temá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tabus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má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d de Bibliote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MÁ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ch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uestas m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ndanci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lyco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altavist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infose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ww.b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: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uscador rápido y típico de primera instancia que prioriza las búsquedas según el idioma y país esco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mejorar la búsque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Uso de Comas para separar nombres pro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Uso de los símbolos + o – para agregar  o quitar importancia a las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Uso de “ “ para limitar resultados a la frase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5943600" y="4343400"/>
            <a:ext cx="3200400" cy="137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6172200" y="5500800"/>
            <a:ext cx="2971800" cy="13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0" y="5487840"/>
            <a:ext cx="2895480" cy="13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5"/>
          <a:stretch/>
        </p:blipFill>
        <p:spPr>
          <a:xfrm>
            <a:off x="0" y="4343400"/>
            <a:ext cx="320040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6"/>
          <a:stretch/>
        </p:blipFill>
        <p:spPr>
          <a:xfrm>
            <a:off x="2362320" y="4648320"/>
            <a:ext cx="40100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ETABUS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us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queda en multiples sitios y Bus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iene el 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mo recurso disponible de la 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etacrawle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Dogpi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amm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Searc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MÁ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Prec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uscacine.com (c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InfoAgro.com  (Agricul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GunHoo.com (ar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mazon.com (comprar discos , libros, pelicu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ndinia.com (deportes de mon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ña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www.HotelBook.c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teles en todo el Mu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Scitopia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iotecas digitales de sociedades científicas y tecnólo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más busca patentes y documentos gubern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IEEE.or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dor de las más recientes publicaciones tecnólo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scholar.googl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9:02:21Z</dcterms:created>
  <dc:creator>Warius</dc:creator>
  <dc:description/>
  <dc:language>en-US</dc:language>
  <cp:lastModifiedBy> Alberto Botteselle Doggenweiler</cp:lastModifiedBy>
  <dcterms:modified xsi:type="dcterms:W3CDTF">2009-09-28T12:55:4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