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557-3498-409A-A493-198DEB36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C14-9E76-442A-9C0E-D136C5F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F4C-DD4A-47E1-AB66-048C5EEE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710-86FE-428F-AB78-98A3A3A6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355-6F83-4440-8B90-54126C5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484-B19C-48FA-B751-F83258FB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E7E-2347-4AB9-A8AF-D2CEB6E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D9E-D06E-44DA-A45E-014FED82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E77-9781-4622-806C-AF924C40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54A-559A-495D-B708-CBCE7D7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7F1-6906-4B26-8E56-D6FA511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9AD-1645-43F2-AF34-E955577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6F3B-13FB-4029-9794-B49BB4FCE9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nternet-explorer-blue-wallpaper-h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26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0" spc="-1" strike="noStrike">
                <a:solidFill>
                  <a:srgbClr val="ffffff"/>
                </a:solidFill>
                <a:latin typeface="Impact"/>
              </a:rPr>
              <a:t>Búsquedas en 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556236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gnacio Cata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colas Hun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57C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sca trabajo de un cierto tem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lee el “abstract” que consiste en un breve resumen de lo que trata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684360" y="5084640"/>
            <a:ext cx="792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wget “dirección de archivo pd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holar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OOKS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ocumentos de Diseño de Máquinas 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sten algunas organizaciones (universidades) que tienen disponibles en sus páginas documentos completos gratu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752480" y="6095880"/>
            <a:ext cx="2752920" cy="34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5181480" y="617220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bibliotecas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ybertesi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tálogo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r sobre los tipos de buscadores con ejemplos concr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señar trucos para realizar búsquedas de libros de diseño de máquinas eléc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strar ejemplos de sitios que contengan grandes bases de datos y como acceder a 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uda en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úsqueda básica es directa (intui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búsquedas con más “trucos” se debe buscar en la ayuda del buscador por estos “trucos” o bien realizar una búsqueda avan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943680" cy="41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22952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po de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uestas m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ndanci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lyco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altavist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infose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ww.b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scador rápido y típico de primera instancia que prioriza las búsquedas según el idioma y país esco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mejorar la búsque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los sí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Uso de “ “ para limitar resultados a la frase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3200400" cy="13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6172200" y="5500800"/>
            <a:ext cx="297180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0" y="5487840"/>
            <a:ext cx="2895480" cy="13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0" y="434340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6"/>
          <a:stretch/>
        </p:blipFill>
        <p:spPr>
          <a:xfrm>
            <a:off x="2362320" y="4648320"/>
            <a:ext cx="40100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queda en multiples sitios y Bus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iene el 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mo recurso disponible de la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etacrawl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Dogp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amm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ear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uscacine.com (c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nfoAgro.com  (Agric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unHoo.com (ar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mazon.com (comprar discos , libros, peli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dinia.com (deportes de mon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ww.HotelBook.c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teles en todo el M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Scitopi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tecas digitales de sociedades científicas y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más busca patentes y documento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IEEE.or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dor de las más recientes publicaciones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scholar.googl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9:02:21Z</dcterms:created>
  <dc:creator>Warius</dc:creator>
  <dc:description/>
  <dc:language>en-US</dc:language>
  <cp:lastModifiedBy> Alberto Botteselle Doggenweiler</cp:lastModifiedBy>
  <dcterms:modified xsi:type="dcterms:W3CDTF">2009-09-28T12:55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