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20.png" ContentType="image/png"/>
  <Override PartName="/ppt/media/image27.png" ContentType="image/png"/>
  <Override PartName="/ppt/media/image5.jpeg" ContentType="image/jpeg"/>
  <Override PartName="/ppt/media/image35.png" ContentType="image/pn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4.png" ContentType="image/png"/>
  <Override PartName="/ppt/media/image34.png" ContentType="image/png"/>
  <Override PartName="/ppt/media/image10.png" ContentType="image/png"/>
  <Override PartName="/ppt/media/image30.png" ContentType="image/png"/>
  <Override PartName="/ppt/media/image11.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E46D9-522B-4893-AA87-ED2650C94865}"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obina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islamiento eléctrico: Aislante de bobinas de motores, transformadores, etc.</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sistencia a la humeda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Repele Agu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Buenas propiedades eléctricas.</a:t>
            </a:r>
            <a:endParaRPr b="0" lang="en-US" sz="1200" spc="-1" strike="noStrike">
              <a:solidFill>
                <a:srgbClr val="000000"/>
              </a:solidFill>
              <a:latin typeface="Calibri"/>
            </a:endParaRPr>
          </a:p>
        </p:txBody>
      </p:sp>
      <p:sp>
        <p:nvSpPr>
          <p:cNvPr id="4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51CD-A25B-4F51-8265-6AB1EF5B86A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a silicona que contiene este aceite, constituye uno de los productos químicos menos peligrosos de los que existen en la actualidad, por lo cual resulta el mejor substituto para los askareles a base de PCB (policloruro bifenilo) que se utilizaban normalmente en transformadores. La silicona Dow Corning</a:t>
            </a:r>
            <a:r>
              <a:rPr b="0" lang="es-CL" sz="1200" spc="-1" strike="noStrike" baseline="30000">
                <a:solidFill>
                  <a:srgbClr val="000000"/>
                </a:solidFill>
                <a:latin typeface="Calibri"/>
              </a:rPr>
              <a:t>® </a:t>
            </a:r>
            <a:r>
              <a:rPr b="0" lang="es-CL" sz="1200" spc="-1" strike="noStrike">
                <a:solidFill>
                  <a:srgbClr val="000000"/>
                </a:solidFill>
                <a:latin typeface="Calibri"/>
              </a:rPr>
              <a:t>561 para transformadores es un refrigerante dieléctrico, altamente estable y mas resistente al fuego que los aceites minerales o los compuestos de hidrocarburo alifático, los cuales son altamente inflamables. Tampoco presenta los riesgos de contaminación ambiental que tenían los askareles a base de PC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ste fluido de silicona ha sido específicamente diseñado para transformadores y, después de haber sido sometido a rigurosos ensayos, se ha comprobado que posee la estabilidad térmica y eléctrica necesaria y que también actúa como disipador del arco voltaic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silicona para transformadores es un agente aislante a base de silicona dimetílica, cuyas propiedades proporcionan seguridad y alto rendimiento.</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silicona dimetílica, es un elemento químico de los menos peligrosos, por lo se utiliza como sustituto para askareles a base de PCB (policloruro bifenilo), además es menos dañino para el medio ambiente.</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frigerante Dieléctrico, con alta estabilidad y más resistente al fuego que los aceites minerales o combusti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C6A0-0258-42E9-9DA7-F24885D0965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Generalmente son los transformadores de potencia, debido a su gran volumen de aceite, silicon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o piraleno (prohibida su fabricación en el año 1986, pero existen aún millares de unidad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en servicio), los que representan un mayor peligro en caso de incendio. En efecto, los transformador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en baño de aceite son susceptibles de provocar, alimentar y propagar el incendio</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debido a su bajo punto de inflamación, los mayores siniestros registrados fueron agravados por</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la expansión del aceite de los transformadores por las conducciones y canalizaciones de cabl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extendiéndose así el incendio a locales y zonas colindante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Además, el transformador en baño de piraleno (líquido ininflamable y de alta estabilidad químic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cuando se ve involucrado en un incendio en sus inmediaciones, a partir de los 200 ºC s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descompone formando un humo negro y espeso asfixiante y gases de extraordinaria toxicida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de la misma naturaleza que los producidos en la Planta Química de la ciudad de Seveso (Itali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más conocido por “veneno de Seveso”.</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Las siliconas, como fluido dieléctrico han sido la alternativa al piraleno por su buen comportamiento</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ante el fuego, tienen un amplio campo de aplicación en aquellos transformadores qu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por su ubicación en locales de pública concurrencia o en locales subterráneos deben cumplir</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00"/>
                </a:solidFill>
                <a:latin typeface="Calibri"/>
              </a:rPr>
              <a:t>normas específicas de protección contra incendios.</a:t>
            </a:r>
            <a:endParaRPr b="0" lang="en-US" sz="1100" spc="-1" strike="noStrike">
              <a:solidFill>
                <a:srgbClr val="000000"/>
              </a:solidFill>
              <a:latin typeface="Calibri"/>
            </a:endParaRPr>
          </a:p>
        </p:txBody>
      </p:sp>
      <p:sp>
        <p:nvSpPr>
          <p:cNvPr id="4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2565-C74B-4A1C-B428-04B361D24C8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esprenden humos muy opacos (sílice pulverulenta en el aire) en caso de incen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ificulta la localización del foco de calor y las intervenciones de rescate, destruy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siderablemente las instalaci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ctiva la combustión en caso de fuga de silicona (incendio real) aunque en va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bierto la silicona sea autoextinguible después de la creación de una capa de síl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la superficie hecho que no puede jamás producirse en explotación dentro de 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transform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Medianamente inflamable, necesita medidas de protección según MIE RAT ITC 1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Dimensiones del orden del 20% superiores a un transformador de aceite mineral. 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aceite de silicona disipa mal el calor y tiene un coeficiente de dilatación elev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ontamina el suelo y las capas freáti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1DEE-BDB5-41CE-A58D-4FDF3062809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stalación más fácil que aisladores de porcelana o vidrio templado por su menor pes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demás están hechos de una sola pieza según se necesite, por lo que no hace falta armar cadenas, lo cual es más complicad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ejor resistencia a ataques vandálicos que aisladores de porcelana o vidrio, pues no se quiebran por gol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98E16-8592-439F-AF21-83A84AAC4F02}"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lta resistencia al desgarro y a la tracció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jo costo de mantenimient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ena resistencia a contamina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C9BDE-335A-4C90-B6C6-FAD0EF936896}"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4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890A-07E1-4E20-BEF4-EF215AF2E718}"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Es un compuesto químico, natural, inodoro e incoloro hecho principalmente de silicio, el segundo elemento más abundante en la corteza terrestre después del oxígeno, que se encuentra en la arena, los cuarzos y las roc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s siliconas son polímeros inorgánicos, es decir, no contienen átomos de carbono en su caden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 cadena de silicona alterna átomos de silicio y de oxígeno. Cada silicona tiene dos grupos unidos a la misma y éstos pueden ser grupos orgánic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981D1-CCD9-4A7E-89FD-5D288692FFC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Un ejemplo de silicona es este polímero que se llama polidimetil silox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Al combinarse con oxígeno, carbono e hidrógeno, se transforma en silicona y dependiendo de los procesos químicos, se presenta en aceite, gel y sóli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9DFA-FC99-46C9-ABBE-8217055E1A5F}"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s siliconas constituyen buenos elastómeros porque la cadena principal es muy flexi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os enlaces entre un átomo de silicio y los dos átomos de oxígeno unidos, son altamente flexi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El ángulo formado por estos enlaces, puede abrirse y cerrarse como si fuera una tijera, sin demasiados problem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Esto hace que toda la cadena principal sea flexi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200" spc="-1" strike="noStrike">
                <a:solidFill>
                  <a:srgbClr val="000000"/>
                </a:solidFill>
                <a:latin typeface="Calibri"/>
              </a:rPr>
              <a:t>Elastómero</a:t>
            </a:r>
            <a:r>
              <a:rPr b="0" lang="es-CO" sz="1200" spc="-1" strike="noStrike">
                <a:solidFill>
                  <a:srgbClr val="000000"/>
                </a:solidFill>
                <a:latin typeface="Calibri"/>
              </a:rPr>
              <a:t> es una elegante palabra que significa simplemente "cauch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a particularidad que destaca a los elastómeros es su facilidad para rebot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Pero decir "que rebotan" es poco precis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o particular de los elastómeros es que pueden ser estirados hasta muchas veces su propia longitud, para luego recuperar su forma original sin una deformación permanente. </a:t>
            </a:r>
            <a:endParaRPr b="0" lang="en-US" sz="1200" spc="-1" strike="noStrike">
              <a:solidFill>
                <a:srgbClr val="000000"/>
              </a:solidFill>
              <a:latin typeface="Calibri"/>
            </a:endParaRPr>
          </a:p>
        </p:txBody>
      </p:sp>
      <p:sp>
        <p:nvSpPr>
          <p:cNvPr id="4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C702-1D0C-4DD1-A6C3-AAC7BF94B9DD}"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Polisiloxano" es el nombre apropiado para las siliconas. Pero cuando fueron descubiertas, se creyó que tenían grupos "silicona" en la cadena principal. Cuando se descubrió la estructura real, fue demasiado tarde, y el nombre se peg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os cientificos pensaron una vez que esta era la estrucura de los polisilozanos, por eso la llamaron siliconas, por comparación con las ketonas que contienen carbono, en vez de silicio, como la figura de la derecha.</a:t>
            </a:r>
            <a:endParaRPr b="0" lang="en-US" sz="1200" spc="-1" strike="noStrike">
              <a:solidFill>
                <a:srgbClr val="000000"/>
              </a:solidFill>
              <a:latin typeface="Calibri"/>
            </a:endParaRPr>
          </a:p>
        </p:txBody>
      </p:sp>
      <p:sp>
        <p:nvSpPr>
          <p:cNvPr id="4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2C01-7BC6-463C-B1CF-2E3AD27D945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3998-4D6F-44AE-B00A-F52AE193E6E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FDBF-9801-40E0-A159-7B8C1C50E6D5}"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070C6-EA20-4895-B6D6-E8190CCA2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DCA91-D1C3-4335-B816-D01D79326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6833D-7606-4620-8945-598923B16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8E6B8-DA0C-4165-BE5B-592A9EE53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547200-8CEA-4F17-A0A6-EA9CEBECE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3F0E5-C45C-44BC-8375-42ECB5C7B0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BEB82-9445-4496-A9A5-EE10724B2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BBE58-C735-471F-A2C0-835296798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82703-6785-4393-8443-FE4F4EAA5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EFF11-B357-4E35-AEA9-E42DFBE02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04812E-9442-47D1-A383-0023B64DE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19457-44EA-44BB-A05C-CE74E6502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2D105-4973-4DB4-B4AB-97FED348EE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8493F-F854-4617-8689-71723AA6A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144E1-DDDA-4B4A-B8A6-63C8A58C4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5B235-7448-45E3-9353-C980345377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BCF286-2237-44A9-B120-F94352664D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79BD84-15EA-44AD-A85C-8A906DD4B1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140856-C738-4971-9EA6-0E386BF06A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AB1245-8E7E-43CA-8910-34F320C886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57B5F1-8210-4331-AC52-F4316D7CC1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26D180-7DFB-4521-BD93-839D2F656D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EAC1E-0F93-4BA4-989C-840238FC9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94BCD9-EEEE-413C-ADDC-E800DF819F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F58D79-7B50-4BBB-BA9C-7BAA9DAB41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45F967-9523-437B-8C00-5072B06653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8202B4-D38E-462A-A8E5-0F81A3D478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8F2BDF-2A8A-4707-A9AE-BF8A163A16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0F841B-098E-4B25-BCFE-19F582F2B0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3097EB-9A84-45BB-8F31-475AD551A7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A22E72-14C6-465C-B569-592DC66FAE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380EA3-E25E-4BE8-B831-DE8FFAA3E1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07AA02-A173-40A7-8319-4C5576F51B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7B57F-AFE2-41DD-BD53-C472011F1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C3BAD1-EB8F-4310-AD02-036B9AA0BC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654634-3245-420F-8CDA-63045BA5AC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3162A8-A683-4E91-83B4-20F0D94AB6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5A626D-812D-439B-B335-71E7D2D74D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B8F42D-B2DE-480F-9A1F-D361C905DC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A2DE05-5827-44F6-AB75-6BA9811390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AFB3FC-9710-46C3-889A-3E6BA253C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192938-354E-4BEB-AEDB-1A9F63E16B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724A78-CD28-4F81-BEEE-ED015E5962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E629F6-4A56-4966-BC1B-D8862BF3D3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4AA52-1DB5-4F11-A5B8-C6D5D698C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A7CCDB-2F22-4D1E-8014-5A7AF964E3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469817-E0D2-4679-BF45-0BA3161AAD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E8621E-7F70-4439-9049-480D566188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36BD84-C5BA-4440-AF97-2819DCCC25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98126B-8C02-4AD7-A717-E24A7CC840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3A333D-FCA3-470C-A894-517F53EDC7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A66B5B-E62B-40E8-BC26-20C38C2615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CCA6F2-ACE8-47FB-9C6E-9B9A13DAAD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FD753C-CD24-4423-B3A2-53E0AA9EDE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69F616-E8BB-4EC7-B57E-C5AF51BF7A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6D5C0-FF89-4211-981F-D32FFD3C7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6DAAE2-490C-42D2-9A3A-36C571993A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BDEC96-C2A2-4F80-8903-0605F968EA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7E0985-6DD3-4092-BD7F-3CB7C88EB0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53FCD8-D442-49E2-8208-41F7A5EF4A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50CC97-6638-460A-960B-934460EBDE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342828-BD90-4BFA-B1B9-FBC15E2CAA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4A16B4-FE05-4964-A2D4-ABE31C36EC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39CBB7-B447-48BD-B8F9-476B9CEA06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E81B87-61E3-4F1C-9074-02D7B4CB49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7F410C-7AB9-455F-987F-42AF0D7604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919EC-0119-452F-84E1-2A9D98112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7B9AFB-EB5C-42AC-BB51-9FEC04C1A1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9995D4-943C-41CA-9C3A-13AB5F5BE9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A62F3A-01F7-45A0-BD05-6FA38302C6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6B1E33-7061-48BA-A0C2-AFEDEA541F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BC62AA-1D57-4AD6-BA55-375A12A2E2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26ED9A-7033-45B9-B4B8-91AF6BCC56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6A54A5-E278-4AE4-A524-3737437465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6181CE-AB64-41EC-90EF-8AE175CEB2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37E198-282F-487E-9A49-F88A830275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08AEDF-C294-4D4A-868A-C46F830F0B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13E85-6E45-4FB9-BF2E-FDC88951D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94840E-94A4-46F7-9FC7-EC8D1DE104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240084-8784-424E-84A3-455D8F7E19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3BDC05-0CA4-4957-B3EE-E948372AA88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EF1E74-2CFC-4CC1-9ACD-9C5407F754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BC0735-26B5-4647-BF91-B47A7B5368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5DE015-DDCA-45C4-9F64-6E3AC1C2245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E6F629-FCD5-4B59-95BD-2712419E20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DF2C40-3DFE-45B3-B122-D785EE6C8E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DA19E7-8B83-4AF9-8322-6F91C83136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AA8443-5C2A-41C6-BD28-AE4CF85DFA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C6B16-6C0F-4924-BA5C-C3E166F71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6B4994-A65A-4663-A25F-3B466F7E38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4B11E5-DC5C-4165-B9A8-C555D9DE32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459E1F-795A-47AC-90BB-0C81D3A48E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0E5508-B339-408B-9DDD-5F8B90B297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64410E-BBDE-48E2-9C1E-C5780EF10D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697247-3C5D-4809-94F9-C0CCEC177E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BC947E-E1BD-4CAD-8119-9A947ADEBBC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7A314-4D83-43C5-BD33-FA6B98B71C03}"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8 Forma libre"/>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9E5C-8A74-446F-B7D7-B023C9B78775}" type="slidenum">
              <a:rPr b="0" lang="es-E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E7E2D-C494-4097-90A2-F72923A5FEFE}"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BA7F7-F70F-4B29-8A70-0BF6F690D466}"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C8474-D2D6-435F-9F31-12E608235AF5}"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11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CB53-F0D0-42C7-B793-423DFFFBACC1}"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DFD4-C288-4632-9AAB-6E0FCD9FFFA9}" type="slidenum">
              <a:rPr b="0" lang="es-E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15 Forma libre"/>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1302-9540-4766-885B-51A62F2093D0}" type="slidenum">
              <a:rPr b="0" lang="es-E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globalsoluciones.cl/" TargetMode="External"/><Relationship Id="rId2" Type="http://schemas.openxmlformats.org/officeDocument/2006/relationships/image" Target="../media/image35.png"/><Relationship Id="rId3" Type="http://schemas.openxmlformats.org/officeDocument/2006/relationships/hyperlink" Target="http://www.mathiesen.cl/"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1 Título" descr=""/>
          <p:cNvPicPr/>
          <p:nvPr/>
        </p:nvPicPr>
        <p:blipFill>
          <a:blip r:embed="rId1"/>
          <a:stretch/>
        </p:blipFill>
        <p:spPr>
          <a:xfrm>
            <a:off x="993600" y="2498760"/>
            <a:ext cx="7705800" cy="1725480"/>
          </a:xfrm>
          <a:prstGeom prst="rect">
            <a:avLst/>
          </a:prstGeom>
          <a:ln w="0">
            <a:noFill/>
          </a:ln>
        </p:spPr>
      </p:pic>
      <p:sp>
        <p:nvSpPr>
          <p:cNvPr id="378" name="PlaceHolder 1"/>
          <p:cNvSpPr>
            <a:spLocks noGrp="1"/>
          </p:cNvSpPr>
          <p:nvPr>
            <p:ph type="subTitle"/>
          </p:nvPr>
        </p:nvSpPr>
        <p:spPr>
          <a:xfrm>
            <a:off x="5643720" y="5786280"/>
            <a:ext cx="3271680" cy="84312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Sebastián Campos</a:t>
            </a:r>
            <a:endParaRPr b="0" lang="en-US" sz="2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Lucida Sans Unicode"/>
              </a:rPr>
              <a:t>Juan Pablo Kindermann </a:t>
            </a:r>
            <a:endParaRPr b="0" lang="en-US" sz="2000" spc="-1" strike="noStrike">
              <a:solidFill>
                <a:srgbClr val="000000"/>
              </a:solidFill>
              <a:latin typeface="Lucida Sans Unicode"/>
            </a:endParaRPr>
          </a:p>
        </p:txBody>
      </p:sp>
      <p:pic>
        <p:nvPicPr>
          <p:cNvPr id="379" name="Picture 2" descr=""/>
          <p:cNvPicPr/>
          <p:nvPr/>
        </p:nvPicPr>
        <p:blipFill>
          <a:blip r:embed="rId2"/>
          <a:stretch/>
        </p:blipFill>
        <p:spPr>
          <a:xfrm>
            <a:off x="214200" y="285840"/>
            <a:ext cx="3714840" cy="120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ceite para transformado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isladores de líneas de transmisión y distribució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Barnices aisladores en bobin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2 Título" descr=""/>
          <p:cNvPicPr/>
          <p:nvPr/>
        </p:nvPicPr>
        <p:blipFill>
          <a:blip r:embed="rId1"/>
          <a:stretch/>
        </p:blipFill>
        <p:spPr>
          <a:xfrm>
            <a:off x="225360" y="268200"/>
            <a:ext cx="8467920" cy="1152720"/>
          </a:xfrm>
          <a:prstGeom prst="rect">
            <a:avLst/>
          </a:prstGeom>
          <a:ln w="0">
            <a:noFill/>
          </a:ln>
        </p:spPr>
      </p:pic>
      <p:sp>
        <p:nvSpPr>
          <p:cNvPr id="405" name=""/>
          <p:cNvSpPr txBox="1"/>
          <p:nvPr/>
        </p:nvSpPr>
        <p:spPr>
          <a:xfrm>
            <a:off x="457200" y="1444320"/>
            <a:ext cx="6972480" cy="3941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Substituto de los askareles, como aislante en transformadore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Debido a que posee una mayor temperatura de inflamación que el aceite mineral, son útiles para  lugares que requieran mayores niveles de seguridad.</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6" name="Picture 4" descr=""/>
          <p:cNvPicPr/>
          <p:nvPr/>
        </p:nvPicPr>
        <p:blipFill>
          <a:blip r:embed="rId2"/>
          <a:stretch/>
        </p:blipFill>
        <p:spPr>
          <a:xfrm>
            <a:off x="5929200" y="3924360"/>
            <a:ext cx="2857680" cy="293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2 Título" descr=""/>
          <p:cNvPicPr/>
          <p:nvPr/>
        </p:nvPicPr>
        <p:blipFill>
          <a:blip r:embed="rId1"/>
          <a:stretch/>
        </p:blipFill>
        <p:spPr>
          <a:xfrm>
            <a:off x="384120" y="122400"/>
            <a:ext cx="8491680" cy="1341360"/>
          </a:xfrm>
          <a:prstGeom prst="rect">
            <a:avLst/>
          </a:prstGeom>
          <a:ln w="0">
            <a:noFill/>
          </a:ln>
        </p:spPr>
      </p:pic>
      <p:pic>
        <p:nvPicPr>
          <p:cNvPr id="408" name="Picture 2" descr=""/>
          <p:cNvPicPr/>
          <p:nvPr/>
        </p:nvPicPr>
        <p:blipFill>
          <a:blip r:embed="rId2"/>
          <a:stretch/>
        </p:blipFill>
        <p:spPr>
          <a:xfrm>
            <a:off x="781200" y="1481040"/>
            <a:ext cx="758160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2 Título" descr=""/>
          <p:cNvPicPr/>
          <p:nvPr/>
        </p:nvPicPr>
        <p:blipFill>
          <a:blip r:embed="rId1"/>
          <a:stretch/>
        </p:blipFill>
        <p:spPr>
          <a:xfrm>
            <a:off x="328680" y="122400"/>
            <a:ext cx="8602560" cy="1341360"/>
          </a:xfrm>
          <a:prstGeom prst="rect">
            <a:avLst/>
          </a:prstGeom>
          <a:ln w="0">
            <a:noFill/>
          </a:ln>
        </p:spPr>
      </p:pic>
      <p:pic>
        <p:nvPicPr>
          <p:cNvPr id="410" name="Picture 2" descr=""/>
          <p:cNvPicPr/>
          <p:nvPr/>
        </p:nvPicPr>
        <p:blipFill>
          <a:blip r:embed="rId2"/>
          <a:stretch/>
        </p:blipFill>
        <p:spPr>
          <a:xfrm>
            <a:off x="1357200" y="1500120"/>
            <a:ext cx="6451560" cy="4525920"/>
          </a:xfrm>
          <a:prstGeom prst="rect">
            <a:avLst/>
          </a:prstGeom>
          <a:ln w="0">
            <a:noFill/>
          </a:ln>
        </p:spPr>
      </p:pic>
      <p:sp>
        <p:nvSpPr>
          <p:cNvPr id="411" name="4 Rectángulo"/>
          <p:cNvSpPr/>
          <p:nvPr/>
        </p:nvSpPr>
        <p:spPr>
          <a:xfrm>
            <a:off x="1428840" y="4857840"/>
            <a:ext cx="5929200" cy="214200"/>
          </a:xfrm>
          <a:prstGeom prst="rect">
            <a:avLst/>
          </a:prstGeom>
          <a:noFill/>
          <a:ln w="19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sprenden humos muy opacos en caso de incendio, dificulta la localización del foco de calo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ctiva la combustión en caso de fuga de silicona (incendio rea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umenta el dimensionamiento del transformador (del orden del 20%)</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amina el suelo y las aguas subterránea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Aumenta el costo del transformador (orden del 20% a 25%)</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3" name="2 Título" descr=""/>
          <p:cNvPicPr/>
          <p:nvPr/>
        </p:nvPicPr>
        <p:blipFill>
          <a:blip r:embed="rId1"/>
          <a:stretch/>
        </p:blipFill>
        <p:spPr>
          <a:xfrm>
            <a:off x="396720" y="122400"/>
            <a:ext cx="8479080" cy="134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481040"/>
            <a:ext cx="8329680" cy="43768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Menor peso que los aisladores de porcelana o vidrio templado.</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Además están hechos de una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sola pieza según se necesite.</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Mejor resistencia a ataques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vandálicos que aisladores de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Unicode"/>
              </a:rPr>
              <a:t>	</a:t>
            </a:r>
            <a:r>
              <a:rPr b="0" lang="es-ES" sz="2000" spc="-1" strike="noStrike">
                <a:solidFill>
                  <a:srgbClr val="000000"/>
                </a:solidFill>
                <a:latin typeface="Lucida Sans Unicode"/>
              </a:rPr>
              <a:t>porcelana o vidrio.</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15" name="2 Título" descr=""/>
          <p:cNvPicPr/>
          <p:nvPr/>
        </p:nvPicPr>
        <p:blipFill>
          <a:blip r:embed="rId1"/>
          <a:stretch/>
        </p:blipFill>
        <p:spPr>
          <a:xfrm>
            <a:off x="225360" y="122400"/>
            <a:ext cx="8467920" cy="1341360"/>
          </a:xfrm>
          <a:prstGeom prst="rect">
            <a:avLst/>
          </a:prstGeom>
          <a:ln w="0">
            <a:noFill/>
          </a:ln>
        </p:spPr>
      </p:pic>
      <p:pic>
        <p:nvPicPr>
          <p:cNvPr id="416" name="Picture 2" descr=""/>
          <p:cNvPicPr/>
          <p:nvPr/>
        </p:nvPicPr>
        <p:blipFill>
          <a:blip r:embed="rId2"/>
          <a:stretch/>
        </p:blipFill>
        <p:spPr>
          <a:xfrm>
            <a:off x="6143760" y="2357280"/>
            <a:ext cx="2257200" cy="4229280"/>
          </a:xfrm>
          <a:prstGeom prst="rect">
            <a:avLst/>
          </a:prstGeom>
          <a:ln w="0">
            <a:noFill/>
          </a:ln>
        </p:spPr>
      </p:pic>
      <p:pic>
        <p:nvPicPr>
          <p:cNvPr id="417" name="Picture 3" descr=""/>
          <p:cNvPicPr/>
          <p:nvPr/>
        </p:nvPicPr>
        <p:blipFill>
          <a:blip r:embed="rId3"/>
          <a:srcRect l="0" t="23971" r="0" b="0"/>
          <a:stretch/>
        </p:blipFill>
        <p:spPr>
          <a:xfrm>
            <a:off x="2428920" y="4857840"/>
            <a:ext cx="3548160" cy="163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Alta resistencia al desgarro y a la tra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jo costo de mantenimiento.</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uena resistencia a contaminació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9" name="2 Título" descr=""/>
          <p:cNvPicPr/>
          <p:nvPr/>
        </p:nvPicPr>
        <p:blipFill>
          <a:blip r:embed="rId1"/>
          <a:stretch/>
        </p:blipFill>
        <p:spPr>
          <a:xfrm>
            <a:off x="225360" y="122400"/>
            <a:ext cx="8467920" cy="1341360"/>
          </a:xfrm>
          <a:prstGeom prst="rect">
            <a:avLst/>
          </a:prstGeom>
          <a:ln w="0">
            <a:noFill/>
          </a:ln>
        </p:spPr>
      </p:pic>
      <p:pic>
        <p:nvPicPr>
          <p:cNvPr id="420" name="Picture 2" descr=""/>
          <p:cNvPicPr/>
          <p:nvPr/>
        </p:nvPicPr>
        <p:blipFill>
          <a:blip r:embed="rId2"/>
          <a:stretch/>
        </p:blipFill>
        <p:spPr>
          <a:xfrm>
            <a:off x="285840" y="4429080"/>
            <a:ext cx="8643960" cy="1141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285840" y="1285560"/>
            <a:ext cx="8229600" cy="486396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Lucida Sans Unicode"/>
              </a:rPr>
              <a:t>Silpak S.A. (aisladores Silpak)</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Parinacota #381 Modulo 11</a:t>
            </a:r>
            <a:br>
              <a:rPr sz="2100"/>
            </a:br>
            <a:r>
              <a:rPr b="0" lang="es-ES" sz="2100" spc="-1" strike="noStrike">
                <a:solidFill>
                  <a:srgbClr val="000000"/>
                </a:solidFill>
                <a:latin typeface="Lucida Sans Unicode"/>
              </a:rPr>
              <a:t>Lo Echevers Quilicura</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Tel: (56-2) 739 0829</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E-mail: </a:t>
            </a:r>
            <a:r>
              <a:rPr b="0" lang="es-ES" sz="2100" spc="-1" strike="noStrike">
                <a:solidFill>
                  <a:srgbClr val="000000"/>
                </a:solidFill>
                <a:latin typeface="Lucida Sans Unicode"/>
              </a:rPr>
              <a:t>silpak@silpak.cl</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Lucida Sans Unicode"/>
              </a:rPr>
              <a:t>www.silpak.cl/</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Lucida Sans Unicode"/>
              </a:rPr>
              <a:t>Munelec S.A.(aisladores Salisbury)</a:t>
            </a:r>
            <a:endParaRPr b="0" lang="en-US" sz="25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San Nicolás # 671</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San Miguel</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Tel: (56-2) 552 2285 – 552 3190 – 552 4738</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Fax: (56-2) 553 6517</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E-mail: munelec@munelec.cl</a:t>
            </a:r>
            <a:endParaRPr b="0" lang="en-US" sz="2100" spc="-1" strike="noStrike">
              <a:solidFill>
                <a:srgbClr val="000000"/>
              </a:solidFill>
              <a:latin typeface="Lucida Sans Unicode"/>
            </a:endParaRPr>
          </a:p>
          <a:p>
            <a:pPr lvl="1" marL="620640" indent="-228600">
              <a:lnSpc>
                <a:spcPct val="9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www.munelec.cl </a:t>
            </a:r>
            <a:endParaRPr b="0" lang="en-US" sz="21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422"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0680"/>
            <a:ext cx="8229600" cy="25196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Global Soluciones (aisladores Avator)</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2º Avenida #1423</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San Miguel</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Tel: (56-2) 367 1174</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Fax: (56-2) 367 1181</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ff8119"/>
                </a:solidFill>
                <a:uFillTx/>
                <a:latin typeface="Lucida Sans Unicode"/>
                <a:hlinkClick r:id="rId1"/>
              </a:rPr>
              <a:t>www.globalsoluciones.cl</a:t>
            </a: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24" name="2 Título" descr=""/>
          <p:cNvPicPr/>
          <p:nvPr/>
        </p:nvPicPr>
        <p:blipFill>
          <a:blip r:embed="rId2"/>
          <a:stretch/>
        </p:blipFill>
        <p:spPr>
          <a:xfrm>
            <a:off x="195120" y="268200"/>
            <a:ext cx="8498160" cy="1158840"/>
          </a:xfrm>
          <a:prstGeom prst="rect">
            <a:avLst/>
          </a:prstGeom>
          <a:ln w="0">
            <a:noFill/>
          </a:ln>
        </p:spPr>
      </p:pic>
      <p:sp>
        <p:nvSpPr>
          <p:cNvPr id="425" name="1 Marcador de contenido"/>
          <p:cNvSpPr/>
          <p:nvPr/>
        </p:nvSpPr>
        <p:spPr>
          <a:xfrm>
            <a:off x="571680" y="4071960"/>
            <a:ext cx="8229600" cy="251928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Mathiesen S.A.C (aceites Dow Coring)</a:t>
            </a:r>
            <a:endParaRPr b="0" lang="en-US" sz="21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Av. Del Parque 4265 Edificio Hispano Chileno Piso 3</a:t>
            </a:r>
            <a:endParaRPr b="0" lang="en-US" sz="20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Huechuraba</a:t>
            </a:r>
            <a:endParaRPr b="0" lang="en-US" sz="21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Tel: (56-2)  </a:t>
            </a:r>
            <a:r>
              <a:rPr b="0" lang="es-CL" sz="2400" spc="-1" strike="noStrike">
                <a:solidFill>
                  <a:srgbClr val="000000"/>
                </a:solidFill>
                <a:latin typeface="Lucida Sans Unicode"/>
              </a:rPr>
              <a:t>6405600. </a:t>
            </a:r>
            <a:endParaRPr b="0" lang="en-US" sz="24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Lucida Sans Unicode"/>
              </a:rPr>
              <a:t>Fax: (56-2) </a:t>
            </a:r>
            <a:r>
              <a:rPr b="0" lang="es-CL" sz="2400" spc="-1" strike="noStrike">
                <a:solidFill>
                  <a:srgbClr val="000000"/>
                </a:solidFill>
                <a:latin typeface="Lucida Sans Unicode"/>
              </a:rPr>
              <a:t>6405700 </a:t>
            </a:r>
            <a:endParaRPr b="0" lang="en-US" sz="24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ff8119"/>
                </a:solidFill>
                <a:uFillTx/>
                <a:latin typeface="Lucida Sans Unicode"/>
                <a:hlinkClick r:id="rId3"/>
              </a:rPr>
              <a:t>www.mathiesen.cl</a:t>
            </a:r>
            <a:endParaRPr b="0" lang="en-US" sz="21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0680"/>
            <a:ext cx="7400880" cy="38768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Es un compuesto químico, natural, inodoro e incoloro hecho principalmente de silicio.</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Las siliconas son polímeros inorgánicos, es decir, no contienen átomos de carbono en su cadena principal.</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La cadena de silicona alterna átomos de silicio y de oxígeno. </a:t>
            </a:r>
            <a:endParaRPr b="0" lang="en-US" sz="2500" spc="-1" strike="noStrike">
              <a:solidFill>
                <a:srgbClr val="000000"/>
              </a:solidFill>
              <a:latin typeface="Lucida Sans Unicode"/>
            </a:endParaRPr>
          </a:p>
        </p:txBody>
      </p:sp>
      <p:pic>
        <p:nvPicPr>
          <p:cNvPr id="381" name="1 Título" descr=""/>
          <p:cNvPicPr/>
          <p:nvPr/>
        </p:nvPicPr>
        <p:blipFill>
          <a:blip r:embed="rId1"/>
          <a:stretch/>
        </p:blipFill>
        <p:spPr>
          <a:xfrm>
            <a:off x="165240" y="420840"/>
            <a:ext cx="4383000" cy="1023840"/>
          </a:xfrm>
          <a:prstGeom prst="rect">
            <a:avLst/>
          </a:prstGeom>
          <a:ln w="0">
            <a:noFill/>
          </a:ln>
        </p:spPr>
      </p:pic>
      <p:pic>
        <p:nvPicPr>
          <p:cNvPr id="382" name="Picture 2" descr=""/>
          <p:cNvPicPr/>
          <p:nvPr/>
        </p:nvPicPr>
        <p:blipFill>
          <a:blip r:embed="rId2">
            <a:lum contrast="30000"/>
          </a:blip>
          <a:stretch/>
        </p:blipFill>
        <p:spPr>
          <a:xfrm>
            <a:off x="6000840" y="5029200"/>
            <a:ext cx="238104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642960" y="1857240"/>
            <a:ext cx="8043840" cy="3733920"/>
          </a:xfrm>
          <a:prstGeom prst="rect">
            <a:avLst/>
          </a:prstGeom>
          <a:noFill/>
          <a:ln w="0">
            <a:noFill/>
          </a:ln>
        </p:spPr>
        <p:txBody>
          <a:bodyPr anchor="t">
            <a:normAutofit fontScale="99000"/>
          </a:bodyPr>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Un ejemplo de silicona es este polímero que se llama polidimetil siloxano, el cual es el más común.</a:t>
            </a: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500" spc="-1" strike="noStrike">
                <a:solidFill>
                  <a:srgbClr val="000000"/>
                </a:solidFill>
                <a:latin typeface="Lucida Sans Unicode"/>
              </a:rPr>
              <a:t>Al combinarse con oxígeno, carbono e hidrógeno, se transforma en silicona y dependiendo de los procesos químicos, se presenta en aceite, gel y sólido.</a:t>
            </a:r>
            <a:endParaRPr b="0" lang="en-US" sz="2500" spc="-1" strike="noStrike">
              <a:solidFill>
                <a:srgbClr val="000000"/>
              </a:solidFill>
              <a:latin typeface="Lucida Sans Unicode"/>
            </a:endParaRPr>
          </a:p>
          <a:p>
            <a:pPr marL="361080" indent="-25272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384" name="1 Título" descr=""/>
          <p:cNvPicPr/>
          <p:nvPr/>
        </p:nvPicPr>
        <p:blipFill>
          <a:blip r:embed="rId1"/>
          <a:stretch/>
        </p:blipFill>
        <p:spPr>
          <a:xfrm>
            <a:off x="-49320" y="407880"/>
            <a:ext cx="2670120" cy="963720"/>
          </a:xfrm>
          <a:prstGeom prst="rect">
            <a:avLst/>
          </a:prstGeom>
          <a:ln w="0">
            <a:noFill/>
          </a:ln>
        </p:spPr>
      </p:pic>
      <p:pic>
        <p:nvPicPr>
          <p:cNvPr id="385" name="Picture 3" descr=""/>
          <p:cNvPicPr/>
          <p:nvPr/>
        </p:nvPicPr>
        <p:blipFill>
          <a:blip r:embed="rId2">
            <a:lum contrast="40000"/>
          </a:blip>
          <a:stretch/>
        </p:blipFill>
        <p:spPr>
          <a:xfrm>
            <a:off x="1785960" y="1357200"/>
            <a:ext cx="5781600" cy="104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Las siliconas constituyen buenos elastómeros porque la cadena principal es muy flexible. </a:t>
            </a:r>
            <a:endParaRPr b="0" lang="en-US" sz="2700" spc="-1" strike="noStrike">
              <a:solidFill>
                <a:srgbClr val="000000"/>
              </a:solidFill>
              <a:latin typeface="Lucida Sans Unicode"/>
            </a:endParaRPr>
          </a:p>
        </p:txBody>
      </p:sp>
      <p:pic>
        <p:nvPicPr>
          <p:cNvPr id="387" name="2 Título" descr=""/>
          <p:cNvPicPr/>
          <p:nvPr/>
        </p:nvPicPr>
        <p:blipFill>
          <a:blip r:embed="rId1"/>
          <a:stretch/>
        </p:blipFill>
        <p:spPr>
          <a:xfrm>
            <a:off x="195120" y="268200"/>
            <a:ext cx="8498160" cy="1158840"/>
          </a:xfrm>
          <a:prstGeom prst="rect">
            <a:avLst/>
          </a:prstGeom>
          <a:ln w="0">
            <a:noFill/>
          </a:ln>
        </p:spPr>
      </p:pic>
      <p:pic>
        <p:nvPicPr>
          <p:cNvPr id="388" name="Picture 2" descr=""/>
          <p:cNvPicPr/>
          <p:nvPr/>
        </p:nvPicPr>
        <p:blipFill>
          <a:blip r:embed="rId2">
            <a:lum contrast="30000"/>
          </a:blip>
          <a:stretch/>
        </p:blipFill>
        <p:spPr>
          <a:xfrm>
            <a:off x="571680" y="3500280"/>
            <a:ext cx="7978680" cy="142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Polisiloxano" es el nombre apropiado para las silicona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2 Título" descr=""/>
          <p:cNvPicPr/>
          <p:nvPr/>
        </p:nvPicPr>
        <p:blipFill>
          <a:blip r:embed="rId1"/>
          <a:stretch/>
        </p:blipFill>
        <p:spPr>
          <a:xfrm>
            <a:off x="195120" y="268200"/>
            <a:ext cx="8498160" cy="1158840"/>
          </a:xfrm>
          <a:prstGeom prst="rect">
            <a:avLst/>
          </a:prstGeom>
          <a:ln w="0">
            <a:noFill/>
          </a:ln>
        </p:spPr>
      </p:pic>
      <p:pic>
        <p:nvPicPr>
          <p:cNvPr id="391" name="Picture 2" descr=""/>
          <p:cNvPicPr/>
          <p:nvPr/>
        </p:nvPicPr>
        <p:blipFill>
          <a:blip r:embed="rId2">
            <a:lum contrast="30000"/>
          </a:blip>
          <a:stretch/>
        </p:blipFill>
        <p:spPr>
          <a:xfrm>
            <a:off x="5715000" y="2928960"/>
            <a:ext cx="1428840" cy="1414440"/>
          </a:xfrm>
          <a:prstGeom prst="rect">
            <a:avLst/>
          </a:prstGeom>
          <a:ln w="0">
            <a:noFill/>
          </a:ln>
        </p:spPr>
      </p:pic>
      <p:pic>
        <p:nvPicPr>
          <p:cNvPr id="392" name="Picture 3" descr=""/>
          <p:cNvPicPr/>
          <p:nvPr/>
        </p:nvPicPr>
        <p:blipFill>
          <a:blip r:embed="rId3">
            <a:lum contrast="30000"/>
          </a:blip>
          <a:stretch/>
        </p:blipFill>
        <p:spPr>
          <a:xfrm>
            <a:off x="1357200" y="3214800"/>
            <a:ext cx="2932200" cy="1071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6840" y="1480680"/>
            <a:ext cx="7472520" cy="38768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Se deriva de la roca de cuarzo y al ser calentado en presencia de carbón se produce silicona elemental.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Dependiendo de posteriores procesos químicos, la silicona puede tomar una variedad de formas físicas que incluyen aceite, gel y sólido.</a:t>
            </a:r>
            <a:endParaRPr b="0" lang="en-US" sz="2700" spc="-1" strike="noStrike">
              <a:solidFill>
                <a:srgbClr val="000000"/>
              </a:solidFill>
              <a:latin typeface="Lucida Sans Unicode"/>
            </a:endParaRPr>
          </a:p>
        </p:txBody>
      </p:sp>
      <p:pic>
        <p:nvPicPr>
          <p:cNvPr id="394" name="2 Título" descr=""/>
          <p:cNvPicPr/>
          <p:nvPr/>
        </p:nvPicPr>
        <p:blipFill>
          <a:blip r:embed="rId1"/>
          <a:stretch/>
        </p:blipFill>
        <p:spPr>
          <a:xfrm>
            <a:off x="195120" y="268200"/>
            <a:ext cx="8498160" cy="1158840"/>
          </a:xfrm>
          <a:prstGeom prst="rect">
            <a:avLst/>
          </a:prstGeom>
          <a:ln w="0">
            <a:noFill/>
          </a:ln>
        </p:spPr>
      </p:pic>
      <p:pic>
        <p:nvPicPr>
          <p:cNvPr id="395" name="3 Imagen" descr="cuarzo-cristalderoca.jpg"/>
          <p:cNvPicPr/>
          <p:nvPr/>
        </p:nvPicPr>
        <p:blipFill>
          <a:blip r:embed="rId2"/>
          <a:stretch/>
        </p:blipFill>
        <p:spPr>
          <a:xfrm>
            <a:off x="6072120" y="4714920"/>
            <a:ext cx="2571840" cy="192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213840" y="1285920"/>
            <a:ext cx="8472600" cy="4525920"/>
          </a:xfrm>
          <a:prstGeom prst="rect">
            <a:avLst/>
          </a:prstGeom>
          <a:noFill/>
          <a:ln w="0">
            <a:noFill/>
          </a:ln>
        </p:spPr>
        <p:txBody>
          <a:bodyPr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Un método más químico seria:</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Lucida Sans Unicode"/>
              </a:rPr>
              <a:t>Se calienta silicio en cloruro metílico para dar</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   </a:t>
            </a:r>
            <a:r>
              <a:rPr b="0" lang="es-CO" sz="2700" spc="-1" strike="noStrike">
                <a:solidFill>
                  <a:srgbClr val="000000"/>
                </a:solidFill>
                <a:latin typeface="Lucida Sans Unicode"/>
              </a:rPr>
              <a:t>metilclorosilanos; éstos se separan y purifican por destilación, y el compuesto deseado es mezclado </a:t>
            </a:r>
            <a:r>
              <a:rPr b="0" lang="es-ES" sz="2700" spc="-1" strike="noStrike">
                <a:solidFill>
                  <a:srgbClr val="000000"/>
                </a:solidFill>
                <a:latin typeface="Lucida Sans Unicode"/>
              </a:rPr>
              <a:t>con agua. Resulta una silicona polimérica.</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700" spc="-1" strike="noStrike">
                <a:solidFill>
                  <a:srgbClr val="000000"/>
                </a:solidFill>
                <a:latin typeface="Lucida Sans Unicode"/>
              </a:rPr>
              <a:t>Esto es una reacción del tetracloruro de silicio y un reactivo de Grignard (RMgCl) con la hidrólisis y polimerización </a:t>
            </a:r>
            <a:r>
              <a:rPr b="0" lang="es-ES" sz="2700" spc="-1" strike="noStrike">
                <a:solidFill>
                  <a:srgbClr val="000000"/>
                </a:solidFill>
                <a:latin typeface="Lucida Sans Unicode"/>
              </a:rPr>
              <a:t>subsiguientes.</a:t>
            </a: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Lucida Sans Unicode"/>
              </a:rPr>
              <a:t>Resistencia a la Temperatur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Lucida Sans Unicode"/>
              </a:rPr>
              <a:t>Alta rigidez dieléctric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Mantiene la rigidez dieléctrica en temperaturas extrema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Resistencia a la humedad</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Lucida Sans Unicode"/>
              </a:rPr>
              <a:t>Baja velocidad de disipación térmic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99"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3 Título" descr=""/>
          <p:cNvPicPr/>
          <p:nvPr/>
        </p:nvPicPr>
        <p:blipFill>
          <a:blip r:embed="rId1"/>
          <a:stretch/>
        </p:blipFill>
        <p:spPr>
          <a:xfrm>
            <a:off x="195120" y="268200"/>
            <a:ext cx="8498160" cy="1158840"/>
          </a:xfrm>
          <a:prstGeom prst="rect">
            <a:avLst/>
          </a:prstGeom>
          <a:ln w="0">
            <a:noFill/>
          </a:ln>
        </p:spPr>
      </p:pic>
      <p:pic>
        <p:nvPicPr>
          <p:cNvPr id="401" name="Picture 3" descr=""/>
          <p:cNvPicPr/>
          <p:nvPr/>
        </p:nvPicPr>
        <p:blipFill>
          <a:blip r:embed="rId2"/>
          <a:srcRect l="10742" t="31251" r="14843" b="25625"/>
          <a:stretch/>
        </p:blipFill>
        <p:spPr>
          <a:xfrm>
            <a:off x="500040" y="1857240"/>
            <a:ext cx="8229600" cy="29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8T04:10:52Z</dcterms:created>
  <dc:creator>Usuario</dc:creator>
  <dc:description/>
  <dc:language>en-US</dc:language>
  <cp:lastModifiedBy> Alberto Botteselle Doggenweiler</cp:lastModifiedBy>
  <dcterms:modified xsi:type="dcterms:W3CDTF">2009-09-23T13:22:05Z</dcterms:modified>
  <cp:revision>47</cp:revision>
  <dc:subject/>
  <dc:title>Silicona Aplicada a los Aislantes Termicos</dc:title>
</cp:coreProperties>
</file>