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0.png" ContentType="image/png"/>
  <Override PartName="/ppt/media/image36.jpeg" ContentType="image/jpeg"/>
  <Override PartName="/ppt/media/image21.png" ContentType="image/png"/>
  <Override PartName="/ppt/media/image19.png" ContentType="image/png"/>
  <Override PartName="/ppt/media/image14.jpeg" ContentType="image/jpeg"/>
  <Override PartName="/ppt/media/image7.png" ContentType="image/png"/>
  <Override PartName="/ppt/media/image34.jpeg" ContentType="image/jpe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12.jpeg" ContentType="image/jpeg"/>
  <Override PartName="/ppt/media/image37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6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8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699250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6699600" cy="983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1960" cy="49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3"/>
          </p:nvPr>
        </p:nvSpPr>
        <p:spPr>
          <a:xfrm>
            <a:off x="3796920" y="-360"/>
            <a:ext cx="2901960" cy="49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4"/>
          </p:nvPr>
        </p:nvSpPr>
        <p:spPr>
          <a:xfrm>
            <a:off x="-360" y="9345240"/>
            <a:ext cx="2901960" cy="4906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sldNum" idx="5"/>
          </p:nvPr>
        </p:nvSpPr>
        <p:spPr>
          <a:xfrm>
            <a:off x="3796920" y="9345240"/>
            <a:ext cx="2901960" cy="4906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8194FBA-3A1D-472A-B161-64B44D916F2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85F2BF1-61C5-4B64-9AD4-3DA61F6CEAEC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CDFEF1B-2E91-464B-8812-822D662A9DA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0CD7E84-4571-47EB-9F43-CB61CF3492C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16C7C5C-EC58-4421-A3ED-BC51232981B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43C7465-89FB-4CF7-A268-6CC3CE8E723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94345C3-3F85-43B2-A78A-E6D0F748FDA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D257264-21BB-4D66-8D7B-6A4074AF2B02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73CDABB-8225-4CBF-B1D9-8C28C04FB4F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D4E3411-8CEB-441B-8D70-F763254B90F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ED0A11D-5F54-4F98-8849-3B95ADC5C3E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0461EFC-B100-4335-AED1-64D7175E0D02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F4C1EE5-2426-45C9-9820-B6D19FBCF97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A644615-B548-43EE-B794-769DA9DF1CB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7952F0A-E223-4D1C-9C61-954FA9C1771B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BEFA930-3D27-444A-8F99-8B9DFB6A29B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8F5D2A5-E66B-4527-8E0A-B5E3E9DAC6B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ED906BF-80F0-4B8B-96A7-0B4DB5968ABB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0322148-5A67-495D-8C99-B5E63832C97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F1FA90A-C428-465A-A2B5-DBC763648D6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A741CCB-AD8A-4D61-A891-83062CD24C5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892080" y="738360"/>
            <a:ext cx="4915080" cy="36874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69600" y="4672080"/>
            <a:ext cx="5359320" cy="4425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ierro, se refina con carbono, es encontrado con muchas impurezas, dificil encontrarlo en estado pu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licio, se encuentra como silice, y se ref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 muy utilizado en la electron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6700A47-1571-4982-9F7E-F72BB2498A5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5838D98-C305-4EA3-B1A1-32535D7A8C2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2096CB3-4905-48C1-B072-0A295FF05D3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892080" y="738360"/>
            <a:ext cx="4915080" cy="36874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69600" y="4672080"/>
            <a:ext cx="5359320" cy="4425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o es todo gracias al sil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mo tiene alta resistividad  disminuye las corrientes parasitari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mo  reduce las perdias, esto ayuda a  que  sea requerido porque  de  este modo se reducen los tamaños en los equi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Y como tiene  baja oxidacion  tambien le aumenta la vida util a es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92080" y="738360"/>
            <a:ext cx="4915080" cy="36874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9600" y="4672080"/>
            <a:ext cx="5359320" cy="4425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 la aceria se elimina el azufre del acero, este es retenido en la esc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vertidores de oxige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 esta fase se refina el arrabio inyectando oxígeno de alta pureza, se ajusta el contenido de carbono y se agregan ferroaleaciones que aportan las características básicas de cada tipo de acer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spues viene la etapa de laminación, la cual es primero   en planch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y luego  viene laminacion en frio, este es un proceso mas mecánico,  por lo queno se  usa en planchas de mas de 4mm de espe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AF6B3E0-6F8C-4BC4-814F-3B9F73971E2F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6BC843F-82CD-49AC-B9A6-0B0DED690783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756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6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07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756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6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03200" y="229680"/>
            <a:ext cx="59450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756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86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07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756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86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03200" y="229680"/>
            <a:ext cx="59450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4756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6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07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4756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6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03200" y="229680"/>
            <a:ext cx="59450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4756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86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07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4756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86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03200" y="229680"/>
            <a:ext cx="59450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0" y="1003320"/>
            <a:ext cx="9144000" cy="5346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" descr="Hintergrund"/>
          <p:cNvPicPr/>
          <p:nvPr/>
        </p:nvPicPr>
        <p:blipFill>
          <a:blip r:embed="rId2"/>
          <a:srcRect l="0" t="0" r="0" b="92574"/>
          <a:stretch/>
        </p:blipFill>
        <p:spPr>
          <a:xfrm>
            <a:off x="0" y="6362640"/>
            <a:ext cx="9144000" cy="50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52400" indent="-18900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61920" indent="-20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804528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6AF424A1-4857-4674-ABE9-533FBD00E994}" type="slidenum"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schatten"/>
          <p:cNvPicPr/>
          <p:nvPr/>
        </p:nvPicPr>
        <p:blipFill>
          <a:blip r:embed="rId3">
            <a:lum bright="36000"/>
          </a:blip>
          <a:stretch/>
        </p:blipFill>
        <p:spPr>
          <a:xfrm>
            <a:off x="0" y="6243480"/>
            <a:ext cx="9144000" cy="1209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2"/>
          <p:cNvSpPr/>
          <p:nvPr/>
        </p:nvSpPr>
        <p:spPr>
          <a:xfrm>
            <a:off x="1876320" y="6464160"/>
            <a:ext cx="5376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ere comes your foo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8" descr="PP small"/>
          <p:cNvPicPr/>
          <p:nvPr/>
        </p:nvPicPr>
        <p:blipFill>
          <a:blip r:embed="rId4"/>
          <a:srcRect l="0" t="0" r="0" b="34534"/>
          <a:stretch/>
        </p:blipFill>
        <p:spPr>
          <a:xfrm>
            <a:off x="6603840" y="380880"/>
            <a:ext cx="2267280" cy="2844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9" descr="PP small"/>
          <p:cNvPicPr/>
          <p:nvPr/>
        </p:nvPicPr>
        <p:blipFill>
          <a:blip r:embed="rId5"/>
          <a:srcRect l="0" t="0" r="0" b="34534"/>
          <a:stretch/>
        </p:blipFill>
        <p:spPr>
          <a:xfrm>
            <a:off x="152280" y="6459480"/>
            <a:ext cx="2419560" cy="303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1003320"/>
            <a:ext cx="9144000" cy="5346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Hintergrund"/>
          <p:cNvPicPr/>
          <p:nvPr/>
        </p:nvPicPr>
        <p:blipFill>
          <a:blip r:embed="rId2"/>
          <a:srcRect l="0" t="0" r="0" b="92574"/>
          <a:stretch/>
        </p:blipFill>
        <p:spPr>
          <a:xfrm>
            <a:off x="0" y="6362640"/>
            <a:ext cx="9144000" cy="5097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52400" indent="-18900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61920" indent="-20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804528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FF9E9504-6E44-4C57-9246-026F2A6F1695}" type="slidenum"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schatten"/>
          <p:cNvPicPr/>
          <p:nvPr/>
        </p:nvPicPr>
        <p:blipFill>
          <a:blip r:embed="rId3">
            <a:lum bright="36000"/>
          </a:blip>
          <a:stretch/>
        </p:blipFill>
        <p:spPr>
          <a:xfrm>
            <a:off x="0" y="6243480"/>
            <a:ext cx="9144000" cy="1209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1876320" y="6464160"/>
            <a:ext cx="5376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PP small"/>
          <p:cNvPicPr/>
          <p:nvPr/>
        </p:nvPicPr>
        <p:blipFill>
          <a:blip r:embed="rId4"/>
          <a:srcRect l="0" t="0" r="0" b="34534"/>
          <a:stretch/>
        </p:blipFill>
        <p:spPr>
          <a:xfrm>
            <a:off x="6603840" y="380880"/>
            <a:ext cx="2267280" cy="284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PP small"/>
          <p:cNvPicPr/>
          <p:nvPr/>
        </p:nvPicPr>
        <p:blipFill>
          <a:blip r:embed="rId5"/>
          <a:srcRect l="0" t="0" r="0" b="34534"/>
          <a:stretch/>
        </p:blipFill>
        <p:spPr>
          <a:xfrm>
            <a:off x="152280" y="6459480"/>
            <a:ext cx="2419560" cy="303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intergr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Himmel2"/>
          <p:cNvPicPr/>
          <p:nvPr/>
        </p:nvPicPr>
        <p:blipFill>
          <a:blip r:embed="rId3"/>
          <a:stretch/>
        </p:blipFill>
        <p:spPr>
          <a:xfrm>
            <a:off x="0" y="3765600"/>
            <a:ext cx="9144000" cy="2114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schatten"/>
          <p:cNvPicPr/>
          <p:nvPr/>
        </p:nvPicPr>
        <p:blipFill>
          <a:blip r:embed="rId4"/>
          <a:stretch/>
        </p:blipFill>
        <p:spPr>
          <a:xfrm>
            <a:off x="0" y="3765600"/>
            <a:ext cx="9144000" cy="120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PP small"/>
          <p:cNvPicPr/>
          <p:nvPr/>
        </p:nvPicPr>
        <p:blipFill>
          <a:blip r:embed="rId5"/>
          <a:srcRect l="0" t="0" r="0" b="34534"/>
          <a:stretch/>
        </p:blipFill>
        <p:spPr>
          <a:xfrm>
            <a:off x="6432480" y="6191280"/>
            <a:ext cx="2419560" cy="3031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52400" indent="-18900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61920" indent="-20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Hintergr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Himmel2"/>
          <p:cNvPicPr/>
          <p:nvPr/>
        </p:nvPicPr>
        <p:blipFill>
          <a:blip r:embed="rId3"/>
          <a:stretch/>
        </p:blipFill>
        <p:spPr>
          <a:xfrm>
            <a:off x="0" y="3765600"/>
            <a:ext cx="9144000" cy="2114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schatten"/>
          <p:cNvPicPr/>
          <p:nvPr/>
        </p:nvPicPr>
        <p:blipFill>
          <a:blip r:embed="rId4"/>
          <a:stretch/>
        </p:blipFill>
        <p:spPr>
          <a:xfrm>
            <a:off x="0" y="3765600"/>
            <a:ext cx="9144000" cy="120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PP small"/>
          <p:cNvPicPr/>
          <p:nvPr/>
        </p:nvPicPr>
        <p:blipFill>
          <a:blip r:embed="rId5"/>
          <a:srcRect l="0" t="0" r="0" b="34534"/>
          <a:stretch/>
        </p:blipFill>
        <p:spPr>
          <a:xfrm>
            <a:off x="6432480" y="6191280"/>
            <a:ext cx="2419560" cy="3031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52400" indent="-18900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61920" indent="-20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resentationpoint.de/" TargetMode="External"/><Relationship Id="rId3" Type="http://schemas.openxmlformats.org/officeDocument/2006/relationships/hyperlink" Target="http://www.ppt-vorlagen.de/" TargetMode="External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27200" y="126000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Cambria"/>
              </a:rPr>
              <a:t>Acero Silicoso de Grano Orientad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726840" y="2571480"/>
            <a:ext cx="6764040" cy="77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Felipe Larra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Paula Maldo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5978520" y="5999040"/>
            <a:ext cx="2932200" cy="773280"/>
          </a:xfrm>
          <a:prstGeom prst="rect">
            <a:avLst/>
          </a:pr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L57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aller de Diseño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racterísticas Mecá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20840" y="2514240"/>
            <a:ext cx="4494240" cy="3543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longación [%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reza [Rockwell B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unto de Deformación Plástica [N/mm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sistencia a la Tracción [N/mm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94949"/>
                </a:solidFill>
                <a:latin typeface="Arial"/>
              </a:rPr>
              <a:t>Tolerancias [mm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94949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8 Imagen" descr="crno-20electrical-20laminations_10564775.jpg"/>
          <p:cNvPicPr/>
          <p:nvPr/>
        </p:nvPicPr>
        <p:blipFill>
          <a:blip r:embed="rId1"/>
          <a:stretch/>
        </p:blipFill>
        <p:spPr>
          <a:xfrm>
            <a:off x="5176800" y="3962520"/>
            <a:ext cx="1998720" cy="1998720"/>
          </a:xfrm>
          <a:prstGeom prst="rect">
            <a:avLst/>
          </a:prstGeom>
          <a:ln w="0">
            <a:noFill/>
          </a:ln>
        </p:spPr>
      </p:pic>
      <p:pic>
        <p:nvPicPr>
          <p:cNvPr id="240" name="13 Imagen" descr="Wound_Cores.jpg"/>
          <p:cNvPicPr/>
          <p:nvPr/>
        </p:nvPicPr>
        <p:blipFill>
          <a:blip r:embed="rId2"/>
          <a:stretch/>
        </p:blipFill>
        <p:spPr>
          <a:xfrm>
            <a:off x="7023240" y="4165560"/>
            <a:ext cx="1587240" cy="1587600"/>
          </a:xfrm>
          <a:prstGeom prst="rect">
            <a:avLst/>
          </a:prstGeom>
          <a:ln w="0">
            <a:noFill/>
          </a:ln>
        </p:spPr>
      </p:pic>
      <p:pic>
        <p:nvPicPr>
          <p:cNvPr id="241" name="15 Imagen" descr="Pad_Printing_Steel_Plate.jpg"/>
          <p:cNvPicPr/>
          <p:nvPr/>
        </p:nvPicPr>
        <p:blipFill>
          <a:blip r:embed="rId3"/>
          <a:stretch/>
        </p:blipFill>
        <p:spPr>
          <a:xfrm>
            <a:off x="6832440" y="2717640"/>
            <a:ext cx="1986120" cy="1489320"/>
          </a:xfrm>
          <a:prstGeom prst="rect">
            <a:avLst/>
          </a:prstGeom>
          <a:ln w="0">
            <a:noFill/>
          </a:ln>
        </p:spPr>
      </p:pic>
      <p:pic>
        <p:nvPicPr>
          <p:cNvPr id="242" name="16 Imagen" descr="2008070310383373499.gif"/>
          <p:cNvPicPr/>
          <p:nvPr/>
        </p:nvPicPr>
        <p:blipFill>
          <a:blip r:embed="rId4"/>
          <a:stretch/>
        </p:blipFill>
        <p:spPr>
          <a:xfrm>
            <a:off x="5429160" y="2540160"/>
            <a:ext cx="1441440" cy="1441440"/>
          </a:xfrm>
          <a:prstGeom prst="rect">
            <a:avLst/>
          </a:prstGeom>
          <a:ln w="0">
            <a:noFill/>
          </a:ln>
        </p:spPr>
      </p:pic>
      <p:sp>
        <p:nvSpPr>
          <p:cNvPr id="243" name="10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083ECC51-F613-4630-A76D-273ED70CD175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racterísticas Mecá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14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B5535534-6237-4FD9-93F6-187C0867E4FC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1" descr=""/>
          <p:cNvPicPr/>
          <p:nvPr/>
        </p:nvPicPr>
        <p:blipFill>
          <a:blip r:embed="rId1"/>
          <a:stretch/>
        </p:blipFill>
        <p:spPr>
          <a:xfrm>
            <a:off x="1157400" y="2898720"/>
            <a:ext cx="6914880" cy="2629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racterísticas Mecá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10 Imagen" descr="Dibujo.jpg"/>
          <p:cNvPicPr/>
          <p:nvPr/>
        </p:nvPicPr>
        <p:blipFill>
          <a:blip r:embed="rId1"/>
          <a:stretch/>
        </p:blipFill>
        <p:spPr>
          <a:xfrm>
            <a:off x="1197000" y="2616120"/>
            <a:ext cx="2130480" cy="3505320"/>
          </a:xfrm>
          <a:prstGeom prst="rect">
            <a:avLst/>
          </a:prstGeom>
          <a:ln w="0">
            <a:noFill/>
          </a:ln>
        </p:spPr>
      </p:pic>
      <p:pic>
        <p:nvPicPr>
          <p:cNvPr id="257" name="12 Imagen" descr="tabla2.jpg"/>
          <p:cNvPicPr/>
          <p:nvPr/>
        </p:nvPicPr>
        <p:blipFill>
          <a:blip r:embed="rId2"/>
          <a:stretch/>
        </p:blipFill>
        <p:spPr>
          <a:xfrm>
            <a:off x="4014720" y="2552760"/>
            <a:ext cx="3673440" cy="3657600"/>
          </a:xfrm>
          <a:prstGeom prst="rect">
            <a:avLst/>
          </a:prstGeom>
          <a:ln w="0">
            <a:noFill/>
          </a:ln>
        </p:spPr>
      </p:pic>
      <p:sp>
        <p:nvSpPr>
          <p:cNvPr id="258" name="14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A66F4983-EF92-414B-81EA-958F196BAE89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racterísticas Eléctricas &amp; Aspectos 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20480" y="2514240"/>
            <a:ext cx="8304120" cy="3543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 algn="just">
              <a:lnSpc>
                <a:spcPct val="150000"/>
              </a:lnSpc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érdidas en el Núcleo, [W/lb] o [W/K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 uniformidad en la especificación, producción y compra venta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l acero eléctrico es primariamente identificado por sus pérdidas en el núcle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merican Iron and Steel Institu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AISI) asignó como nomenclatura, ahora internacionalmente aceptada, la M – x, donde M refiere a “magnético” y x indica numéricamente el grado de pérdidas; mientras menor sea el número, menores las pérdi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11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1B34FF53-B7D8-4A1B-BC7A-F9E15FFDFADF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racterísticas Eléctricas &amp; Aspectos 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20840" y="2514240"/>
            <a:ext cx="420192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 algn="just">
              <a:lnSpc>
                <a:spcPct val="150000"/>
              </a:lnSpc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érdidas en el Núcleo, [W/lb] o [W/K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enden de la magnitud y frecuencia del campo magnético, y agrupa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érdidas por Histér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érdidas de Foucault o por corrientes parási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érdidas por Conducción, (resistencia interlamin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8 Imagen" descr="BHCurve.gif"/>
          <p:cNvPicPr/>
          <p:nvPr/>
        </p:nvPicPr>
        <p:blipFill>
          <a:blip r:embed="rId1"/>
          <a:stretch/>
        </p:blipFill>
        <p:spPr>
          <a:xfrm>
            <a:off x="5448240" y="3949560"/>
            <a:ext cx="3299040" cy="2133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6070680" y="2519280"/>
            <a:ext cx="2127240" cy="1316160"/>
          </a:xfrm>
          <a:prstGeom prst="rect">
            <a:avLst/>
          </a:prstGeom>
          <a:ln w="0">
            <a:noFill/>
          </a:ln>
        </p:spPr>
      </p:pic>
      <p:sp>
        <p:nvSpPr>
          <p:cNvPr id="274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8F2402BC-38C6-4C0F-A7B0-749D25CC7D52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racterísticas Eléctricas &amp; Aspectos 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20840" y="2514240"/>
            <a:ext cx="420192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 algn="just">
              <a:lnSpc>
                <a:spcPct val="150000"/>
              </a:lnSpc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érdidas en el Núcleo, [W/lb] o [W/K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enden de la magnitud y frecuencia del campo magnético, y agrupa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érdidas por Histér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érdidas de Foucault o por corrientes parási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érdidas por Conducción, (resistencia interlamin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6 Imagen" descr="400px-B-H_loop.png"/>
          <p:cNvPicPr/>
          <p:nvPr/>
        </p:nvPicPr>
        <p:blipFill>
          <a:blip r:embed="rId1"/>
          <a:stretch/>
        </p:blipFill>
        <p:spPr>
          <a:xfrm>
            <a:off x="5319720" y="3936960"/>
            <a:ext cx="3379680" cy="20368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6070680" y="2519280"/>
            <a:ext cx="2127240" cy="1316160"/>
          </a:xfrm>
          <a:prstGeom prst="rect">
            <a:avLst/>
          </a:prstGeom>
          <a:ln w="0">
            <a:noFill/>
          </a:ln>
        </p:spPr>
      </p:pic>
      <p:sp>
        <p:nvSpPr>
          <p:cNvPr id="283" name="11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C8F5CCDE-3E51-43CC-A286-928DE94EBFC6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racterísticas Eléctricas &amp; Aspectos 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11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EAB1D5AB-9B96-43E0-813B-3A769B3B8099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1"/>
          <a:stretch/>
        </p:blipFill>
        <p:spPr>
          <a:xfrm>
            <a:off x="1374840" y="2598840"/>
            <a:ext cx="6389640" cy="3463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racterísticas Eléctricas &amp; Aspectos 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420480" y="2514600"/>
            <a:ext cx="4383000" cy="3726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 algn="just">
              <a:lnSpc>
                <a:spcPct val="150000"/>
              </a:lnSpc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slación de la Superficie, Recubr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 agrega pues permi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minuir corrientes parási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mentar resistencia interlamin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mentar resistencia al ca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mentar resistencia a la corro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jorar “Punchability” (menos nudos y más vida útil para el materi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5727600" y="2590920"/>
            <a:ext cx="2222640" cy="3409920"/>
          </a:xfrm>
          <a:prstGeom prst="rect">
            <a:avLst/>
          </a:prstGeom>
          <a:ln w="0">
            <a:noFill/>
          </a:ln>
        </p:spPr>
      </p:pic>
      <p:sp>
        <p:nvSpPr>
          <p:cNvPr id="298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11EFCC53-426A-40E1-A1A5-124D27354929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racterísticas Eléctricas &amp; Aspectos 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20480" y="2514600"/>
            <a:ext cx="8389800" cy="3726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 algn="just">
              <a:lnSpc>
                <a:spcPct val="150000"/>
              </a:lnSpc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as Típicas de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diseño de equipos de potencia que utilicen este material requiere información acerca del comportamiento electromagnético en diversas situaciones de oper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 fabricantes detallan diferentes curvas como resultado de las pruebas sobre los materiales producid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BEA4D8D4-8AE2-401B-A28D-9BA56E82FACF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racterísticas Eléctricas &amp; Aspectos 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20480" y="2514600"/>
            <a:ext cx="8389800" cy="3726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 algn="just">
              <a:lnSpc>
                <a:spcPct val="150000"/>
              </a:lnSpc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as Típicas de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principales curvas son: (con ancho, densidad de material y frecuencia eléctrica fijas; las unidades varían de acuerdo a las convenciones loca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Peak de Inducción v/s Potencia de excitación (RMS), B[T] v/s [VA/Kg]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Pérdidas de Potencia v/s Peak de Inducción (P[Watt/Kg] v/s B [T]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 algn="just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Magnetización (B[T] v/s H[A/m]), detallando permeabilidad y ciclo de histéres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0" algn="just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veces se detallan curvas para frecuencias más altas, pero esto es menos comú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 algn="just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FBB7A04E-FD83-4C11-BAF3-0643F8A7B273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Espace réservé du contenu 2"/>
          <p:cNvSpPr/>
          <p:nvPr/>
        </p:nvSpPr>
        <p:spPr>
          <a:xfrm>
            <a:off x="871560" y="1876320"/>
            <a:ext cx="72705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114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4040"/>
                </a:solidFill>
                <a:latin typeface="Calibri"/>
              </a:rPr>
              <a:t>Orígenes del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114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4040"/>
                </a:solidFill>
                <a:latin typeface="Calibri"/>
              </a:rPr>
              <a:t>Propiedades del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114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4040"/>
                </a:solidFill>
                <a:latin typeface="Calibri"/>
              </a:rPr>
              <a:t>Proceso de 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114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4040"/>
                </a:solidFill>
                <a:latin typeface="Calibri"/>
              </a:rPr>
              <a:t>Productos Directos &amp; Aplicaciones Típ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SzPct val="114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4040"/>
                </a:solidFill>
                <a:latin typeface="Calibri"/>
              </a:rPr>
              <a:t>Proceso de Venta &amp; Estructura del Provee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4CA21C0A-D3B6-4D09-A00A-DDA29D1BDE65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316080" y="142920"/>
            <a:ext cx="56196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dice de Mate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217440" y="1049040"/>
            <a:ext cx="423864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emplo: Acero Unisil 27H074 AISI 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29943DEC-E00A-4061-84BC-12FCA5D3881F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rcRect l="26548" t="0" r="26787" b="0"/>
          <a:stretch/>
        </p:blipFill>
        <p:spPr>
          <a:xfrm>
            <a:off x="973080" y="1598760"/>
            <a:ext cx="3483000" cy="4663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"/>
          <p:cNvPicPr/>
          <p:nvPr/>
        </p:nvPicPr>
        <p:blipFill>
          <a:blip r:embed="rId2"/>
          <a:srcRect l="27227" t="0" r="26885" b="0"/>
          <a:stretch/>
        </p:blipFill>
        <p:spPr>
          <a:xfrm>
            <a:off x="4572000" y="1596960"/>
            <a:ext cx="3421080" cy="465948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13"/>
          <p:cNvSpPr/>
          <p:nvPr/>
        </p:nvSpPr>
        <p:spPr>
          <a:xfrm>
            <a:off x="5630760" y="4910040"/>
            <a:ext cx="2149560" cy="590760"/>
          </a:xfrm>
          <a:prstGeom prst="rect">
            <a:avLst/>
          </a:prstGeom>
          <a:noFill/>
          <a:ln w="9360">
            <a:solidFill>
              <a:srgbClr val="6e6e6e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 algn="ctr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otencia de Excitación v/s Peak de Induc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3"/>
          <p:cNvSpPr/>
          <p:nvPr/>
        </p:nvSpPr>
        <p:spPr>
          <a:xfrm>
            <a:off x="1995480" y="4902120"/>
            <a:ext cx="2147760" cy="592200"/>
          </a:xfrm>
          <a:prstGeom prst="rect">
            <a:avLst/>
          </a:prstGeom>
          <a:noFill/>
          <a:ln w="9360">
            <a:solidFill>
              <a:srgbClr val="6e6e6e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 algn="ctr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érdidas en el Núcleo v/s Peak de Induc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217440" y="1049040"/>
            <a:ext cx="423864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emplo: Acero Unisil 27H074 AISI 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CB9F2836-AC08-4AE1-9594-52B33CFA3E48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1"/>
          <a:srcRect l="8214" t="0" r="8333" b="0"/>
          <a:stretch/>
        </p:blipFill>
        <p:spPr>
          <a:xfrm>
            <a:off x="1393920" y="1569960"/>
            <a:ext cx="6197400" cy="464184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3"/>
          <p:cNvSpPr/>
          <p:nvPr/>
        </p:nvSpPr>
        <p:spPr>
          <a:xfrm>
            <a:off x="2133720" y="5186520"/>
            <a:ext cx="2423880" cy="576000"/>
          </a:xfrm>
          <a:prstGeom prst="rect">
            <a:avLst/>
          </a:prstGeom>
          <a:noFill/>
          <a:ln w="9360">
            <a:solidFill>
              <a:srgbClr val="6e6e6e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 algn="ctr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eak de Inducción v/s Peak de Intensidad de Campo Magnéti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217440" y="1049040"/>
            <a:ext cx="423864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emplo: AISI M4, M5 y M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D6B24227-755C-4518-AAE1-825A2D658147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" descr=""/>
          <p:cNvPicPr/>
          <p:nvPr/>
        </p:nvPicPr>
        <p:blipFill>
          <a:blip r:embed="rId1"/>
          <a:stretch/>
        </p:blipFill>
        <p:spPr>
          <a:xfrm>
            <a:off x="380880" y="1836720"/>
            <a:ext cx="3289320" cy="35989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"/>
          <p:cNvPicPr/>
          <p:nvPr/>
        </p:nvPicPr>
        <p:blipFill>
          <a:blip r:embed="rId2"/>
          <a:stretch/>
        </p:blipFill>
        <p:spPr>
          <a:xfrm>
            <a:off x="3772080" y="1839960"/>
            <a:ext cx="5052960" cy="361008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13"/>
          <p:cNvSpPr/>
          <p:nvPr/>
        </p:nvSpPr>
        <p:spPr>
          <a:xfrm>
            <a:off x="3759120" y="5460840"/>
            <a:ext cx="5051520" cy="373320"/>
          </a:xfrm>
          <a:prstGeom prst="rect">
            <a:avLst/>
          </a:prstGeom>
          <a:noFill/>
          <a:ln w="9360">
            <a:solidFill>
              <a:srgbClr val="6e6e6e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 algn="ctr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eak de Inducción v/s Peak de Intensidad de Campo Magnéti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3"/>
          <p:cNvSpPr/>
          <p:nvPr/>
        </p:nvSpPr>
        <p:spPr>
          <a:xfrm>
            <a:off x="384120" y="5454720"/>
            <a:ext cx="3287880" cy="379440"/>
          </a:xfrm>
          <a:prstGeom prst="rect">
            <a:avLst/>
          </a:prstGeom>
          <a:noFill/>
          <a:ln w="9360">
            <a:solidFill>
              <a:srgbClr val="6e6e6e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 algn="ctr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érdidas en el Núcleo v/s Peak de Induc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217080" y="1049040"/>
            <a:ext cx="600876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emplo: JIS 20JNHF1300; caso de curvas en frecu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4847ABBB-E900-4F33-9A6D-8C2AF9503704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1"/>
          <a:stretch/>
        </p:blipFill>
        <p:spPr>
          <a:xfrm>
            <a:off x="2120760" y="1806480"/>
            <a:ext cx="5050080" cy="326412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13"/>
          <p:cNvSpPr/>
          <p:nvPr/>
        </p:nvSpPr>
        <p:spPr>
          <a:xfrm>
            <a:off x="2801880" y="5192640"/>
            <a:ext cx="3773520" cy="627120"/>
          </a:xfrm>
          <a:prstGeom prst="rect">
            <a:avLst/>
          </a:prstGeom>
          <a:noFill/>
          <a:ln w="9360">
            <a:solidFill>
              <a:srgbClr val="6e6e6e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eak de Inducción v/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érdidas en el Núcleo para diferen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cuencias eléctricas de ope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9"/>
          <p:cNvSpPr/>
          <p:nvPr/>
        </p:nvSpPr>
        <p:spPr>
          <a:xfrm>
            <a:off x="4552920" y="1930320"/>
            <a:ext cx="4222800" cy="43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A frecuencia utilitaria o mayores,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manteniendo la dirección del campo magnético fija 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y variando únicamente el sentido se recomienda utilizar el material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d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De Distrib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De Po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De Au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Amplificadores Magné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Reguladores de Volt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Televisores y Otros Electrodomés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403200" y="1125360"/>
            <a:ext cx="818208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plicaciones Típ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áquinas Está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10 Imagen" descr="SDC10560.JPG"/>
          <p:cNvPicPr/>
          <p:nvPr/>
        </p:nvPicPr>
        <p:blipFill>
          <a:blip r:embed="rId1"/>
          <a:stretch/>
        </p:blipFill>
        <p:spPr>
          <a:xfrm>
            <a:off x="458640" y="2082960"/>
            <a:ext cx="3781440" cy="2836800"/>
          </a:xfrm>
          <a:prstGeom prst="rect">
            <a:avLst/>
          </a:prstGeom>
          <a:ln w="0">
            <a:noFill/>
          </a:ln>
        </p:spPr>
      </p:pic>
      <p:pic>
        <p:nvPicPr>
          <p:cNvPr id="351" name="7 Imagen" descr="TY-141P.jpg"/>
          <p:cNvPicPr/>
          <p:nvPr/>
        </p:nvPicPr>
        <p:blipFill>
          <a:blip r:embed="rId2"/>
          <a:stretch/>
        </p:blipFill>
        <p:spPr>
          <a:xfrm>
            <a:off x="2336760" y="458460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352" name="9 Imagen" descr="S6300095a.JPG"/>
          <p:cNvPicPr/>
          <p:nvPr/>
        </p:nvPicPr>
        <p:blipFill>
          <a:blip r:embed="rId3"/>
          <a:stretch/>
        </p:blipFill>
        <p:spPr>
          <a:xfrm>
            <a:off x="839880" y="4317840"/>
            <a:ext cx="1573200" cy="1452600"/>
          </a:xfrm>
          <a:prstGeom prst="rect">
            <a:avLst/>
          </a:prstGeom>
          <a:ln w="0">
            <a:noFill/>
          </a:ln>
        </p:spPr>
      </p:pic>
      <p:sp>
        <p:nvSpPr>
          <p:cNvPr id="353" name="11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9576CD67-BF17-4522-BB8E-1AE8F2BBC304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11"/>
          <p:cNvSpPr/>
          <p:nvPr/>
        </p:nvSpPr>
        <p:spPr>
          <a:xfrm>
            <a:off x="403200" y="1241280"/>
            <a:ext cx="818208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ceso de V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veedores y Desp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395280" y="2268360"/>
            <a:ext cx="839772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50000"/>
              </a:lnSpc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incipales Provee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50000"/>
              </a:lnSpc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pa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lnSpc>
                <a:spcPct val="150000"/>
              </a:lnSpc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rmas de Empaque y Transporte &amp; Dimens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lnSpc>
                <a:spcPct val="150000"/>
              </a:lnSpc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cios y Mercado 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7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F4363E3B-3967-4216-9C96-1E1C7AAA7FF9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ceso de Vent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3"/>
          <p:cNvSpPr/>
          <p:nvPr/>
        </p:nvSpPr>
        <p:spPr>
          <a:xfrm>
            <a:off x="457200" y="2514600"/>
            <a:ext cx="38862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o exi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Luis Cárdenas Castillo</a:t>
            </a:r>
            <a:br>
              <a:rPr sz="1400"/>
            </a:b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Investigación, Desarrollo y Asistencia a Clientes</a:t>
            </a:r>
            <a:br>
              <a:rPr sz="1400"/>
            </a:b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Cía. Siderúrgica Huachipato S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C.A.P. S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4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incipales 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ceso de V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veedores &amp; Desp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3"/>
          <p:cNvSpPr/>
          <p:nvPr/>
        </p:nvSpPr>
        <p:spPr>
          <a:xfrm>
            <a:off x="4394160" y="2527200"/>
            <a:ext cx="4305240" cy="34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1" marL="647640" indent="-19044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ter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JFE Steel Corporation (Japó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hyssenKrupp Steel (Alemania, sedes en otros países de Europ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K Steel (U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190440">
              <a:lnSpc>
                <a:spcPct val="150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xisten proveedores menores en Brasil y Argentina, en Latinoamér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14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30E7D0CC-B757-43B8-8A99-08C02616FFB7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ceso de Vent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13"/>
          <p:cNvSpPr/>
          <p:nvPr/>
        </p:nvSpPr>
        <p:spPr>
          <a:xfrm>
            <a:off x="407880" y="2514600"/>
            <a:ext cx="449424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mpaque &amp; Trans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ollos Lamin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sp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ceso de V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veedores &amp; Desp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11 Imagen" descr="almacenamiento1.jpg"/>
          <p:cNvPicPr/>
          <p:nvPr/>
        </p:nvPicPr>
        <p:blipFill>
          <a:blip r:embed="rId1"/>
          <a:stretch/>
        </p:blipFill>
        <p:spPr>
          <a:xfrm>
            <a:off x="4379760" y="2514600"/>
            <a:ext cx="3997440" cy="2239920"/>
          </a:xfrm>
          <a:prstGeom prst="rect">
            <a:avLst/>
          </a:prstGeom>
          <a:ln w="0">
            <a:noFill/>
          </a:ln>
        </p:spPr>
      </p:pic>
      <p:pic>
        <p:nvPicPr>
          <p:cNvPr id="375" name="14 Imagen" descr="Header_ProduktePCLogo.jpg"/>
          <p:cNvPicPr/>
          <p:nvPr/>
        </p:nvPicPr>
        <p:blipFill>
          <a:blip r:embed="rId2"/>
          <a:stretch/>
        </p:blipFill>
        <p:spPr>
          <a:xfrm>
            <a:off x="4842000" y="4643280"/>
            <a:ext cx="3375000" cy="1338480"/>
          </a:xfrm>
          <a:prstGeom prst="rect">
            <a:avLst/>
          </a:prstGeom>
          <a:ln w="0">
            <a:noFill/>
          </a:ln>
        </p:spPr>
      </p:pic>
      <p:pic>
        <p:nvPicPr>
          <p:cNvPr id="376" name="12 Imagen" descr="CRGO-Core-Laminations_250x250.jpg"/>
          <p:cNvPicPr/>
          <p:nvPr/>
        </p:nvPicPr>
        <p:blipFill>
          <a:blip r:embed="rId3"/>
          <a:stretch/>
        </p:blipFill>
        <p:spPr>
          <a:xfrm>
            <a:off x="3086280" y="3801960"/>
            <a:ext cx="1917360" cy="1917720"/>
          </a:xfrm>
          <a:prstGeom prst="rect">
            <a:avLst/>
          </a:prstGeom>
          <a:ln w="0">
            <a:noFill/>
          </a:ln>
        </p:spPr>
      </p:pic>
      <p:sp>
        <p:nvSpPr>
          <p:cNvPr id="377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DCCB5EA7-378D-4EA3-AC7B-EDC966AE6BD6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ceso de Vent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11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3"/>
          <p:cNvSpPr/>
          <p:nvPr/>
        </p:nvSpPr>
        <p:spPr>
          <a:xfrm>
            <a:off x="407880" y="2514600"/>
            <a:ext cx="449424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mpaque &amp; Trans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minado Pl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sp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13 Imagen" descr="0,0,422,17088,590,512,54d260fd.jpg"/>
          <p:cNvPicPr/>
          <p:nvPr/>
        </p:nvPicPr>
        <p:blipFill>
          <a:blip r:embed="rId1"/>
          <a:stretch/>
        </p:blipFill>
        <p:spPr>
          <a:xfrm>
            <a:off x="4330800" y="2576520"/>
            <a:ext cx="4013280" cy="3483000"/>
          </a:xfrm>
          <a:prstGeom prst="rect">
            <a:avLst/>
          </a:prstGeom>
          <a:ln w="0">
            <a:noFill/>
          </a:ln>
        </p:spPr>
      </p:pic>
      <p:pic>
        <p:nvPicPr>
          <p:cNvPr id="384" name="15 Imagen" descr="Steel_Plate.jpg"/>
          <p:cNvPicPr/>
          <p:nvPr/>
        </p:nvPicPr>
        <p:blipFill>
          <a:blip r:embed="rId2"/>
          <a:stretch/>
        </p:blipFill>
        <p:spPr>
          <a:xfrm>
            <a:off x="2463840" y="3683160"/>
            <a:ext cx="2108160" cy="2108160"/>
          </a:xfrm>
          <a:prstGeom prst="rect">
            <a:avLst/>
          </a:prstGeom>
          <a:ln w="0">
            <a:noFill/>
          </a:ln>
        </p:spPr>
      </p:pic>
      <p:sp>
        <p:nvSpPr>
          <p:cNvPr id="385" name="16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ceso de V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veedores &amp; Desp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A1A76852-5C6E-4ECB-91BE-65525E1844D2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ceso de Vent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3"/>
          <p:cNvSpPr/>
          <p:nvPr/>
        </p:nvSpPr>
        <p:spPr>
          <a:xfrm>
            <a:off x="407880" y="2514600"/>
            <a:ext cx="491832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men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 algn="just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Espesor no superior a 0.025‘‘ o 64[mm],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ues en AC las pérdidas por Foucault crecen aprox. con el cuadrado del espesor (en gral. no superan la mitad de este valor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 algn="just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ámetro Interio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508 [mm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 algn="just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ámetro Exterio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880 – 1380[mm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 algn="just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cho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100 – 1000 [mm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 algn="just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cho proteccione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&gt; 6[mm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 algn="just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sp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16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ceso de V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veedores &amp; Desp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A20E4ACF-846E-41C6-9299-C332B2C062F1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ceso de Vent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3" descr=""/>
          <p:cNvPicPr/>
          <p:nvPr/>
        </p:nvPicPr>
        <p:blipFill>
          <a:blip r:embed="rId1"/>
          <a:stretch/>
        </p:blipFill>
        <p:spPr>
          <a:xfrm>
            <a:off x="5545080" y="2557440"/>
            <a:ext cx="3257640" cy="14907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"/>
          <p:cNvPicPr/>
          <p:nvPr/>
        </p:nvPicPr>
        <p:blipFill>
          <a:blip r:embed="rId2"/>
          <a:stretch/>
        </p:blipFill>
        <p:spPr>
          <a:xfrm>
            <a:off x="6075360" y="4164120"/>
            <a:ext cx="223848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94920" y="1916280"/>
            <a:ext cx="82580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404040"/>
                </a:solidFill>
                <a:uFillTx/>
                <a:latin typeface="Arial"/>
              </a:rPr>
              <a:t>Materias prim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Hierr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Elemento abundante en la naturalez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Necesita ser refin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Elemento Ferromagne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Dúctil y male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Silic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Semicond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No existe en estado lib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9B25E3F9-A63A-40B4-987C-AEAD713C47D7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16080" y="142920"/>
            <a:ext cx="56196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rígen del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3"/>
          <p:cNvSpPr/>
          <p:nvPr/>
        </p:nvSpPr>
        <p:spPr>
          <a:xfrm>
            <a:off x="407880" y="2514600"/>
            <a:ext cx="840276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ecio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4,500 – 5,500 [USD/ton] (según estadísticas empresas internas, Rhona, Tus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sumen Importaciones Chile (datos según Aduana, datos CI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009 a la fech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6,972,244 US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9,323,345 US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9,424,673 U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paración Grandes Empresas nivel mund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8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yssenKrupp Steel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Sales: 10,747,000,000 [Eur] = 15,045,800,000 [US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*CIF: Costo lugar de orígen +Seguro + Traslado al Destin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ecios &amp; Mercado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16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ceso de V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veedores &amp; Desp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2 Marcador de pie de página"/>
          <p:cNvSpPr/>
          <p:nvPr/>
        </p:nvSpPr>
        <p:spPr>
          <a:xfrm>
            <a:off x="790092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8BFD78F3-D08E-4E25-BB43-985A2E8F6094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ceso de Vent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3 Marcador de pie de página"/>
          <p:cNvSpPr/>
          <p:nvPr/>
        </p:nvSpPr>
        <p:spPr>
          <a:xfrm>
            <a:off x="804528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BD5BA7A-9628-469F-8F11-6995311679CC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4" descr="Hintergrund"/>
          <p:cNvPicPr/>
          <p:nvPr/>
        </p:nvPicPr>
        <p:blipFill>
          <a:blip r:embed="rId1"/>
          <a:srcRect l="0" t="0" r="0" b="7219"/>
          <a:stretch/>
        </p:blipFill>
        <p:spPr>
          <a:xfrm>
            <a:off x="0" y="0"/>
            <a:ext cx="9144000" cy="63644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schatten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0" y="6243480"/>
            <a:ext cx="9144000" cy="12096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7"/>
          <p:cNvSpPr/>
          <p:nvPr/>
        </p:nvSpPr>
        <p:spPr>
          <a:xfrm>
            <a:off x="223920" y="1919160"/>
            <a:ext cx="867708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ile representa menos del 0.06% de las ventas de ThyssenKrupp Steel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7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1 Marcador de pie de página"/>
          <p:cNvSpPr/>
          <p:nvPr/>
        </p:nvSpPr>
        <p:spPr>
          <a:xfrm>
            <a:off x="804528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FCDD7DA-437D-49D3-8D27-8DA92137873A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7" descr="Hintergr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19"/>
          <p:cNvSpPr/>
          <p:nvPr/>
        </p:nvSpPr>
        <p:spPr>
          <a:xfrm>
            <a:off x="576360" y="4727520"/>
            <a:ext cx="3943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oftware and Tools for Microsoft PowerPoi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he website with innovative solu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ave time and money by automating your presenta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22"/>
          <p:cNvSpPr/>
          <p:nvPr/>
        </p:nvSpPr>
        <p:spPr>
          <a:xfrm>
            <a:off x="676440" y="3695760"/>
            <a:ext cx="311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3">
            <a:hlinkClick r:id="rId2"/>
          </p:cNvPr>
          <p:cNvSpPr/>
          <p:nvPr/>
        </p:nvSpPr>
        <p:spPr>
          <a:xfrm>
            <a:off x="561960" y="3859200"/>
            <a:ext cx="369576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5f5f5f"/>
                </a:solidFill>
                <a:latin typeface="Calibri"/>
              </a:rPr>
              <a:t>Ingeniería Civil Eléct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5f5f5f"/>
                </a:solidFill>
                <a:latin typeface="Calibri"/>
              </a:rPr>
              <a:t>U.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5f5f5f"/>
                </a:solidFill>
                <a:latin typeface="Calibri"/>
              </a:rPr>
              <a:t>Taller de Diseño en Potencia </a:t>
            </a:r>
            <a:r>
              <a:rPr b="0" sz="1000" spc="-1" strike="noStrike">
                <a:solidFill>
                  <a:srgbClr val="5f5f5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4"/>
          <p:cNvSpPr/>
          <p:nvPr/>
        </p:nvSpPr>
        <p:spPr>
          <a:xfrm>
            <a:off x="4586400" y="1784520"/>
            <a:ext cx="394308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Autofit/>
          </a:bodyPr>
          <a:p>
            <a:pPr marL="177840" indent="-177840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esentación preparada po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Felipe Larraí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aula Maldon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Santiag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Septiembre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6">
            <a:hlinkClick r:id="rId3"/>
          </p:cNvPr>
          <p:cNvSpPr/>
          <p:nvPr/>
        </p:nvSpPr>
        <p:spPr>
          <a:xfrm>
            <a:off x="4533840" y="5100480"/>
            <a:ext cx="20671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" descr=""/>
          <p:cNvPicPr/>
          <p:nvPr/>
        </p:nvPicPr>
        <p:blipFill>
          <a:blip r:embed="rId4"/>
          <a:stretch/>
        </p:blipFill>
        <p:spPr>
          <a:xfrm>
            <a:off x="534960" y="457200"/>
            <a:ext cx="3513240" cy="2633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50920" y="1773360"/>
            <a:ext cx="832968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51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Arial"/>
              </a:rPr>
              <a:t>Gran Resis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51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jas Perdidas de Histér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51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Arial"/>
              </a:rPr>
              <a:t>Menor saturacion por Induc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51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Arial"/>
              </a:rPr>
              <a:t>Disminuye Temperatura de Cu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51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Arial"/>
              </a:rPr>
              <a:t>Baja 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51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érdida Máxima en Watt/kg, depende de orientación del gr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FEA5FB2C-9D29-46DE-A741-A0465E4128B0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316080" y="142920"/>
            <a:ext cx="56196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Propiedades del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50920" y="1844640"/>
            <a:ext cx="83296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 algn="just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Preparacion Materias Prim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Extracción del Mineral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Tratamiento del Carbon Mineraliz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Reducción del materi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Altos hornos </a:t>
            </a:r>
            <a:r>
              <a:rPr b="0" lang="es-ES_tradnl" sz="1600" spc="-1" strike="noStrike">
                <a:solidFill>
                  <a:srgbClr val="404040"/>
                </a:solidFill>
                <a:latin typeface="Arial"/>
              </a:rPr>
              <a:t>=&gt; Arrab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Arial"/>
              </a:rPr>
              <a:t>  </a:t>
            </a:r>
            <a:r>
              <a:rPr b="0" lang="es-ES_tradnl" sz="1600" spc="-1" strike="noStrike">
                <a:solidFill>
                  <a:srgbClr val="404040"/>
                </a:solidFill>
                <a:latin typeface="Arial"/>
              </a:rPr>
              <a:t>- </a:t>
            </a: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Refin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Aceria =&gt;</a:t>
            </a:r>
            <a:r>
              <a:rPr b="0" lang="fr-FR" sz="2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404040"/>
                </a:solidFill>
                <a:latin typeface="Arial"/>
              </a:rPr>
              <a:t>Inyección de Oxige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6227640" y="3357720"/>
            <a:ext cx="2152800" cy="1628640"/>
          </a:xfrm>
          <a:prstGeom prst="rect">
            <a:avLst/>
          </a:prstGeom>
          <a:ln w="0">
            <a:noFill/>
          </a:ln>
        </p:spPr>
      </p:pic>
      <p:sp>
        <p:nvSpPr>
          <p:cNvPr id="201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3FA0E144-DE2D-4A35-B8B9-A9FEF3EE35E0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316080" y="142920"/>
            <a:ext cx="56196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Proceso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"/>
          <p:cNvPicPr/>
          <p:nvPr/>
        </p:nvPicPr>
        <p:blipFill>
          <a:blip r:embed="rId1"/>
          <a:srcRect l="12382" t="18723" r="16315" b="21082"/>
          <a:stretch/>
        </p:blipFill>
        <p:spPr>
          <a:xfrm>
            <a:off x="4643280" y="2205000"/>
            <a:ext cx="4175280" cy="3338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"/>
          <p:cNvPicPr/>
          <p:nvPr/>
        </p:nvPicPr>
        <p:blipFill>
          <a:blip r:embed="rId2"/>
          <a:srcRect l="11839" t="26099" r="16917" b="15061"/>
          <a:stretch/>
        </p:blipFill>
        <p:spPr>
          <a:xfrm>
            <a:off x="250920" y="2276640"/>
            <a:ext cx="4033800" cy="3227400"/>
          </a:xfrm>
          <a:prstGeom prst="rect">
            <a:avLst/>
          </a:prstGeom>
          <a:ln w="0">
            <a:noFill/>
          </a:ln>
        </p:spPr>
      </p:pic>
      <p:sp>
        <p:nvSpPr>
          <p:cNvPr id="207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D92A0B28-02A7-488B-9CBC-D2BFAACB482C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316080" y="142920"/>
            <a:ext cx="56196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Proceso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"/>
          <p:cNvPicPr/>
          <p:nvPr/>
        </p:nvPicPr>
        <p:blipFill>
          <a:blip r:embed="rId1"/>
          <a:srcRect l="12884" t="19521" r="16020" b="17926"/>
          <a:stretch/>
        </p:blipFill>
        <p:spPr>
          <a:xfrm>
            <a:off x="755640" y="1700280"/>
            <a:ext cx="4535640" cy="3570120"/>
          </a:xfrm>
          <a:prstGeom prst="rect">
            <a:avLst/>
          </a:prstGeom>
          <a:ln w="0">
            <a:noFill/>
          </a:ln>
        </p:spPr>
      </p:pic>
      <p:sp>
        <p:nvSpPr>
          <p:cNvPr id="212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2"/>
          <a:srcRect l="10271" t="26055" r="18632" b="24530"/>
          <a:stretch/>
        </p:blipFill>
        <p:spPr>
          <a:xfrm>
            <a:off x="3564000" y="3935520"/>
            <a:ext cx="5256000" cy="2922480"/>
          </a:xfrm>
          <a:prstGeom prst="rect">
            <a:avLst/>
          </a:prstGeom>
          <a:ln w="0">
            <a:noFill/>
          </a:ln>
        </p:spPr>
      </p:pic>
      <p:sp>
        <p:nvSpPr>
          <p:cNvPr id="214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DA5FFAF7-7786-41B7-94CD-C538D92FB60A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316080" y="142920"/>
            <a:ext cx="56196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Proceso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760D5285-4491-4BD6-8D57-229EADFFA41B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4552920" y="2249640"/>
            <a:ext cx="422280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aracterísticas Mecá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aracterísticas Eléctricas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spectos 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Conjunto de características definidas bajo estricto cumplimiento de diversas especificaciones técnicas: ISO/IEC (internacional), AISI (Usa), JIS (Japón), BS (Inglaterra), DIN (Alemania), entre las princip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403200" y="1241280"/>
            <a:ext cx="818208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8 Imagen" descr="Level_Wound_Coil.jpg"/>
          <p:cNvPicPr/>
          <p:nvPr/>
        </p:nvPicPr>
        <p:blipFill>
          <a:blip r:embed="rId1"/>
          <a:stretch/>
        </p:blipFill>
        <p:spPr>
          <a:xfrm>
            <a:off x="476280" y="2247840"/>
            <a:ext cx="3892680" cy="3678120"/>
          </a:xfrm>
          <a:prstGeom prst="rect">
            <a:avLst/>
          </a:prstGeom>
          <a:ln w="0">
            <a:noFill/>
          </a:ln>
        </p:spPr>
      </p:pic>
      <p:sp>
        <p:nvSpPr>
          <p:cNvPr id="222" name="9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17 Rectángulo"/>
          <p:cNvSpPr/>
          <p:nvPr/>
        </p:nvSpPr>
        <p:spPr>
          <a:xfrm>
            <a:off x="571680" y="5067360"/>
            <a:ext cx="3022560" cy="406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bdbdb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407880" y="2514600"/>
            <a:ext cx="449424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ma y Tam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Rectangular Sim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Rectangular con Orif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 medida, Tamaño &amp; 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lnSpc>
                <a:spcPct val="150000"/>
              </a:lnSpc>
              <a:buClr>
                <a:srgbClr val="6e6e6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Combinaciones con orificios y dimensio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pesor por Lámina [mm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50000"/>
              </a:lnSpc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nsidad [g/cm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12920" y="203688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racterísticas Mecá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403200" y="1241280"/>
            <a:ext cx="5753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ct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ificación según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8 Imagen" descr="crno-20electrical-20laminations_10564775.jpg"/>
          <p:cNvPicPr/>
          <p:nvPr/>
        </p:nvPicPr>
        <p:blipFill>
          <a:blip r:embed="rId1"/>
          <a:stretch/>
        </p:blipFill>
        <p:spPr>
          <a:xfrm>
            <a:off x="5176800" y="3962520"/>
            <a:ext cx="1998720" cy="1998720"/>
          </a:xfrm>
          <a:prstGeom prst="rect">
            <a:avLst/>
          </a:prstGeom>
          <a:ln w="0">
            <a:noFill/>
          </a:ln>
        </p:spPr>
      </p:pic>
      <p:pic>
        <p:nvPicPr>
          <p:cNvPr id="229" name="13 Imagen" descr="Wound_Cores.jpg"/>
          <p:cNvPicPr/>
          <p:nvPr/>
        </p:nvPicPr>
        <p:blipFill>
          <a:blip r:embed="rId2"/>
          <a:stretch/>
        </p:blipFill>
        <p:spPr>
          <a:xfrm>
            <a:off x="7023240" y="4165560"/>
            <a:ext cx="1587240" cy="1587600"/>
          </a:xfrm>
          <a:prstGeom prst="rect">
            <a:avLst/>
          </a:prstGeom>
          <a:ln w="0">
            <a:noFill/>
          </a:ln>
        </p:spPr>
      </p:pic>
      <p:pic>
        <p:nvPicPr>
          <p:cNvPr id="230" name="15 Imagen" descr="Pad_Printing_Steel_Plate.jpg"/>
          <p:cNvPicPr/>
          <p:nvPr/>
        </p:nvPicPr>
        <p:blipFill>
          <a:blip r:embed="rId3"/>
          <a:stretch/>
        </p:blipFill>
        <p:spPr>
          <a:xfrm>
            <a:off x="6832440" y="2717640"/>
            <a:ext cx="1986120" cy="1489320"/>
          </a:xfrm>
          <a:prstGeom prst="rect">
            <a:avLst/>
          </a:prstGeom>
          <a:ln w="0">
            <a:noFill/>
          </a:ln>
        </p:spPr>
      </p:pic>
      <p:pic>
        <p:nvPicPr>
          <p:cNvPr id="231" name="16 Imagen" descr="2008070310383373499.gif"/>
          <p:cNvPicPr/>
          <p:nvPr/>
        </p:nvPicPr>
        <p:blipFill>
          <a:blip r:embed="rId4"/>
          <a:stretch/>
        </p:blipFill>
        <p:spPr>
          <a:xfrm>
            <a:off x="5429160" y="2540160"/>
            <a:ext cx="1441440" cy="1441440"/>
          </a:xfrm>
          <a:prstGeom prst="rect">
            <a:avLst/>
          </a:prstGeom>
          <a:ln w="0">
            <a:noFill/>
          </a:ln>
        </p:spPr>
      </p:pic>
      <p:sp>
        <p:nvSpPr>
          <p:cNvPr id="232" name="21 Rectángulo"/>
          <p:cNvSpPr/>
          <p:nvPr/>
        </p:nvSpPr>
        <p:spPr>
          <a:xfrm>
            <a:off x="0" y="6362640"/>
            <a:ext cx="7658280" cy="50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252525"/>
                </a:solidFill>
                <a:latin typeface="Calibri"/>
              </a:rPr>
              <a:t>Taller de Diseño en Potenci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5 Rectángulo"/>
          <p:cNvSpPr/>
          <p:nvPr/>
        </p:nvSpPr>
        <p:spPr>
          <a:xfrm>
            <a:off x="6540480" y="330120"/>
            <a:ext cx="237492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2 Marcador de pie de página"/>
          <p:cNvSpPr/>
          <p:nvPr/>
        </p:nvSpPr>
        <p:spPr>
          <a:xfrm>
            <a:off x="7972560" y="6464160"/>
            <a:ext cx="106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ágina  </a:t>
            </a:r>
            <a:fld id="{AA0FF40C-EDFF-4C05-8DA8-CF30DC2104F5}" type="slidenum">
              <a:rPr b="1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2840" y="229680"/>
            <a:ext cx="5243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cero Silicoso Grano Orientado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os Directos &amp; Aplic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6:03:16Z</dcterms:created>
  <dc:creator>PresentationPoint</dc:creator>
  <dc:description/>
  <dc:language>en-US</dc:language>
  <cp:lastModifiedBy> Alberto Botteselle Doggenweiler</cp:lastModifiedBy>
  <cp:lastPrinted>2005-03-15T07:48:11Z</cp:lastPrinted>
  <dcterms:modified xsi:type="dcterms:W3CDTF">2009-09-22T18:21:16Z</dcterms:modified>
  <cp:revision>587</cp:revision>
  <dc:subject/>
  <dc:title>Metal Silv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PPL_Language">
    <vt:r8>1031</vt:r8>
  </property>
</Properties>
</file>