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4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5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3F3BAC-4C6B-4CF3-9639-C4FF4086DC4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0CCB5D-F391-4F01-8C0A-B1B61AF4043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AA22B1-C668-4388-9878-B834F1FA666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051772-5610-46EC-8BD8-F85AEEB1EF2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5749C4-09A7-4538-A757-11690398806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98FDDC-AA6E-4A37-BF7B-CFD98C8B3D8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353A24-0C2D-42F4-86FD-BFDF59B9FE0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A84678-77E0-4A12-84A3-5364C985933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801C55-F683-4B0B-9741-33085D112B7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9ABD27-FA9D-40BC-9161-83496D62139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4C9E3AB-983A-43DE-9D9E-EE3EAF1B8E3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E4621D-877A-46C4-AA38-672D70E6D86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83DE2E-C6C7-4C90-8D34-B1DCB232C3C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C63D3F-5FD4-4653-8F2F-E48B7D70130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115703-BC69-4CA2-9053-DCE3FAFE42F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9E221F-35A1-4926-8405-C8033DB1C88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7F142C-F50E-46B4-A073-63A186688D9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C65510-7786-44EE-B8C0-9E89512B232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4FC7EF-6588-4B91-9818-B8AB106C6A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C97992-21F4-4BDC-BF89-DB25DF86ABB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4C9B81-F4F6-4424-8D92-97B06D92DE2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ierro, se refina con carbono, es encontrado con muchas impurezas, dificil encontrarlo en estado p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licio, se encuentra como silice, y se ref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utilizado en la electr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F9F6C8-3783-4AAA-BC8E-1AB8837DD8A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7DD443-7957-449C-ADC5-2ED1174FE9F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75F3DE-218F-4160-A364-FBFAB61C863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o es todo gracias al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tiene alta resistividad  disminuye las corrientes parasitari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 reduce las perdias, esto ayuda a  que  sea requerido porque  de  este modo se reducen los tamaños en los equi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como tiene  baja oxidacion  tambien le aumenta la vida util a 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la aceria se elimina el azufre del acero, este es retenido en la esc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vertidores de oxi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sta fase se refina el arrabio inyectando oxígeno de alta pureza, se ajusta el contenido de carbono y se agregan ferroaleaciones que aportan las características básicas de cada tipo de ac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pues viene la etapa de laminación, la cual es primero   en planc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luego  viene laminacion en frio, este es un proceso mas mecánico,  por lo queno se  usa en planchas de mas de 4mm de espe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236D3B-B871-47E7-9CEA-DD045D9C03E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CF471B7-140D-4103-9E57-F5568210F6D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BE6F7DFD-E641-46BF-BB48-C0D9E647C6B5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2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e comes your 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5C6F8CCE-95D1-4036-8C42-C3F6283DF3D1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point.de/" TargetMode="External"/><Relationship Id="rId3" Type="http://schemas.openxmlformats.org/officeDocument/2006/relationships/hyperlink" Target="http://www.ppt-vorlagen.de/" TargetMode="External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mbria"/>
              </a:rPr>
              <a:t>Acero Silicoso de Grano Orientad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elipe Larra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Paula Mald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978520" y="5999040"/>
            <a:ext cx="2932200" cy="77328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57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ller de Diseño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49424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ongación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eza [Rockwell 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nto de Deformación Plástica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istencia a la Tracción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Tolerancias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40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41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42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43" name="10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6E3A9F4-A6AA-41D8-B0BA-5823E28ED0D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1B295D5-7053-4A2C-AB3B-2FEABD993AE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1"/>
          <a:stretch/>
        </p:blipFill>
        <p:spPr>
          <a:xfrm>
            <a:off x="1157400" y="2898720"/>
            <a:ext cx="69148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10 Imagen" descr="Dibujo.jpg"/>
          <p:cNvPicPr/>
          <p:nvPr/>
        </p:nvPicPr>
        <p:blipFill>
          <a:blip r:embed="rId1"/>
          <a:stretch/>
        </p:blipFill>
        <p:spPr>
          <a:xfrm>
            <a:off x="1197000" y="2616120"/>
            <a:ext cx="2130480" cy="3505320"/>
          </a:xfrm>
          <a:prstGeom prst="rect">
            <a:avLst/>
          </a:prstGeom>
          <a:ln w="0">
            <a:noFill/>
          </a:ln>
        </p:spPr>
      </p:pic>
      <p:pic>
        <p:nvPicPr>
          <p:cNvPr id="257" name="12 Imagen" descr="tabla2.jpg"/>
          <p:cNvPicPr/>
          <p:nvPr/>
        </p:nvPicPr>
        <p:blipFill>
          <a:blip r:embed="rId2"/>
          <a:stretch/>
        </p:blipFill>
        <p:spPr>
          <a:xfrm>
            <a:off x="4014720" y="2552760"/>
            <a:ext cx="3673440" cy="3657600"/>
          </a:xfrm>
          <a:prstGeom prst="rect">
            <a:avLst/>
          </a:prstGeom>
          <a:ln w="0">
            <a:noFill/>
          </a:ln>
        </p:spPr>
      </p:pic>
      <p:sp>
        <p:nvSpPr>
          <p:cNvPr id="258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F79AE66-6C72-4648-BCF0-2B15C3BC626C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20480" y="2514240"/>
            <a:ext cx="830412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uniformidad en la especificación, producción y compra venta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 acero eléctrico es primariamente identificado por sus pérdidas en el núcle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Iron and Steel Instit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ISI) asignó como nomenclatura, ahora internacionalmente aceptada, la M – x, donde M refiere a “magnético” y x indica numéricamente el grado de pérdidas; mientras menor sea el número, menores las pérd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9ACDB21A-B1D8-40E9-A8E3-7757EB98B74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8 Imagen" descr="BHCurve.gif"/>
          <p:cNvPicPr/>
          <p:nvPr/>
        </p:nvPicPr>
        <p:blipFill>
          <a:blip r:embed="rId1"/>
          <a:stretch/>
        </p:blipFill>
        <p:spPr>
          <a:xfrm>
            <a:off x="5448240" y="3949560"/>
            <a:ext cx="3299040" cy="2133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74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FF0F073B-5992-40C4-9A02-9F34CB8E896D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6 Imagen" descr="400px-B-H_loop.png"/>
          <p:cNvPicPr/>
          <p:nvPr/>
        </p:nvPicPr>
        <p:blipFill>
          <a:blip r:embed="rId1"/>
          <a:stretch/>
        </p:blipFill>
        <p:spPr>
          <a:xfrm>
            <a:off x="5319720" y="3936960"/>
            <a:ext cx="3379680" cy="2036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8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A17E8C9-5FD8-442C-99E2-5366EEC2F3D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C5197BC-042F-4A43-BE5D-129CD4EBD43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374840" y="2598840"/>
            <a:ext cx="638964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4383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ción de la Superficie, Re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agrega pues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minui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interla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l c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 la corr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jorar “Punchability” (menos nudos y más vida útil para el mater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727600" y="2590920"/>
            <a:ext cx="2222640" cy="3409920"/>
          </a:xfrm>
          <a:prstGeom prst="rect">
            <a:avLst/>
          </a:prstGeom>
          <a:ln w="0">
            <a:noFill/>
          </a:ln>
        </p:spPr>
      </p:pic>
      <p:sp>
        <p:nvSpPr>
          <p:cNvPr id="298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7974B522-DF51-4F45-BF5B-9E2EE9D4B03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diseño de equipos de potencia que utilicen este material requiere información acerca del comportamiento electromagnético en diversas situaciones de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fabricantes detallan diferentes curvas como resultado de las pruebas sobre los materiales produ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2D0C90F4-F55B-4999-936C-48278D5C9D2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principales curvas son: (con ancho, densidad de material y frecuencia eléctrica fijas; las unidades varían de acuerdo a las convenciones loc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eak de Inducción v/s Potencia de excitación (RMS), B[T] v/s [VA/Kg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érdidas de Potencia v/s Peak de Inducción (P[Watt/Kg] v/s B [T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Magnetización (B[T] v/s H[A/m]), detallando permeabilidad y ciclo de histére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eces se detallan curvas para frecuencias más altas, pero esto es menos comú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300208D-367B-4BC1-B943-27888047471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contenu 2"/>
          <p:cNvSpPr/>
          <p:nvPr/>
        </p:nvSpPr>
        <p:spPr>
          <a:xfrm>
            <a:off x="871560" y="1876320"/>
            <a:ext cx="7270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Orígen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piedad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ductos Directos &amp; Aplicaciones Tí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Venta &amp; Estructura del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8D015C96-1442-48B9-A7DF-C6E9E67A15B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e de Mat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F6AF86BA-CBFC-485E-974E-8835A98764A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rcRect l="26548" t="0" r="26787" b="0"/>
          <a:stretch/>
        </p:blipFill>
        <p:spPr>
          <a:xfrm>
            <a:off x="973080" y="1598760"/>
            <a:ext cx="3483000" cy="4663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rcRect l="27227" t="0" r="26885" b="0"/>
          <a:stretch/>
        </p:blipFill>
        <p:spPr>
          <a:xfrm>
            <a:off x="4572000" y="1596960"/>
            <a:ext cx="3421080" cy="4659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5630760" y="4910040"/>
            <a:ext cx="2149560" cy="59076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tencia de Excitación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1995480" y="4902120"/>
            <a:ext cx="2147760" cy="5922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2B678D1F-854E-4D9D-B421-4DF16DA029A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8214" t="0" r="8333" b="0"/>
          <a:stretch/>
        </p:blipFill>
        <p:spPr>
          <a:xfrm>
            <a:off x="1393920" y="1569960"/>
            <a:ext cx="6197400" cy="4641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3"/>
          <p:cNvSpPr/>
          <p:nvPr/>
        </p:nvSpPr>
        <p:spPr>
          <a:xfrm>
            <a:off x="2133720" y="5186520"/>
            <a:ext cx="2423880" cy="5760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ISI M4, M5 y 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3B9B99EE-38A1-4A95-A847-DC63637DAF8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380880" y="1836720"/>
            <a:ext cx="3289320" cy="3598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3772080" y="1839960"/>
            <a:ext cx="5052960" cy="3610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3"/>
          <p:cNvSpPr/>
          <p:nvPr/>
        </p:nvSpPr>
        <p:spPr>
          <a:xfrm>
            <a:off x="3759120" y="5460840"/>
            <a:ext cx="5051520" cy="3733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384120" y="5454720"/>
            <a:ext cx="3287880" cy="37944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17080" y="1049040"/>
            <a:ext cx="60087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JIS 20JNHF1300; caso de curvas en frecu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74882935-BF31-42EF-9436-422300F8C7D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2120760" y="1806480"/>
            <a:ext cx="5050080" cy="32641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2801880" y="5192640"/>
            <a:ext cx="3773520" cy="6271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érdidas en el Núcleo para difer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cuencias eléctricas de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552920" y="1930320"/>
            <a:ext cx="42228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 frecuencia utilitaria o mayores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manteniendo la dirección del campo magnético fija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y variando únicamente el sentido se recomienda utilizar el material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Distrib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mplificadores Magn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guladores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elevisores y Otros Electrodomé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403200" y="112536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áquinas Est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10 Imagen" descr="SDC10560.JPG"/>
          <p:cNvPicPr/>
          <p:nvPr/>
        </p:nvPicPr>
        <p:blipFill>
          <a:blip r:embed="rId1"/>
          <a:stretch/>
        </p:blipFill>
        <p:spPr>
          <a:xfrm>
            <a:off x="458640" y="2082960"/>
            <a:ext cx="3781440" cy="2836800"/>
          </a:xfrm>
          <a:prstGeom prst="rect">
            <a:avLst/>
          </a:prstGeom>
          <a:ln w="0">
            <a:noFill/>
          </a:ln>
        </p:spPr>
      </p:pic>
      <p:pic>
        <p:nvPicPr>
          <p:cNvPr id="351" name="7 Imagen" descr="TY-141P.jpg"/>
          <p:cNvPicPr/>
          <p:nvPr/>
        </p:nvPicPr>
        <p:blipFill>
          <a:blip r:embed="rId2"/>
          <a:stretch/>
        </p:blipFill>
        <p:spPr>
          <a:xfrm>
            <a:off x="2336760" y="458460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352" name="9 Imagen" descr="S6300095a.JPG"/>
          <p:cNvPicPr/>
          <p:nvPr/>
        </p:nvPicPr>
        <p:blipFill>
          <a:blip r:embed="rId3"/>
          <a:stretch/>
        </p:blipFill>
        <p:spPr>
          <a:xfrm>
            <a:off x="839880" y="4317840"/>
            <a:ext cx="1573200" cy="1452600"/>
          </a:xfrm>
          <a:prstGeom prst="rect">
            <a:avLst/>
          </a:prstGeom>
          <a:ln w="0">
            <a:noFill/>
          </a:ln>
        </p:spPr>
      </p:pic>
      <p:sp>
        <p:nvSpPr>
          <p:cNvPr id="35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7D6392B1-DF70-4823-8D23-37B6152DF23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y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95280" y="2268360"/>
            <a:ext cx="8397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as de Empaque y Transporte &amp;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os y Mercad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327AF19A-7B9D-43C5-ABC2-4AE6DC353B5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3"/>
          <p:cNvSpPr/>
          <p:nvPr/>
        </p:nvSpPr>
        <p:spPr>
          <a:xfrm>
            <a:off x="457200" y="2514600"/>
            <a:ext cx="3886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x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Luis Cárdenas Castillo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Investigación, Desarrollo y Asistencia a Clientes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ía. Siderúrgica Huachipato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.A.P.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4394160" y="2527200"/>
            <a:ext cx="43052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6476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FE Steel Corporation (Jap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hyssenKrupp Steel (Alemania, sedes en otros países de Euro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K Steel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 proveedores menores en Brasil y Argentina, en Latino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FDD56523-A75F-4096-811E-91827A58364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llos L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11 Imagen" descr="almacenamiento1.jpg"/>
          <p:cNvPicPr/>
          <p:nvPr/>
        </p:nvPicPr>
        <p:blipFill>
          <a:blip r:embed="rId1"/>
          <a:stretch/>
        </p:blipFill>
        <p:spPr>
          <a:xfrm>
            <a:off x="4379760" y="2514600"/>
            <a:ext cx="3997440" cy="2239920"/>
          </a:xfrm>
          <a:prstGeom prst="rect">
            <a:avLst/>
          </a:prstGeom>
          <a:ln w="0">
            <a:noFill/>
          </a:ln>
        </p:spPr>
      </p:pic>
      <p:pic>
        <p:nvPicPr>
          <p:cNvPr id="375" name="14 Imagen" descr="Header_ProduktePCLogo.jpg"/>
          <p:cNvPicPr/>
          <p:nvPr/>
        </p:nvPicPr>
        <p:blipFill>
          <a:blip r:embed="rId2"/>
          <a:stretch/>
        </p:blipFill>
        <p:spPr>
          <a:xfrm>
            <a:off x="4842000" y="4643280"/>
            <a:ext cx="3375000" cy="1338480"/>
          </a:xfrm>
          <a:prstGeom prst="rect">
            <a:avLst/>
          </a:prstGeom>
          <a:ln w="0">
            <a:noFill/>
          </a:ln>
        </p:spPr>
      </p:pic>
      <p:pic>
        <p:nvPicPr>
          <p:cNvPr id="376" name="12 Imagen" descr="CRGO-Core-Laminations_250x250.jpg"/>
          <p:cNvPicPr/>
          <p:nvPr/>
        </p:nvPicPr>
        <p:blipFill>
          <a:blip r:embed="rId3"/>
          <a:stretch/>
        </p:blipFill>
        <p:spPr>
          <a:xfrm>
            <a:off x="3086280" y="3801960"/>
            <a:ext cx="1917360" cy="1917720"/>
          </a:xfrm>
          <a:prstGeom prst="rect">
            <a:avLst/>
          </a:prstGeom>
          <a:ln w="0">
            <a:noFill/>
          </a:ln>
        </p:spPr>
      </p:pic>
      <p:sp>
        <p:nvSpPr>
          <p:cNvPr id="37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037101BF-EA92-4DE3-BE80-675817F0E3BE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minado P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13 Imagen" descr="0,0,422,17088,590,512,54d260fd.jpg"/>
          <p:cNvPicPr/>
          <p:nvPr/>
        </p:nvPicPr>
        <p:blipFill>
          <a:blip r:embed="rId1"/>
          <a:stretch/>
        </p:blipFill>
        <p:spPr>
          <a:xfrm>
            <a:off x="4330800" y="2576520"/>
            <a:ext cx="4013280" cy="3483000"/>
          </a:xfrm>
          <a:prstGeom prst="rect">
            <a:avLst/>
          </a:prstGeom>
          <a:ln w="0">
            <a:noFill/>
          </a:ln>
        </p:spPr>
      </p:pic>
      <p:pic>
        <p:nvPicPr>
          <p:cNvPr id="384" name="15 Imagen" descr="Steel_Plate.jpg"/>
          <p:cNvPicPr/>
          <p:nvPr/>
        </p:nvPicPr>
        <p:blipFill>
          <a:blip r:embed="rId2"/>
          <a:stretch/>
        </p:blipFill>
        <p:spPr>
          <a:xfrm>
            <a:off x="2463840" y="3683160"/>
            <a:ext cx="2108160" cy="2108160"/>
          </a:xfrm>
          <a:prstGeom prst="rect">
            <a:avLst/>
          </a:prstGeom>
          <a:ln w="0">
            <a:noFill/>
          </a:ln>
        </p:spPr>
      </p:pic>
      <p:sp>
        <p:nvSpPr>
          <p:cNvPr id="385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62D21DF-DCAD-41EF-A6C0-EEFDA1F66D3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3"/>
          <p:cNvSpPr/>
          <p:nvPr/>
        </p:nvSpPr>
        <p:spPr>
          <a:xfrm>
            <a:off x="407880" y="2514600"/>
            <a:ext cx="49183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m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Espesor no superior a 0.025‘‘ o 64[mm]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es en AC las pérdidas por Foucault crecen aprox. con el cuadrado del espesor (en gral. no superan la mitad de este val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In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508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Ex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880 – 1380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100 – 1000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 proteccion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&gt; 6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8289792C-63F0-4AB2-9144-D142338219C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5545080" y="2557440"/>
            <a:ext cx="3257640" cy="149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6075360" y="4164120"/>
            <a:ext cx="223848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1916280"/>
            <a:ext cx="82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404040"/>
                </a:solidFill>
                <a:uFillTx/>
                <a:latin typeface="Arial"/>
              </a:rPr>
              <a:t>Materias pri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Hier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abundante en la naturale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ecesita ser ref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Ferromagne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Dúctil y male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Sil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Semi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o existe en estado l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910B0340-6318-4FC6-8119-B134B9F7862F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rígen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3"/>
          <p:cNvSpPr/>
          <p:nvPr/>
        </p:nvSpPr>
        <p:spPr>
          <a:xfrm>
            <a:off x="407880" y="2514600"/>
            <a:ext cx="840276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ci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4,500 – 5,500 [USD/ton] (según estadísticas empresas internas, Rhona, Tus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men Importaciones Chile (datos según Aduana, datos CI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9 a la fech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6,972,244 US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323,345 U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424,673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ación Grandes Empresas nivel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yssenKrupp Ste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ales: 10,747,000,000 [Eur] = 15,045,800,000 [US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CIF: Costo lugar de orígen +Seguro + Traslado al Dest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cios &amp; Mercado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85CB473-D230-4146-9B79-DFCA3ADC9E9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3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A3D925B-5EE7-46C2-91B9-EE81AB4EEA0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Hintergrund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schatten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e representa menos del 0.06% de las ventas de ThyssenKrupp Ste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1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D4B4A8F-FB60-453B-A192-7D42902D405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7" descr="Hintergr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9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ftware and Tools for Microsoft Power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 website with innovative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ve time and money by automating your presen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3">
            <a:hlinkClick r:id="rId2"/>
          </p:cNvPr>
          <p:cNvSpPr/>
          <p:nvPr/>
        </p:nvSpPr>
        <p:spPr>
          <a:xfrm>
            <a:off x="561960" y="3859200"/>
            <a:ext cx="36957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Ingeniería Civil Elé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Taller de Diseño en Potencia </a:t>
            </a:r>
            <a:r>
              <a:rPr b="0" sz="1000" spc="-1" strike="noStrike">
                <a:solidFill>
                  <a:srgbClr val="5f5f5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4586400" y="1784520"/>
            <a:ext cx="39430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entación preparada p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lipe Larraí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ula Mald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antiag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eptiembr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6">
            <a:hlinkClick r:id="rId3"/>
          </p:cNvPr>
          <p:cNvSpPr/>
          <p:nvPr/>
        </p:nvSpPr>
        <p:spPr>
          <a:xfrm>
            <a:off x="4533840" y="510048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4"/>
          <a:stretch/>
        </p:blipFill>
        <p:spPr>
          <a:xfrm>
            <a:off x="534960" y="457200"/>
            <a:ext cx="3513240" cy="263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50920" y="1773360"/>
            <a:ext cx="83296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Gran Resis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as Perdidas de Histér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Menor saturacion por Indu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Disminuye Temperatura de Cu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Baja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Máxima en Watt/kg, depende de orientación del gr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735F4B68-7FCE-45FC-8466-4F324ABF76C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piedades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184464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Preparacion Materias Pri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xtracción del Miner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Tratamiento del Carbon Miner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ducción del mater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ltos hornos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=&gt; Arra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fi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ceria =&gt;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Inyección de Oxig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152800" cy="1628640"/>
          </a:xfrm>
          <a:prstGeom prst="rect">
            <a:avLst/>
          </a:prstGeom>
          <a:ln w="0">
            <a:noFill/>
          </a:ln>
        </p:spPr>
      </p:pic>
      <p:sp>
        <p:nvSpPr>
          <p:cNvPr id="20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08BB679E-7940-4994-8505-37A1E1FA096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rcRect l="12382" t="18723" r="16315" b="21082"/>
          <a:stretch/>
        </p:blipFill>
        <p:spPr>
          <a:xfrm>
            <a:off x="4643280" y="2205000"/>
            <a:ext cx="4175280" cy="333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rcRect l="11839" t="26099" r="16917" b="15061"/>
          <a:stretch/>
        </p:blipFill>
        <p:spPr>
          <a:xfrm>
            <a:off x="250920" y="2276640"/>
            <a:ext cx="4033800" cy="3227400"/>
          </a:xfrm>
          <a:prstGeom prst="rect">
            <a:avLst/>
          </a:prstGeom>
          <a:ln w="0">
            <a:noFill/>
          </a:ln>
        </p:spPr>
      </p:pic>
      <p:sp>
        <p:nvSpPr>
          <p:cNvPr id="20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FE23260-7E85-4C14-8000-978F83BA489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rcRect l="12884" t="19521" r="16020" b="17926"/>
          <a:stretch/>
        </p:blipFill>
        <p:spPr>
          <a:xfrm>
            <a:off x="755640" y="1700280"/>
            <a:ext cx="4535640" cy="3570120"/>
          </a:xfrm>
          <a:prstGeom prst="rect">
            <a:avLst/>
          </a:prstGeom>
          <a:ln w="0">
            <a:noFill/>
          </a:ln>
        </p:spPr>
      </p:pic>
      <p:sp>
        <p:nvSpPr>
          <p:cNvPr id="2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10271" t="26055" r="18632" b="24530"/>
          <a:stretch/>
        </p:blipFill>
        <p:spPr>
          <a:xfrm>
            <a:off x="3564000" y="3935520"/>
            <a:ext cx="5256000" cy="2922480"/>
          </a:xfrm>
          <a:prstGeom prst="rect">
            <a:avLst/>
          </a:prstGeom>
          <a:ln w="0">
            <a:noFill/>
          </a:ln>
        </p:spPr>
      </p:pic>
      <p:sp>
        <p:nvSpPr>
          <p:cNvPr id="21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50851AB-306D-42C8-B43D-9B918BE61D8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F084B56-EFC2-4329-87CF-F8135AEBF1A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52920" y="2249640"/>
            <a:ext cx="42228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Eléctrica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njunto de características definidas bajo estricto cumplimiento de diversas especificaciones técnicas: ISO/IEC (internacional), AISI (Usa), JIS (Japón), BS (Inglaterra), DIN (Alemania), entre las princip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8 Imagen" descr="Level_Wound_Coil.jpg"/>
          <p:cNvPicPr/>
          <p:nvPr/>
        </p:nvPicPr>
        <p:blipFill>
          <a:blip r:embed="rId1"/>
          <a:stretch/>
        </p:blipFill>
        <p:spPr>
          <a:xfrm>
            <a:off x="476280" y="2247840"/>
            <a:ext cx="3892680" cy="3678120"/>
          </a:xfrm>
          <a:prstGeom prst="rect">
            <a:avLst/>
          </a:prstGeom>
          <a:ln w="0">
            <a:noFill/>
          </a:ln>
        </p:spPr>
      </p:pic>
      <p:sp>
        <p:nvSpPr>
          <p:cNvPr id="22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7 Rectángulo"/>
          <p:cNvSpPr/>
          <p:nvPr/>
        </p:nvSpPr>
        <p:spPr>
          <a:xfrm>
            <a:off x="571680" y="5067360"/>
            <a:ext cx="3022560" cy="40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bdbdb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 y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Si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con Ori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 medida, Tamaño &amp;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binaciones con orificios y dimens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pesor por Lámina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sidad [g/c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29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30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31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32" name="2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B525990-67B8-4257-A845-3E6B96C38635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 Alberto Botteselle Doggenweiler</cp:lastModifiedBy>
  <cp:lastPrinted>2005-03-15T07:48:11Z</cp:lastPrinted>
  <dcterms:modified xsi:type="dcterms:W3CDTF">2009-09-22T18:21:16Z</dcterms:modified>
  <cp:revision>587</cp:revision>
  <dc:subject/>
  <dc:title>Metal Sil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