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33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0.png" ContentType="image/png"/>
  <Override PartName="/ppt/media/image36.jpeg" ContentType="image/jpeg"/>
  <Override PartName="/ppt/media/image21.png" ContentType="image/png"/>
  <Override PartName="/ppt/media/image19.png" ContentType="image/png"/>
  <Override PartName="/ppt/media/image14.jpeg" ContentType="image/jpeg"/>
  <Override PartName="/ppt/media/image7.png" ContentType="image/png"/>
  <Override PartName="/ppt/media/image34.jpeg" ContentType="image/jpe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12.jpeg" ContentType="image/jpeg"/>
  <Override PartName="/ppt/media/image37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18.jpeg" ContentType="image/jpeg"/>
  <Override PartName="/ppt/media/image15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2.jpeg" ContentType="image/jpeg"/>
  <Override PartName="/ppt/media/image6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8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9144000" cy="6858000"/>
  <p:notesSz cx="6699250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6699600" cy="983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1960" cy="492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3"/>
          </p:nvPr>
        </p:nvSpPr>
        <p:spPr>
          <a:xfrm>
            <a:off x="3796920" y="-360"/>
            <a:ext cx="2901960" cy="492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ftr" idx="4"/>
          </p:nvPr>
        </p:nvSpPr>
        <p:spPr>
          <a:xfrm>
            <a:off x="-360" y="9345240"/>
            <a:ext cx="2901960" cy="4906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 type="sldNum" idx="5"/>
          </p:nvPr>
        </p:nvSpPr>
        <p:spPr>
          <a:xfrm>
            <a:off x="3796920" y="9345240"/>
            <a:ext cx="2901960" cy="4906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3FBD82B-1E91-48CF-9D47-61236469B4E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A378A82-37D8-42AD-99C0-33976B6A6D77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C8F1796-8DF2-4B97-96C3-BBB6BE6D1DB0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733B535-AB15-4260-80A9-D8D19BA8A791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5D165FA-D677-460E-9CE7-B8925D04A018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6E4BEC9-EAA2-495C-B4F0-BFD3B8DCF0DC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86787D6-07BD-4D2D-838E-CDF0C665906C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8D872B7-8419-499B-9E0A-3910F6FDF9A4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05AA722-C08A-45CD-865A-9B305163C0F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28E37FD-3B2D-4E11-BF4C-BC5D7689CF4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AE2C94F-BDFB-4037-A87E-68F777DB74F1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C0302DE-84C4-4235-94DD-9CA39CDA70A1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3A12CA8-8853-47E9-BDF4-0961E54BBD74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3439BF9-E394-4DA0-AB35-39B7D515A5DD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C443BE1-AABA-415E-BE95-9D33CB171994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695C192-65FA-4793-9D45-692BFFBDDED3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0" y="-14400"/>
            <a:ext cx="6699240" cy="502452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242640" y="5252760"/>
            <a:ext cx="62830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F479DD3-2EEC-4181-8596-14CB7CFA8EA5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0" y="-14400"/>
            <a:ext cx="6699240" cy="502452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242640" y="5252760"/>
            <a:ext cx="62830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5B1AD01-AEBC-4D27-828F-637836BE7DA8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06FC60F-B092-4C07-8426-EFAF9A4D486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CB9B31C-6661-4AF9-86CF-580BC6E699E3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F1960EA-A59B-4DAB-A6AF-6BF0E4DCE437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892080" y="738360"/>
            <a:ext cx="4915080" cy="36874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69600" y="4672080"/>
            <a:ext cx="5359320" cy="4425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ierro, se refina con carbono, es encontrado con muchas impurezas, dificil encontrarlo en estado pu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ilicio, se encuentra como silice, y se ref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 muy utilizado en la electron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C69EA37-E02C-4B77-80ED-6C9FE5DA4E45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9928BC4-C972-49F9-B272-A9735ED065E1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14CBA31-E363-407B-BA6C-F5B692B13E74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892080" y="738360"/>
            <a:ext cx="4915080" cy="36874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69600" y="4672080"/>
            <a:ext cx="5359320" cy="4425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to es todo gracias al sili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mo tiene alta resistividad  disminuye las corrientes parasitari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mo  reduce las perdias, esto ayuda a  que  sea requerido porque  de  este modo se reducen los tamaños en los equi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Y como tiene  baja oxidacion  tambien le aumenta la vida util a es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892080" y="738360"/>
            <a:ext cx="4915080" cy="36874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69600" y="4672080"/>
            <a:ext cx="5359320" cy="4425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n la aceria se elimina el azufre del acero, este es retenido en la esc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nvertidores de oxige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n esta fase se refina el arrabio inyectando oxígeno de alta pureza, se ajusta el contenido de carbono y se agregan ferroaleaciones que aportan las características básicas de cada tipo de acer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spues viene la etapa de laminación, la cual es primero   en planch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y luego  viene laminacion en frio, este es un proceso mas mecánico,  por lo queno se  usa en planchas de mas de 4mm de espe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58C240B-D3D9-429A-B2C0-E85DBF686A5F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0" y="-14400"/>
            <a:ext cx="6699240" cy="502452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242640" y="5252760"/>
            <a:ext cx="62830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228CF3A-BEE7-4259-9122-45C61E805DA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7880" y="359676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32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756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688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0788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756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688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03200" y="229680"/>
            <a:ext cx="594504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32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7880" y="359676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32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756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8688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0788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756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8688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03200" y="229680"/>
            <a:ext cx="594504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1132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7880" y="359676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1132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4756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688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0788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4756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688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03200" y="229680"/>
            <a:ext cx="594504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71132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7880" y="359676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71132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4756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8688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0788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4756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8688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03200" y="229680"/>
            <a:ext cx="594504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32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3"/>
          <p:cNvSpPr/>
          <p:nvPr/>
        </p:nvSpPr>
        <p:spPr>
          <a:xfrm>
            <a:off x="0" y="1003320"/>
            <a:ext cx="9144000" cy="5346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5" descr="Hintergrund"/>
          <p:cNvPicPr/>
          <p:nvPr/>
        </p:nvPicPr>
        <p:blipFill>
          <a:blip r:embed="rId2"/>
          <a:srcRect l="0" t="0" r="0" b="92574"/>
          <a:stretch/>
        </p:blipFill>
        <p:spPr>
          <a:xfrm>
            <a:off x="0" y="6362640"/>
            <a:ext cx="9144000" cy="50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52400" indent="-189000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61920" indent="-20772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61920" indent="-2077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61920" indent="-2077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804528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4DC99F86-E171-4877-8A43-19F6D2BE1FF5}" type="slidenum"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schatten"/>
          <p:cNvPicPr/>
          <p:nvPr/>
        </p:nvPicPr>
        <p:blipFill>
          <a:blip r:embed="rId3">
            <a:lum bright="36000"/>
          </a:blip>
          <a:stretch/>
        </p:blipFill>
        <p:spPr>
          <a:xfrm>
            <a:off x="0" y="6243480"/>
            <a:ext cx="9144000" cy="12096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2"/>
          <p:cNvSpPr/>
          <p:nvPr/>
        </p:nvSpPr>
        <p:spPr>
          <a:xfrm>
            <a:off x="1876320" y="6464160"/>
            <a:ext cx="5376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ere comes your foo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8" descr="PP small"/>
          <p:cNvPicPr/>
          <p:nvPr/>
        </p:nvPicPr>
        <p:blipFill>
          <a:blip r:embed="rId4"/>
          <a:srcRect l="0" t="0" r="0" b="34534"/>
          <a:stretch/>
        </p:blipFill>
        <p:spPr>
          <a:xfrm>
            <a:off x="6603840" y="380880"/>
            <a:ext cx="2267280" cy="2844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9" descr="PP small"/>
          <p:cNvPicPr/>
          <p:nvPr/>
        </p:nvPicPr>
        <p:blipFill>
          <a:blip r:embed="rId5"/>
          <a:srcRect l="0" t="0" r="0" b="34534"/>
          <a:stretch/>
        </p:blipFill>
        <p:spPr>
          <a:xfrm>
            <a:off x="152280" y="6459480"/>
            <a:ext cx="2419560" cy="303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1003320"/>
            <a:ext cx="9144000" cy="5346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Hintergrund"/>
          <p:cNvPicPr/>
          <p:nvPr/>
        </p:nvPicPr>
        <p:blipFill>
          <a:blip r:embed="rId2"/>
          <a:srcRect l="0" t="0" r="0" b="92574"/>
          <a:stretch/>
        </p:blipFill>
        <p:spPr>
          <a:xfrm>
            <a:off x="0" y="6362640"/>
            <a:ext cx="9144000" cy="5097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52400" indent="-189000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61920" indent="-20772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61920" indent="-2077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61920" indent="-2077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804528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2F6BF284-E270-46EF-8D4C-969C6BF0B3FC}" type="slidenum"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schatten"/>
          <p:cNvPicPr/>
          <p:nvPr/>
        </p:nvPicPr>
        <p:blipFill>
          <a:blip r:embed="rId3">
            <a:lum bright="36000"/>
          </a:blip>
          <a:stretch/>
        </p:blipFill>
        <p:spPr>
          <a:xfrm>
            <a:off x="0" y="6243480"/>
            <a:ext cx="9144000" cy="1209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8"/>
          <p:cNvSpPr/>
          <p:nvPr/>
        </p:nvSpPr>
        <p:spPr>
          <a:xfrm>
            <a:off x="1876320" y="6464160"/>
            <a:ext cx="5376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PP small"/>
          <p:cNvPicPr/>
          <p:nvPr/>
        </p:nvPicPr>
        <p:blipFill>
          <a:blip r:embed="rId4"/>
          <a:srcRect l="0" t="0" r="0" b="34534"/>
          <a:stretch/>
        </p:blipFill>
        <p:spPr>
          <a:xfrm>
            <a:off x="6603840" y="380880"/>
            <a:ext cx="2267280" cy="284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PP small"/>
          <p:cNvPicPr/>
          <p:nvPr/>
        </p:nvPicPr>
        <p:blipFill>
          <a:blip r:embed="rId5"/>
          <a:srcRect l="0" t="0" r="0" b="34534"/>
          <a:stretch/>
        </p:blipFill>
        <p:spPr>
          <a:xfrm>
            <a:off x="152280" y="6459480"/>
            <a:ext cx="2419560" cy="303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intergr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Himmel2"/>
          <p:cNvPicPr/>
          <p:nvPr/>
        </p:nvPicPr>
        <p:blipFill>
          <a:blip r:embed="rId3"/>
          <a:stretch/>
        </p:blipFill>
        <p:spPr>
          <a:xfrm>
            <a:off x="0" y="3765600"/>
            <a:ext cx="9144000" cy="2114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schatten"/>
          <p:cNvPicPr/>
          <p:nvPr/>
        </p:nvPicPr>
        <p:blipFill>
          <a:blip r:embed="rId4"/>
          <a:stretch/>
        </p:blipFill>
        <p:spPr>
          <a:xfrm>
            <a:off x="0" y="3765600"/>
            <a:ext cx="9144000" cy="120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6" descr="PP small"/>
          <p:cNvPicPr/>
          <p:nvPr/>
        </p:nvPicPr>
        <p:blipFill>
          <a:blip r:embed="rId5"/>
          <a:srcRect l="0" t="0" r="0" b="34534"/>
          <a:stretch/>
        </p:blipFill>
        <p:spPr>
          <a:xfrm>
            <a:off x="6432480" y="6191280"/>
            <a:ext cx="2419560" cy="3031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52400" indent="-189000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61920" indent="-20772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61920" indent="-2077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61920" indent="-2077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Hintergr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Himmel2"/>
          <p:cNvPicPr/>
          <p:nvPr/>
        </p:nvPicPr>
        <p:blipFill>
          <a:blip r:embed="rId3"/>
          <a:stretch/>
        </p:blipFill>
        <p:spPr>
          <a:xfrm>
            <a:off x="0" y="3765600"/>
            <a:ext cx="9144000" cy="2114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schatten"/>
          <p:cNvPicPr/>
          <p:nvPr/>
        </p:nvPicPr>
        <p:blipFill>
          <a:blip r:embed="rId4"/>
          <a:stretch/>
        </p:blipFill>
        <p:spPr>
          <a:xfrm>
            <a:off x="0" y="3765600"/>
            <a:ext cx="9144000" cy="120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PP small"/>
          <p:cNvPicPr/>
          <p:nvPr/>
        </p:nvPicPr>
        <p:blipFill>
          <a:blip r:embed="rId5"/>
          <a:srcRect l="0" t="0" r="0" b="34534"/>
          <a:stretch/>
        </p:blipFill>
        <p:spPr>
          <a:xfrm>
            <a:off x="6432480" y="6191280"/>
            <a:ext cx="2419560" cy="3031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52400" indent="-189000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61920" indent="-20772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61920" indent="-2077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61920" indent="-2077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resentationpoint.de/" TargetMode="External"/><Relationship Id="rId3" Type="http://schemas.openxmlformats.org/officeDocument/2006/relationships/hyperlink" Target="http://www.ppt-vorlagen.de/" TargetMode="External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27200" y="126000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Cambria"/>
              </a:rPr>
              <a:t>Acero Silicoso de Grano Orientad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726840" y="2571480"/>
            <a:ext cx="6764040" cy="77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Felipe Larra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Paula Maldon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5978520" y="5999040"/>
            <a:ext cx="2932200" cy="773280"/>
          </a:xfrm>
          <a:prstGeom prst="rect">
            <a:avLst/>
          </a:prstGeom>
          <a:solidFill>
            <a:srgbClr val="c1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L57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aller de Diseño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4"/>
          <p:cNvSpPr/>
          <p:nvPr/>
        </p:nvSpPr>
        <p:spPr>
          <a:xfrm>
            <a:off x="412920" y="203688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racterísticas Mecán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403200" y="1241280"/>
            <a:ext cx="5753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ctos Dir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lasificación según 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20840" y="2514240"/>
            <a:ext cx="4494240" cy="35434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longación [%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ureza [Rockwell B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unto de Deformación Plástica [N/mm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sistencia a la Tracción [N/mm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94949"/>
                </a:solidFill>
                <a:latin typeface="Arial"/>
              </a:rPr>
              <a:t>Tolerancias [mm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94949"/>
                </a:solidFill>
                <a:latin typeface="Arial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8 Imagen" descr="crno-20electrical-20laminations_10564775.jpg"/>
          <p:cNvPicPr/>
          <p:nvPr/>
        </p:nvPicPr>
        <p:blipFill>
          <a:blip r:embed="rId1"/>
          <a:stretch/>
        </p:blipFill>
        <p:spPr>
          <a:xfrm>
            <a:off x="5176800" y="3962520"/>
            <a:ext cx="1998720" cy="1998720"/>
          </a:xfrm>
          <a:prstGeom prst="rect">
            <a:avLst/>
          </a:prstGeom>
          <a:ln w="0">
            <a:noFill/>
          </a:ln>
        </p:spPr>
      </p:pic>
      <p:pic>
        <p:nvPicPr>
          <p:cNvPr id="240" name="13 Imagen" descr="Wound_Cores.jpg"/>
          <p:cNvPicPr/>
          <p:nvPr/>
        </p:nvPicPr>
        <p:blipFill>
          <a:blip r:embed="rId2"/>
          <a:stretch/>
        </p:blipFill>
        <p:spPr>
          <a:xfrm>
            <a:off x="7023240" y="4165560"/>
            <a:ext cx="1587240" cy="1587600"/>
          </a:xfrm>
          <a:prstGeom prst="rect">
            <a:avLst/>
          </a:prstGeom>
          <a:ln w="0">
            <a:noFill/>
          </a:ln>
        </p:spPr>
      </p:pic>
      <p:pic>
        <p:nvPicPr>
          <p:cNvPr id="241" name="15 Imagen" descr="Pad_Printing_Steel_Plate.jpg"/>
          <p:cNvPicPr/>
          <p:nvPr/>
        </p:nvPicPr>
        <p:blipFill>
          <a:blip r:embed="rId3"/>
          <a:stretch/>
        </p:blipFill>
        <p:spPr>
          <a:xfrm>
            <a:off x="6832440" y="2717640"/>
            <a:ext cx="1986120" cy="1489320"/>
          </a:xfrm>
          <a:prstGeom prst="rect">
            <a:avLst/>
          </a:prstGeom>
          <a:ln w="0">
            <a:noFill/>
          </a:ln>
        </p:spPr>
      </p:pic>
      <p:pic>
        <p:nvPicPr>
          <p:cNvPr id="242" name="16 Imagen" descr="2008070310383373499.gif"/>
          <p:cNvPicPr/>
          <p:nvPr/>
        </p:nvPicPr>
        <p:blipFill>
          <a:blip r:embed="rId4"/>
          <a:stretch/>
        </p:blipFill>
        <p:spPr>
          <a:xfrm>
            <a:off x="5429160" y="2540160"/>
            <a:ext cx="1441440" cy="1441440"/>
          </a:xfrm>
          <a:prstGeom prst="rect">
            <a:avLst/>
          </a:prstGeom>
          <a:ln w="0">
            <a:noFill/>
          </a:ln>
        </p:spPr>
      </p:pic>
      <p:sp>
        <p:nvSpPr>
          <p:cNvPr id="243" name="10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2 Marcador de pie de página"/>
          <p:cNvSpPr/>
          <p:nvPr/>
        </p:nvSpPr>
        <p:spPr>
          <a:xfrm>
            <a:off x="7972560" y="6464160"/>
            <a:ext cx="10666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F8C2E779-9C0B-419F-9E5F-245EBFC89D8E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4"/>
          <p:cNvSpPr/>
          <p:nvPr/>
        </p:nvSpPr>
        <p:spPr>
          <a:xfrm>
            <a:off x="412920" y="203688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racterísticas Mecán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2"/>
          <p:cNvSpPr/>
          <p:nvPr/>
        </p:nvSpPr>
        <p:spPr>
          <a:xfrm>
            <a:off x="403200" y="1241280"/>
            <a:ext cx="5753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ctos Dir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lasificación según 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14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2 Marcador de pie de página"/>
          <p:cNvSpPr/>
          <p:nvPr/>
        </p:nvSpPr>
        <p:spPr>
          <a:xfrm>
            <a:off x="7972560" y="6464160"/>
            <a:ext cx="10666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54DC8D1D-2CAF-43F0-94D0-10F23F1C3283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1" descr=""/>
          <p:cNvPicPr/>
          <p:nvPr/>
        </p:nvPicPr>
        <p:blipFill>
          <a:blip r:embed="rId1"/>
          <a:stretch/>
        </p:blipFill>
        <p:spPr>
          <a:xfrm>
            <a:off x="1157400" y="2898720"/>
            <a:ext cx="6914880" cy="2629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4"/>
          <p:cNvSpPr/>
          <p:nvPr/>
        </p:nvSpPr>
        <p:spPr>
          <a:xfrm>
            <a:off x="412920" y="203688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racterísticas Mecán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2"/>
          <p:cNvSpPr/>
          <p:nvPr/>
        </p:nvSpPr>
        <p:spPr>
          <a:xfrm>
            <a:off x="403200" y="1241280"/>
            <a:ext cx="5753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ctos Dir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lasificación según 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10 Imagen" descr="Dibujo.jpg"/>
          <p:cNvPicPr/>
          <p:nvPr/>
        </p:nvPicPr>
        <p:blipFill>
          <a:blip r:embed="rId1"/>
          <a:stretch/>
        </p:blipFill>
        <p:spPr>
          <a:xfrm>
            <a:off x="1197000" y="2616120"/>
            <a:ext cx="2130480" cy="3505320"/>
          </a:xfrm>
          <a:prstGeom prst="rect">
            <a:avLst/>
          </a:prstGeom>
          <a:ln w="0">
            <a:noFill/>
          </a:ln>
        </p:spPr>
      </p:pic>
      <p:pic>
        <p:nvPicPr>
          <p:cNvPr id="257" name="12 Imagen" descr="tabla2.jpg"/>
          <p:cNvPicPr/>
          <p:nvPr/>
        </p:nvPicPr>
        <p:blipFill>
          <a:blip r:embed="rId2"/>
          <a:stretch/>
        </p:blipFill>
        <p:spPr>
          <a:xfrm>
            <a:off x="4014720" y="2552760"/>
            <a:ext cx="3673440" cy="3657600"/>
          </a:xfrm>
          <a:prstGeom prst="rect">
            <a:avLst/>
          </a:prstGeom>
          <a:ln w="0">
            <a:noFill/>
          </a:ln>
        </p:spPr>
      </p:pic>
      <p:sp>
        <p:nvSpPr>
          <p:cNvPr id="258" name="14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2 Marcador de pie de página"/>
          <p:cNvSpPr/>
          <p:nvPr/>
        </p:nvSpPr>
        <p:spPr>
          <a:xfrm>
            <a:off x="7972560" y="6464160"/>
            <a:ext cx="10666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39581AEE-3CA9-4C96-9362-0058D5D3E210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4"/>
          <p:cNvSpPr/>
          <p:nvPr/>
        </p:nvSpPr>
        <p:spPr>
          <a:xfrm>
            <a:off x="412920" y="203688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racterísticas Eléctricas &amp; Aspectos Adi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2"/>
          <p:cNvSpPr/>
          <p:nvPr/>
        </p:nvSpPr>
        <p:spPr>
          <a:xfrm>
            <a:off x="403200" y="1241280"/>
            <a:ext cx="5753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ctos Dir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lasificación según 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20480" y="2514240"/>
            <a:ext cx="8304120" cy="35434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 algn="just">
              <a:lnSpc>
                <a:spcPct val="150000"/>
              </a:lnSpc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érdidas en el Núcleo, [W/lb] o [W/K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 uniformidad en la especificación, producción y compra venta,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l acero eléctrico es primariamente identificado por sus pérdidas en el núcle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merican Iron and Steel Institu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AISI) asignó como nomenclatura, ahora internacionalmente aceptada, la M – x, donde M refiere a “magnético” y x indica numéricamente el grado de pérdidas; mientras menor sea el número, menores las pérdi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11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2 Marcador de pie de página"/>
          <p:cNvSpPr/>
          <p:nvPr/>
        </p:nvSpPr>
        <p:spPr>
          <a:xfrm>
            <a:off x="7972560" y="6464160"/>
            <a:ext cx="10666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EEE37E44-E1FF-4E21-8F88-22DFE9CBE8B3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4"/>
          <p:cNvSpPr/>
          <p:nvPr/>
        </p:nvSpPr>
        <p:spPr>
          <a:xfrm>
            <a:off x="412920" y="203688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racterísticas Eléctricas &amp; Aspectos Adi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2"/>
          <p:cNvSpPr/>
          <p:nvPr/>
        </p:nvSpPr>
        <p:spPr>
          <a:xfrm>
            <a:off x="403200" y="1241280"/>
            <a:ext cx="5753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ctos Dir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lasificación según 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20840" y="2514240"/>
            <a:ext cx="420192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 algn="just">
              <a:lnSpc>
                <a:spcPct val="150000"/>
              </a:lnSpc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érdidas en el Núcleo, [W/lb] o [W/K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enden de la magnitud y frecuencia del campo magnético, y agrupa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érdidas por Histér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érdidas de Foucault o por corrientes parási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érdidas por Conducción, (resistencia interlamin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8 Imagen" descr="BHCurve.gif"/>
          <p:cNvPicPr/>
          <p:nvPr/>
        </p:nvPicPr>
        <p:blipFill>
          <a:blip r:embed="rId1"/>
          <a:stretch/>
        </p:blipFill>
        <p:spPr>
          <a:xfrm>
            <a:off x="5448240" y="3949560"/>
            <a:ext cx="3299040" cy="2133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"/>
          <p:cNvPicPr/>
          <p:nvPr/>
        </p:nvPicPr>
        <p:blipFill>
          <a:blip r:embed="rId2"/>
          <a:stretch/>
        </p:blipFill>
        <p:spPr>
          <a:xfrm>
            <a:off x="6070680" y="2519280"/>
            <a:ext cx="2127240" cy="1316160"/>
          </a:xfrm>
          <a:prstGeom prst="rect">
            <a:avLst/>
          </a:prstGeom>
          <a:ln w="0">
            <a:noFill/>
          </a:ln>
        </p:spPr>
      </p:pic>
      <p:sp>
        <p:nvSpPr>
          <p:cNvPr id="274" name="9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D2E5FC17-5094-414F-B0DD-94C7463C9BD4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4"/>
          <p:cNvSpPr/>
          <p:nvPr/>
        </p:nvSpPr>
        <p:spPr>
          <a:xfrm>
            <a:off x="412920" y="203688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racterísticas Eléctricas &amp; Aspectos Adi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2"/>
          <p:cNvSpPr/>
          <p:nvPr/>
        </p:nvSpPr>
        <p:spPr>
          <a:xfrm>
            <a:off x="403200" y="1241280"/>
            <a:ext cx="5753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ctos Dir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lasificación según 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20840" y="2514240"/>
            <a:ext cx="420192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 algn="just">
              <a:lnSpc>
                <a:spcPct val="150000"/>
              </a:lnSpc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érdidas en el Núcleo, [W/lb] o [W/K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enden de la magnitud y frecuencia del campo magnético, y agrupa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érdidas por Histér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érdidas de Foucault o por corrientes parási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érdidas por Conducción, (resistencia interlamin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6 Imagen" descr="400px-B-H_loop.png"/>
          <p:cNvPicPr/>
          <p:nvPr/>
        </p:nvPicPr>
        <p:blipFill>
          <a:blip r:embed="rId1"/>
          <a:stretch/>
        </p:blipFill>
        <p:spPr>
          <a:xfrm>
            <a:off x="5319720" y="3936960"/>
            <a:ext cx="3379680" cy="20368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" descr=""/>
          <p:cNvPicPr/>
          <p:nvPr/>
        </p:nvPicPr>
        <p:blipFill>
          <a:blip r:embed="rId2"/>
          <a:stretch/>
        </p:blipFill>
        <p:spPr>
          <a:xfrm>
            <a:off x="6070680" y="2519280"/>
            <a:ext cx="2127240" cy="1316160"/>
          </a:xfrm>
          <a:prstGeom prst="rect">
            <a:avLst/>
          </a:prstGeom>
          <a:ln w="0">
            <a:noFill/>
          </a:ln>
        </p:spPr>
      </p:pic>
      <p:sp>
        <p:nvSpPr>
          <p:cNvPr id="283" name="11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87B0AB29-9F98-4CA5-AD80-FCC44CD51AF0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4"/>
          <p:cNvSpPr/>
          <p:nvPr/>
        </p:nvSpPr>
        <p:spPr>
          <a:xfrm>
            <a:off x="412920" y="203688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racterísticas Eléctricas &amp; Aspectos Adi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2"/>
          <p:cNvSpPr/>
          <p:nvPr/>
        </p:nvSpPr>
        <p:spPr>
          <a:xfrm>
            <a:off x="403200" y="1241280"/>
            <a:ext cx="5753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ctos Dir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lasificación según 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11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DBDF5C42-E1E9-46B9-9E46-9FEF2399E610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1"/>
          <a:stretch/>
        </p:blipFill>
        <p:spPr>
          <a:xfrm>
            <a:off x="1374840" y="2598840"/>
            <a:ext cx="6389640" cy="3463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4"/>
          <p:cNvSpPr/>
          <p:nvPr/>
        </p:nvSpPr>
        <p:spPr>
          <a:xfrm>
            <a:off x="412920" y="203688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racterísticas Eléctricas &amp; Aspectos Adi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403200" y="1241280"/>
            <a:ext cx="5753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ctos Dir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lasificación según 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420480" y="2514600"/>
            <a:ext cx="4383000" cy="3726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 algn="just">
              <a:lnSpc>
                <a:spcPct val="150000"/>
              </a:lnSpc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slación de la Superficie, Recubr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 agrega pues permi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minuir corrientes parási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mentar resistencia interlamin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mentar resistencia al ca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mentar resistencia a la corro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jorar “Punchability” (menos nudos y más vida útil para el materi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5727600" y="2590920"/>
            <a:ext cx="2222640" cy="3409920"/>
          </a:xfrm>
          <a:prstGeom prst="rect">
            <a:avLst/>
          </a:prstGeom>
          <a:ln w="0">
            <a:noFill/>
          </a:ln>
        </p:spPr>
      </p:pic>
      <p:sp>
        <p:nvSpPr>
          <p:cNvPr id="298" name="9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21AFF352-A3EF-40DC-91EE-A1D7AB21D947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4"/>
          <p:cNvSpPr/>
          <p:nvPr/>
        </p:nvSpPr>
        <p:spPr>
          <a:xfrm>
            <a:off x="412920" y="203688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racterísticas Eléctricas &amp; Aspectos Adi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2"/>
          <p:cNvSpPr/>
          <p:nvPr/>
        </p:nvSpPr>
        <p:spPr>
          <a:xfrm>
            <a:off x="403200" y="1241280"/>
            <a:ext cx="5753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ctos Dir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lasificación según 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20480" y="2514600"/>
            <a:ext cx="8389800" cy="3726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 algn="just">
              <a:lnSpc>
                <a:spcPct val="150000"/>
              </a:lnSpc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as Típicas de Dis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 diseño de equipos de potencia que utilicen este material requiere información acerca del comportamiento electromagnético en diversas situaciones de oper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 fabricantes detallan diferentes curvas como resultado de las pruebas sobre los materiales producid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9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EE7B1792-8338-4FBD-92FF-AD89052D55FB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4"/>
          <p:cNvSpPr/>
          <p:nvPr/>
        </p:nvSpPr>
        <p:spPr>
          <a:xfrm>
            <a:off x="412920" y="203688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racterísticas Eléctricas &amp; Aspectos Adi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2"/>
          <p:cNvSpPr/>
          <p:nvPr/>
        </p:nvSpPr>
        <p:spPr>
          <a:xfrm>
            <a:off x="403200" y="1241280"/>
            <a:ext cx="5753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ctos Dir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lasificación según 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420480" y="2514600"/>
            <a:ext cx="8389800" cy="3726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 algn="just">
              <a:lnSpc>
                <a:spcPct val="150000"/>
              </a:lnSpc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as Típicas de Dis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 principales curvas son: (con ancho, densidad de material y frecuencia eléctrica fijas; las unidades varían de acuerdo a las convenciones loca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Peak de Inducción v/s Potencia de excitación (RMS), B[T] v/s [VA/Kg]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Pérdidas de Potencia v/s Peak de Inducción (P[Watt/Kg] v/s B [T]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Magnetización (B[T] v/s H[A/m]), detallando permeabilidad y ciclo de histéres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0" algn="just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veces se detallan curvas para frecuencias más altas, pero esto es menos comú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0" algn="just">
              <a:lnSpc>
                <a:spcPct val="1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9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9D18472D-E395-4B16-B188-50105742AA04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Espace réservé du contenu 2"/>
          <p:cNvSpPr/>
          <p:nvPr/>
        </p:nvSpPr>
        <p:spPr>
          <a:xfrm>
            <a:off x="871560" y="1876320"/>
            <a:ext cx="727056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SzPct val="114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4040"/>
                </a:solidFill>
                <a:latin typeface="Calibri"/>
              </a:rPr>
              <a:t>Orígenes del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SzPct val="114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4040"/>
                </a:solidFill>
                <a:latin typeface="Calibri"/>
              </a:rPr>
              <a:t>Propiedades del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SzPct val="114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4040"/>
                </a:solidFill>
                <a:latin typeface="Calibri"/>
              </a:rPr>
              <a:t>Proceso de P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SzPct val="114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4040"/>
                </a:solidFill>
                <a:latin typeface="Calibri"/>
              </a:rPr>
              <a:t>Productos Directos &amp; Aplicaciones Típ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SzPct val="114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4040"/>
                </a:solidFill>
                <a:latin typeface="Calibri"/>
              </a:rPr>
              <a:t>Proceso de Venta &amp; Estructura del Provee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2 Marcador de pie de página"/>
          <p:cNvSpPr/>
          <p:nvPr/>
        </p:nvSpPr>
        <p:spPr>
          <a:xfrm>
            <a:off x="7972560" y="6464160"/>
            <a:ext cx="10666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8444098E-8B27-4958-9982-DEF21B7D5D3A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9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316080" y="142920"/>
            <a:ext cx="56196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dice de Mate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217440" y="1049040"/>
            <a:ext cx="423864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emplo: Acero Unisil 27H074 AISI 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9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CDFB5585-B61F-4E39-A664-B91700C34259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rcRect l="26548" t="0" r="26787" b="0"/>
          <a:stretch/>
        </p:blipFill>
        <p:spPr>
          <a:xfrm>
            <a:off x="973080" y="1598760"/>
            <a:ext cx="3483000" cy="46638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"/>
          <p:cNvPicPr/>
          <p:nvPr/>
        </p:nvPicPr>
        <p:blipFill>
          <a:blip r:embed="rId2"/>
          <a:srcRect l="27227" t="0" r="26885" b="0"/>
          <a:stretch/>
        </p:blipFill>
        <p:spPr>
          <a:xfrm>
            <a:off x="4572000" y="1596960"/>
            <a:ext cx="3421080" cy="465948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13"/>
          <p:cNvSpPr/>
          <p:nvPr/>
        </p:nvSpPr>
        <p:spPr>
          <a:xfrm>
            <a:off x="5630760" y="4910040"/>
            <a:ext cx="2149560" cy="590760"/>
          </a:xfrm>
          <a:prstGeom prst="rect">
            <a:avLst/>
          </a:prstGeom>
          <a:noFill/>
          <a:ln w="9360">
            <a:solidFill>
              <a:srgbClr val="6e6e6e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90440" indent="-190440" algn="ctr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otencia de Excitación v/s Peak de Induc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3"/>
          <p:cNvSpPr/>
          <p:nvPr/>
        </p:nvSpPr>
        <p:spPr>
          <a:xfrm>
            <a:off x="1995480" y="4902120"/>
            <a:ext cx="2147760" cy="592200"/>
          </a:xfrm>
          <a:prstGeom prst="rect">
            <a:avLst/>
          </a:prstGeom>
          <a:noFill/>
          <a:ln w="9360">
            <a:solidFill>
              <a:srgbClr val="6e6e6e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90440" indent="-190440" algn="ctr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érdidas en el Núcleo v/s Peak de Induc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217440" y="1049040"/>
            <a:ext cx="423864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emplo: Acero Unisil 27H074 AISI 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9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1E2751AD-9243-43AC-AB16-17D831B4F646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2" descr=""/>
          <p:cNvPicPr/>
          <p:nvPr/>
        </p:nvPicPr>
        <p:blipFill>
          <a:blip r:embed="rId1"/>
          <a:srcRect l="8214" t="0" r="8333" b="0"/>
          <a:stretch/>
        </p:blipFill>
        <p:spPr>
          <a:xfrm>
            <a:off x="1393920" y="1569960"/>
            <a:ext cx="6197400" cy="464184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13"/>
          <p:cNvSpPr/>
          <p:nvPr/>
        </p:nvSpPr>
        <p:spPr>
          <a:xfrm>
            <a:off x="2133720" y="5186520"/>
            <a:ext cx="2423880" cy="576000"/>
          </a:xfrm>
          <a:prstGeom prst="rect">
            <a:avLst/>
          </a:prstGeom>
          <a:noFill/>
          <a:ln w="9360">
            <a:solidFill>
              <a:srgbClr val="6e6e6e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90440" indent="-190440" algn="ctr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eak de Inducción v/s Peak de Intensidad de Campo Magnétic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217440" y="1049040"/>
            <a:ext cx="423864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emplo: AISI M4, M5 y M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9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A563B268-6DA6-4F62-B259-590ADD1ED858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" descr=""/>
          <p:cNvPicPr/>
          <p:nvPr/>
        </p:nvPicPr>
        <p:blipFill>
          <a:blip r:embed="rId1"/>
          <a:stretch/>
        </p:blipFill>
        <p:spPr>
          <a:xfrm>
            <a:off x="380880" y="1836720"/>
            <a:ext cx="3289320" cy="35989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4" descr=""/>
          <p:cNvPicPr/>
          <p:nvPr/>
        </p:nvPicPr>
        <p:blipFill>
          <a:blip r:embed="rId2"/>
          <a:stretch/>
        </p:blipFill>
        <p:spPr>
          <a:xfrm>
            <a:off x="3772080" y="1839960"/>
            <a:ext cx="5052960" cy="361008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13"/>
          <p:cNvSpPr/>
          <p:nvPr/>
        </p:nvSpPr>
        <p:spPr>
          <a:xfrm>
            <a:off x="3759120" y="5460840"/>
            <a:ext cx="5051520" cy="373320"/>
          </a:xfrm>
          <a:prstGeom prst="rect">
            <a:avLst/>
          </a:prstGeom>
          <a:noFill/>
          <a:ln w="9360">
            <a:solidFill>
              <a:srgbClr val="6e6e6e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90440" indent="-190440" algn="ctr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eak de Inducción v/s Peak de Intensidad de Campo Magnétic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3"/>
          <p:cNvSpPr/>
          <p:nvPr/>
        </p:nvSpPr>
        <p:spPr>
          <a:xfrm>
            <a:off x="384120" y="5454720"/>
            <a:ext cx="3287880" cy="379440"/>
          </a:xfrm>
          <a:prstGeom prst="rect">
            <a:avLst/>
          </a:prstGeom>
          <a:noFill/>
          <a:ln w="9360">
            <a:solidFill>
              <a:srgbClr val="6e6e6e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90440" indent="-190440" algn="ctr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érdidas en el Núcleo v/s Peak de Induc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217080" y="1049040"/>
            <a:ext cx="600876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emplo: JIS 20JNHF1300; caso de curvas en frecu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9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46DCCF6E-7C68-4026-8D33-198047E0BDD7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3" descr=""/>
          <p:cNvPicPr/>
          <p:nvPr/>
        </p:nvPicPr>
        <p:blipFill>
          <a:blip r:embed="rId1"/>
          <a:stretch/>
        </p:blipFill>
        <p:spPr>
          <a:xfrm>
            <a:off x="2120760" y="1806480"/>
            <a:ext cx="5050080" cy="326412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13"/>
          <p:cNvSpPr/>
          <p:nvPr/>
        </p:nvSpPr>
        <p:spPr>
          <a:xfrm>
            <a:off x="2801880" y="5192640"/>
            <a:ext cx="3773520" cy="627120"/>
          </a:xfrm>
          <a:prstGeom prst="rect">
            <a:avLst/>
          </a:prstGeom>
          <a:noFill/>
          <a:ln w="9360">
            <a:solidFill>
              <a:srgbClr val="6e6e6e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90440" indent="-190440"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eak de Inducción v/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érdidas en el Núcleo para diferen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cuencias eléctricas de ope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9"/>
          <p:cNvSpPr/>
          <p:nvPr/>
        </p:nvSpPr>
        <p:spPr>
          <a:xfrm>
            <a:off x="4552920" y="1930320"/>
            <a:ext cx="4222800" cy="43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A frecuencia utilitaria o mayores, 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manteniendo la dirección del campo magnético fija 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y variando únicamente el sentido se recomienda utilizar el material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d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De Distribu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De Po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De Au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Amplificadores Magnét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Reguladores de Volt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Televisores y Otros Electrodomés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1"/>
          <p:cNvSpPr/>
          <p:nvPr/>
        </p:nvSpPr>
        <p:spPr>
          <a:xfrm>
            <a:off x="403200" y="1125360"/>
            <a:ext cx="818208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plicaciones Típ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áquinas Está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10 Imagen" descr="SDC10560.JPG"/>
          <p:cNvPicPr/>
          <p:nvPr/>
        </p:nvPicPr>
        <p:blipFill>
          <a:blip r:embed="rId1"/>
          <a:stretch/>
        </p:blipFill>
        <p:spPr>
          <a:xfrm>
            <a:off x="458640" y="2082960"/>
            <a:ext cx="3781440" cy="2836800"/>
          </a:xfrm>
          <a:prstGeom prst="rect">
            <a:avLst/>
          </a:prstGeom>
          <a:ln w="0">
            <a:noFill/>
          </a:ln>
        </p:spPr>
      </p:pic>
      <p:pic>
        <p:nvPicPr>
          <p:cNvPr id="351" name="7 Imagen" descr="TY-141P.jpg"/>
          <p:cNvPicPr/>
          <p:nvPr/>
        </p:nvPicPr>
        <p:blipFill>
          <a:blip r:embed="rId2"/>
          <a:stretch/>
        </p:blipFill>
        <p:spPr>
          <a:xfrm>
            <a:off x="2336760" y="458460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352" name="9 Imagen" descr="S6300095a.JPG"/>
          <p:cNvPicPr/>
          <p:nvPr/>
        </p:nvPicPr>
        <p:blipFill>
          <a:blip r:embed="rId3"/>
          <a:stretch/>
        </p:blipFill>
        <p:spPr>
          <a:xfrm>
            <a:off x="839880" y="4317840"/>
            <a:ext cx="1573200" cy="1452600"/>
          </a:xfrm>
          <a:prstGeom prst="rect">
            <a:avLst/>
          </a:prstGeom>
          <a:ln w="0">
            <a:noFill/>
          </a:ln>
        </p:spPr>
      </p:pic>
      <p:sp>
        <p:nvSpPr>
          <p:cNvPr id="353" name="11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C6D0E76D-6EA5-48FC-9F17-08FEECEC62A8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11"/>
          <p:cNvSpPr/>
          <p:nvPr/>
        </p:nvSpPr>
        <p:spPr>
          <a:xfrm>
            <a:off x="403200" y="1241280"/>
            <a:ext cx="818208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ceso de V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veedores y Despa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395280" y="2268360"/>
            <a:ext cx="839772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50000"/>
              </a:lnSpc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incipales Provee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50000"/>
              </a:lnSpc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pa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lnSpc>
                <a:spcPct val="150000"/>
              </a:lnSpc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ormas de Empaque y Transporte &amp; Dimens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lnSpc>
                <a:spcPct val="150000"/>
              </a:lnSpc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cios y Mercado 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7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5271E527-2E81-4A45-BC86-0BD23BC87A63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ceso de Vent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13"/>
          <p:cNvSpPr/>
          <p:nvPr/>
        </p:nvSpPr>
        <p:spPr>
          <a:xfrm>
            <a:off x="457200" y="2514600"/>
            <a:ext cx="38862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90440" indent="-190440"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No exi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Referen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Luis Cárdenas Castillo</a:t>
            </a:r>
            <a:br>
              <a:rPr sz="1400"/>
            </a:b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Investigación, Desarrollo y Asistencia a Clientes</a:t>
            </a:r>
            <a:br>
              <a:rPr sz="1400"/>
            </a:b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Cía. Siderúrgica Huachipato S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C.A.P. S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4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412920" y="203688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incipales 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2"/>
          <p:cNvSpPr/>
          <p:nvPr/>
        </p:nvSpPr>
        <p:spPr>
          <a:xfrm>
            <a:off x="403200" y="1241280"/>
            <a:ext cx="5753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ceso de Ve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veedores &amp; Despa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3"/>
          <p:cNvSpPr/>
          <p:nvPr/>
        </p:nvSpPr>
        <p:spPr>
          <a:xfrm>
            <a:off x="4394160" y="2527200"/>
            <a:ext cx="4305240" cy="34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lvl="1" marL="647640" indent="-190440"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ter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JFE Steel Corporation (Japó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hyssenKrupp Steel (Alemania, sedes en otros países de Europ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K Steel (US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xisten proveedores menores en Brasil y Argentina, en Latinoamér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14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DED8D8DD-D3FD-4E12-ADBC-C2FF3B6A306C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ceso de Vent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13"/>
          <p:cNvSpPr/>
          <p:nvPr/>
        </p:nvSpPr>
        <p:spPr>
          <a:xfrm>
            <a:off x="407880" y="2514600"/>
            <a:ext cx="449424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mpaque &amp; Transp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188640">
              <a:lnSpc>
                <a:spcPct val="150000"/>
              </a:lnSpc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ollos Lamin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412920" y="203688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spa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2"/>
          <p:cNvSpPr/>
          <p:nvPr/>
        </p:nvSpPr>
        <p:spPr>
          <a:xfrm>
            <a:off x="403200" y="1241280"/>
            <a:ext cx="5753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ceso de Ve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veedores &amp; Despa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11 Imagen" descr="almacenamiento1.jpg"/>
          <p:cNvPicPr/>
          <p:nvPr/>
        </p:nvPicPr>
        <p:blipFill>
          <a:blip r:embed="rId1"/>
          <a:stretch/>
        </p:blipFill>
        <p:spPr>
          <a:xfrm>
            <a:off x="4379760" y="2514600"/>
            <a:ext cx="3997440" cy="2239920"/>
          </a:xfrm>
          <a:prstGeom prst="rect">
            <a:avLst/>
          </a:prstGeom>
          <a:ln w="0">
            <a:noFill/>
          </a:ln>
        </p:spPr>
      </p:pic>
      <p:pic>
        <p:nvPicPr>
          <p:cNvPr id="375" name="14 Imagen" descr="Header_ProduktePCLogo.jpg"/>
          <p:cNvPicPr/>
          <p:nvPr/>
        </p:nvPicPr>
        <p:blipFill>
          <a:blip r:embed="rId2"/>
          <a:stretch/>
        </p:blipFill>
        <p:spPr>
          <a:xfrm>
            <a:off x="4842000" y="4643280"/>
            <a:ext cx="3375000" cy="1338480"/>
          </a:xfrm>
          <a:prstGeom prst="rect">
            <a:avLst/>
          </a:prstGeom>
          <a:ln w="0">
            <a:noFill/>
          </a:ln>
        </p:spPr>
      </p:pic>
      <p:pic>
        <p:nvPicPr>
          <p:cNvPr id="376" name="12 Imagen" descr="CRGO-Core-Laminations_250x250.jpg"/>
          <p:cNvPicPr/>
          <p:nvPr/>
        </p:nvPicPr>
        <p:blipFill>
          <a:blip r:embed="rId3"/>
          <a:stretch/>
        </p:blipFill>
        <p:spPr>
          <a:xfrm>
            <a:off x="3086280" y="3801960"/>
            <a:ext cx="1917360" cy="1917720"/>
          </a:xfrm>
          <a:prstGeom prst="rect">
            <a:avLst/>
          </a:prstGeom>
          <a:ln w="0">
            <a:noFill/>
          </a:ln>
        </p:spPr>
      </p:pic>
      <p:sp>
        <p:nvSpPr>
          <p:cNvPr id="377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A62EFB48-2D67-40E4-8E4B-EA37105E6FB7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ceso de Vent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11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3"/>
          <p:cNvSpPr/>
          <p:nvPr/>
        </p:nvSpPr>
        <p:spPr>
          <a:xfrm>
            <a:off x="407880" y="2514600"/>
            <a:ext cx="449424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mpaque &amp; Transp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188640">
              <a:lnSpc>
                <a:spcPct val="150000"/>
              </a:lnSpc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minado Pl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412920" y="203688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spa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13 Imagen" descr="0,0,422,17088,590,512,54d260fd.jpg"/>
          <p:cNvPicPr/>
          <p:nvPr/>
        </p:nvPicPr>
        <p:blipFill>
          <a:blip r:embed="rId1"/>
          <a:stretch/>
        </p:blipFill>
        <p:spPr>
          <a:xfrm>
            <a:off x="4330800" y="2576520"/>
            <a:ext cx="4013280" cy="3483000"/>
          </a:xfrm>
          <a:prstGeom prst="rect">
            <a:avLst/>
          </a:prstGeom>
          <a:ln w="0">
            <a:noFill/>
          </a:ln>
        </p:spPr>
      </p:pic>
      <p:pic>
        <p:nvPicPr>
          <p:cNvPr id="384" name="15 Imagen" descr="Steel_Plate.jpg"/>
          <p:cNvPicPr/>
          <p:nvPr/>
        </p:nvPicPr>
        <p:blipFill>
          <a:blip r:embed="rId2"/>
          <a:stretch/>
        </p:blipFill>
        <p:spPr>
          <a:xfrm>
            <a:off x="2463840" y="3683160"/>
            <a:ext cx="2108160" cy="2108160"/>
          </a:xfrm>
          <a:prstGeom prst="rect">
            <a:avLst/>
          </a:prstGeom>
          <a:ln w="0">
            <a:noFill/>
          </a:ln>
        </p:spPr>
      </p:pic>
      <p:sp>
        <p:nvSpPr>
          <p:cNvPr id="385" name="16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2"/>
          <p:cNvSpPr/>
          <p:nvPr/>
        </p:nvSpPr>
        <p:spPr>
          <a:xfrm>
            <a:off x="403200" y="1241280"/>
            <a:ext cx="5753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ceso de Ve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veedores &amp; Despa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D099E94C-C334-41D3-9656-469CC2B24D13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ceso de Vent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3"/>
          <p:cNvSpPr/>
          <p:nvPr/>
        </p:nvSpPr>
        <p:spPr>
          <a:xfrm>
            <a:off x="407880" y="2514600"/>
            <a:ext cx="491832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men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188640" algn="just">
              <a:lnSpc>
                <a:spcPct val="150000"/>
              </a:lnSpc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Espesor no superior a 0.025‘‘ o 64[mm],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ues en AC las pérdidas por Foucault crecen aprox. con el cuadrado del espesor (en gral. no superan la mitad de este valor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188640" algn="just">
              <a:lnSpc>
                <a:spcPct val="150000"/>
              </a:lnSpc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ámetro Interio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508 [mm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188640" algn="just">
              <a:lnSpc>
                <a:spcPct val="150000"/>
              </a:lnSpc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ámetro Exterio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880 – 1380[mm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188640" algn="just">
              <a:lnSpc>
                <a:spcPct val="150000"/>
              </a:lnSpc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cho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100 – 1000 [mm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188640" algn="just">
              <a:lnSpc>
                <a:spcPct val="150000"/>
              </a:lnSpc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cho proteccione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&gt; 6[mm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188640" algn="just">
              <a:lnSpc>
                <a:spcPct val="150000"/>
              </a:lnSpc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412920" y="203688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spa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16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2"/>
          <p:cNvSpPr/>
          <p:nvPr/>
        </p:nvSpPr>
        <p:spPr>
          <a:xfrm>
            <a:off x="403200" y="1241280"/>
            <a:ext cx="5753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ceso de Ve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veedores &amp; Despa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9A00E32C-5A6D-499F-99BB-C4D5FC7BB6CB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ceso de Vent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3" descr=""/>
          <p:cNvPicPr/>
          <p:nvPr/>
        </p:nvPicPr>
        <p:blipFill>
          <a:blip r:embed="rId1"/>
          <a:stretch/>
        </p:blipFill>
        <p:spPr>
          <a:xfrm>
            <a:off x="5545080" y="2557440"/>
            <a:ext cx="3257640" cy="14907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"/>
          <p:cNvPicPr/>
          <p:nvPr/>
        </p:nvPicPr>
        <p:blipFill>
          <a:blip r:embed="rId2"/>
          <a:stretch/>
        </p:blipFill>
        <p:spPr>
          <a:xfrm>
            <a:off x="6075360" y="4164120"/>
            <a:ext cx="2238480" cy="1873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94920" y="1916280"/>
            <a:ext cx="825804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404040"/>
                </a:solidFill>
                <a:uFillTx/>
                <a:latin typeface="Arial"/>
              </a:rPr>
              <a:t>Materias prima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Arial"/>
              </a:rPr>
              <a:t>Hierr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Elemento abundante en la naturalez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Necesita ser refin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Elemento Ferromagnet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Dúctil y male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Arial"/>
              </a:rPr>
              <a:t>Silici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Semicond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No existe en estado lib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2 Marcador de pie de página"/>
          <p:cNvSpPr/>
          <p:nvPr/>
        </p:nvSpPr>
        <p:spPr>
          <a:xfrm>
            <a:off x="7972560" y="6464160"/>
            <a:ext cx="10666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6C60597C-4DFD-40ED-B5B8-AB604332B5E3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9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16080" y="142920"/>
            <a:ext cx="56196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rígen del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13"/>
          <p:cNvSpPr/>
          <p:nvPr/>
        </p:nvSpPr>
        <p:spPr>
          <a:xfrm>
            <a:off x="407880" y="2514600"/>
            <a:ext cx="840276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ecio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4,500 – 5,500 [USD/ton] (según estadísticas empresas internas, Rhona, Tus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sumen Importaciones Chile (datos según Aduana, datos CI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009 a la fecha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6,972,244 US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9,323,345 US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9,424,673 U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mparación Grandes Empresas nivel mund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1886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yssenKrupp Steel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Sales: 10,747,000,000 [Eur] = 15,045,800,000 [USD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CIF: Costo lugar de orígen +Seguro + Traslado al Destin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4"/>
          <p:cNvSpPr/>
          <p:nvPr/>
        </p:nvSpPr>
        <p:spPr>
          <a:xfrm>
            <a:off x="412920" y="203688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ecios &amp; Mercado 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16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2"/>
          <p:cNvSpPr/>
          <p:nvPr/>
        </p:nvSpPr>
        <p:spPr>
          <a:xfrm>
            <a:off x="403200" y="1241280"/>
            <a:ext cx="5753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ceso de Ve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veedores &amp; Despa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B97B13BC-1AC2-46DE-8F09-15ED4E90CF1A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ceso de Vent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3 Marcador de pie de página"/>
          <p:cNvSpPr/>
          <p:nvPr/>
        </p:nvSpPr>
        <p:spPr>
          <a:xfrm>
            <a:off x="804528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57E258FB-286C-4BF3-9F73-D038E3825F19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4" descr="Hintergrund"/>
          <p:cNvPicPr/>
          <p:nvPr/>
        </p:nvPicPr>
        <p:blipFill>
          <a:blip r:embed="rId1"/>
          <a:srcRect l="0" t="0" r="0" b="7219"/>
          <a:stretch/>
        </p:blipFill>
        <p:spPr>
          <a:xfrm>
            <a:off x="0" y="0"/>
            <a:ext cx="9144000" cy="63644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schatten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0" y="6243480"/>
            <a:ext cx="9144000" cy="12096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7"/>
          <p:cNvSpPr/>
          <p:nvPr/>
        </p:nvSpPr>
        <p:spPr>
          <a:xfrm>
            <a:off x="223920" y="1919160"/>
            <a:ext cx="8677080" cy="12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ile representa menos del 0.06% de las ventas de ThyssenKrupp Steel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7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1 Marcador de pie de página"/>
          <p:cNvSpPr/>
          <p:nvPr/>
        </p:nvSpPr>
        <p:spPr>
          <a:xfrm>
            <a:off x="804528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64787820-87E7-40A8-BEE1-C5DC950FC0F0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7" descr="Hintergr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19"/>
          <p:cNvSpPr/>
          <p:nvPr/>
        </p:nvSpPr>
        <p:spPr>
          <a:xfrm>
            <a:off x="576360" y="4727520"/>
            <a:ext cx="3943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no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oftware and Tools for Microsoft PowerPoi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he website with innovative solu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ave time and money by automating your presenta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22"/>
          <p:cNvSpPr/>
          <p:nvPr/>
        </p:nvSpPr>
        <p:spPr>
          <a:xfrm>
            <a:off x="676440" y="3695760"/>
            <a:ext cx="311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3">
            <a:hlinkClick r:id="rId2"/>
          </p:cNvPr>
          <p:cNvSpPr/>
          <p:nvPr/>
        </p:nvSpPr>
        <p:spPr>
          <a:xfrm>
            <a:off x="561960" y="3859200"/>
            <a:ext cx="369576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5f5f5f"/>
                </a:solidFill>
                <a:latin typeface="Calibri"/>
              </a:rPr>
              <a:t>Ingeniería Civil Eléct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5f5f5f"/>
                </a:solidFill>
                <a:latin typeface="Calibri"/>
              </a:rPr>
              <a:t>U.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5f5f5f"/>
                </a:solidFill>
                <a:latin typeface="Calibri"/>
              </a:rPr>
              <a:t>Taller de Diseño en Potencia </a:t>
            </a:r>
            <a:r>
              <a:rPr b="0" sz="1000" spc="-1" strike="noStrike">
                <a:solidFill>
                  <a:srgbClr val="5f5f5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24"/>
          <p:cNvSpPr/>
          <p:nvPr/>
        </p:nvSpPr>
        <p:spPr>
          <a:xfrm>
            <a:off x="4586400" y="1784520"/>
            <a:ext cx="394308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noAutofit/>
          </a:bodyPr>
          <a:p>
            <a:pPr marL="177840" indent="-177840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resentación preparada por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Felipe Larraí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aula Maldon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Santiag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Septiembre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26">
            <a:hlinkClick r:id="rId3"/>
          </p:cNvPr>
          <p:cNvSpPr/>
          <p:nvPr/>
        </p:nvSpPr>
        <p:spPr>
          <a:xfrm>
            <a:off x="4533840" y="5100480"/>
            <a:ext cx="20671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" descr=""/>
          <p:cNvPicPr/>
          <p:nvPr/>
        </p:nvPicPr>
        <p:blipFill>
          <a:blip r:embed="rId4"/>
          <a:stretch/>
        </p:blipFill>
        <p:spPr>
          <a:xfrm>
            <a:off x="534960" y="457200"/>
            <a:ext cx="3513240" cy="26337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50920" y="1773360"/>
            <a:ext cx="832968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51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Arial"/>
              </a:rPr>
              <a:t>Gran Resis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51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ajas Perdidas de Histér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51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Arial"/>
              </a:rPr>
              <a:t>Menor saturacion por Induc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51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Arial"/>
              </a:rPr>
              <a:t>Disminuye Temperatura de Cu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51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Arial"/>
              </a:rPr>
              <a:t>Baja oxi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51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érdida Máxima en Watt/kg, depende de orientación del gr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9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2 Marcador de pie de página"/>
          <p:cNvSpPr/>
          <p:nvPr/>
        </p:nvSpPr>
        <p:spPr>
          <a:xfrm>
            <a:off x="7972560" y="6464160"/>
            <a:ext cx="10666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111703CA-16B8-4983-9407-3BBF50F4C646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316080" y="142920"/>
            <a:ext cx="56196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Propiedades del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50920" y="1844640"/>
            <a:ext cx="83296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 algn="just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Arial"/>
              </a:rPr>
              <a:t>Preparacion Materias Prim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Extracción del Mineral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Tratamiento del Carbon Mineraliz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Arial"/>
              </a:rPr>
              <a:t>Reducción del materi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Altos hornos </a:t>
            </a:r>
            <a:r>
              <a:rPr b="0" lang="es-ES_tradnl" sz="1600" spc="-1" strike="noStrike">
                <a:solidFill>
                  <a:srgbClr val="404040"/>
                </a:solidFill>
                <a:latin typeface="Arial"/>
              </a:rPr>
              <a:t>=&gt; Arrab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Arial"/>
              </a:rPr>
              <a:t>  </a:t>
            </a:r>
            <a:r>
              <a:rPr b="0" lang="es-ES_tradnl" sz="1600" spc="-1" strike="noStrike">
                <a:solidFill>
                  <a:srgbClr val="404040"/>
                </a:solidFill>
                <a:latin typeface="Arial"/>
              </a:rPr>
              <a:t>- </a:t>
            </a:r>
            <a:r>
              <a:rPr b="0" lang="fr-FR" sz="2000" spc="-1" strike="noStrike">
                <a:solidFill>
                  <a:srgbClr val="404040"/>
                </a:solidFill>
                <a:latin typeface="Arial"/>
              </a:rPr>
              <a:t>Refin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Arial"/>
              </a:rPr>
              <a:t>    </a:t>
            </a:r>
            <a:r>
              <a:rPr b="0" lang="fr-FR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Aceria =&gt;</a:t>
            </a:r>
            <a:r>
              <a:rPr b="0" lang="fr-FR" sz="20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Inyección de Oxige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6227640" y="3357720"/>
            <a:ext cx="2152800" cy="1628640"/>
          </a:xfrm>
          <a:prstGeom prst="rect">
            <a:avLst/>
          </a:prstGeom>
          <a:ln w="0">
            <a:noFill/>
          </a:ln>
        </p:spPr>
      </p:pic>
      <p:sp>
        <p:nvSpPr>
          <p:cNvPr id="201" name="9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2 Marcador de pie de página"/>
          <p:cNvSpPr/>
          <p:nvPr/>
        </p:nvSpPr>
        <p:spPr>
          <a:xfrm>
            <a:off x="7972560" y="6464160"/>
            <a:ext cx="10666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1415FF74-4175-493A-A912-B20ABBF464BD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316080" y="142920"/>
            <a:ext cx="56196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Proceso de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3" descr=""/>
          <p:cNvPicPr/>
          <p:nvPr/>
        </p:nvPicPr>
        <p:blipFill>
          <a:blip r:embed="rId1"/>
          <a:srcRect l="12382" t="18723" r="16315" b="21082"/>
          <a:stretch/>
        </p:blipFill>
        <p:spPr>
          <a:xfrm>
            <a:off x="4643280" y="2205000"/>
            <a:ext cx="4175280" cy="3338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"/>
          <p:cNvPicPr/>
          <p:nvPr/>
        </p:nvPicPr>
        <p:blipFill>
          <a:blip r:embed="rId2"/>
          <a:srcRect l="11839" t="26099" r="16917" b="15061"/>
          <a:stretch/>
        </p:blipFill>
        <p:spPr>
          <a:xfrm>
            <a:off x="250920" y="2276640"/>
            <a:ext cx="4033800" cy="3227400"/>
          </a:xfrm>
          <a:prstGeom prst="rect">
            <a:avLst/>
          </a:prstGeom>
          <a:ln w="0">
            <a:noFill/>
          </a:ln>
        </p:spPr>
      </p:pic>
      <p:sp>
        <p:nvSpPr>
          <p:cNvPr id="207" name="9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2 Marcador de pie de página"/>
          <p:cNvSpPr/>
          <p:nvPr/>
        </p:nvSpPr>
        <p:spPr>
          <a:xfrm>
            <a:off x="7972560" y="6464160"/>
            <a:ext cx="10666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E11418FB-3FF8-4EA9-BF71-15DBB4E9710C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316080" y="142920"/>
            <a:ext cx="56196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Proceso de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"/>
          <p:cNvPicPr/>
          <p:nvPr/>
        </p:nvPicPr>
        <p:blipFill>
          <a:blip r:embed="rId1"/>
          <a:srcRect l="12884" t="19521" r="16020" b="17926"/>
          <a:stretch/>
        </p:blipFill>
        <p:spPr>
          <a:xfrm>
            <a:off x="755640" y="1700280"/>
            <a:ext cx="4535640" cy="3570120"/>
          </a:xfrm>
          <a:prstGeom prst="rect">
            <a:avLst/>
          </a:prstGeom>
          <a:ln w="0">
            <a:noFill/>
          </a:ln>
        </p:spPr>
      </p:pic>
      <p:sp>
        <p:nvSpPr>
          <p:cNvPr id="212" name="9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2"/>
          <a:srcRect l="10271" t="26055" r="18632" b="24530"/>
          <a:stretch/>
        </p:blipFill>
        <p:spPr>
          <a:xfrm>
            <a:off x="3564000" y="3935520"/>
            <a:ext cx="5256000" cy="2922480"/>
          </a:xfrm>
          <a:prstGeom prst="rect">
            <a:avLst/>
          </a:prstGeom>
          <a:ln w="0">
            <a:noFill/>
          </a:ln>
        </p:spPr>
      </p:pic>
      <p:sp>
        <p:nvSpPr>
          <p:cNvPr id="214" name="2 Marcador de pie de página"/>
          <p:cNvSpPr/>
          <p:nvPr/>
        </p:nvSpPr>
        <p:spPr>
          <a:xfrm>
            <a:off x="7972560" y="6464160"/>
            <a:ext cx="10666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C1F123BB-D23A-43CF-8A5A-813102CCF54A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316080" y="142920"/>
            <a:ext cx="56196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Proceso de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2 Marcador de pie de página"/>
          <p:cNvSpPr/>
          <p:nvPr/>
        </p:nvSpPr>
        <p:spPr>
          <a:xfrm>
            <a:off x="7972560" y="6464160"/>
            <a:ext cx="10666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7FC108A5-1F57-4B7B-9EA9-C781F940D547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4552920" y="2249640"/>
            <a:ext cx="4222800" cy="32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aracterísticas Mecán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Características Eléctricas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spectos Adi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Conjunto de características definidas bajo estricto cumplimiento de diversas especificaciones técnicas: ISO/IEC (internacional), AISI (Usa), JIS (Japón), BS (Inglaterra), DIN (Alemania), entre las princip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403200" y="1241280"/>
            <a:ext cx="818208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ductos Dir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lasificación según 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8 Imagen" descr="Level_Wound_Coil.jpg"/>
          <p:cNvPicPr/>
          <p:nvPr/>
        </p:nvPicPr>
        <p:blipFill>
          <a:blip r:embed="rId1"/>
          <a:stretch/>
        </p:blipFill>
        <p:spPr>
          <a:xfrm>
            <a:off x="476280" y="2247840"/>
            <a:ext cx="3892680" cy="3678120"/>
          </a:xfrm>
          <a:prstGeom prst="rect">
            <a:avLst/>
          </a:prstGeom>
          <a:ln w="0">
            <a:noFill/>
          </a:ln>
        </p:spPr>
      </p:pic>
      <p:sp>
        <p:nvSpPr>
          <p:cNvPr id="222" name="9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17 Rectángulo"/>
          <p:cNvSpPr/>
          <p:nvPr/>
        </p:nvSpPr>
        <p:spPr>
          <a:xfrm>
            <a:off x="571680" y="5067360"/>
            <a:ext cx="3022560" cy="406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bdbdb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407880" y="2514600"/>
            <a:ext cx="449424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ma y Tama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50000"/>
              </a:lnSpc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Rectangular Simp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50000"/>
              </a:lnSpc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Rectangular con Orif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50000"/>
              </a:lnSpc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A medida, Tamaño &amp; Fo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50000"/>
              </a:lnSpc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Combinaciones con orificios y dimensio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spesor por Lámina [mm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nsidad [g/cm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12920" y="203688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racterísticas Mecán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403200" y="1241280"/>
            <a:ext cx="5753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ctos Dir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lasificación según 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8 Imagen" descr="crno-20electrical-20laminations_10564775.jpg"/>
          <p:cNvPicPr/>
          <p:nvPr/>
        </p:nvPicPr>
        <p:blipFill>
          <a:blip r:embed="rId1"/>
          <a:stretch/>
        </p:blipFill>
        <p:spPr>
          <a:xfrm>
            <a:off x="5176800" y="3962520"/>
            <a:ext cx="1998720" cy="1998720"/>
          </a:xfrm>
          <a:prstGeom prst="rect">
            <a:avLst/>
          </a:prstGeom>
          <a:ln w="0">
            <a:noFill/>
          </a:ln>
        </p:spPr>
      </p:pic>
      <p:pic>
        <p:nvPicPr>
          <p:cNvPr id="229" name="13 Imagen" descr="Wound_Cores.jpg"/>
          <p:cNvPicPr/>
          <p:nvPr/>
        </p:nvPicPr>
        <p:blipFill>
          <a:blip r:embed="rId2"/>
          <a:stretch/>
        </p:blipFill>
        <p:spPr>
          <a:xfrm>
            <a:off x="7023240" y="4165560"/>
            <a:ext cx="1587240" cy="1587600"/>
          </a:xfrm>
          <a:prstGeom prst="rect">
            <a:avLst/>
          </a:prstGeom>
          <a:ln w="0">
            <a:noFill/>
          </a:ln>
        </p:spPr>
      </p:pic>
      <p:pic>
        <p:nvPicPr>
          <p:cNvPr id="230" name="15 Imagen" descr="Pad_Printing_Steel_Plate.jpg"/>
          <p:cNvPicPr/>
          <p:nvPr/>
        </p:nvPicPr>
        <p:blipFill>
          <a:blip r:embed="rId3"/>
          <a:stretch/>
        </p:blipFill>
        <p:spPr>
          <a:xfrm>
            <a:off x="6832440" y="2717640"/>
            <a:ext cx="1986120" cy="1489320"/>
          </a:xfrm>
          <a:prstGeom prst="rect">
            <a:avLst/>
          </a:prstGeom>
          <a:ln w="0">
            <a:noFill/>
          </a:ln>
        </p:spPr>
      </p:pic>
      <p:pic>
        <p:nvPicPr>
          <p:cNvPr id="231" name="16 Imagen" descr="2008070310383373499.gif"/>
          <p:cNvPicPr/>
          <p:nvPr/>
        </p:nvPicPr>
        <p:blipFill>
          <a:blip r:embed="rId4"/>
          <a:stretch/>
        </p:blipFill>
        <p:spPr>
          <a:xfrm>
            <a:off x="5429160" y="2540160"/>
            <a:ext cx="1441440" cy="1441440"/>
          </a:xfrm>
          <a:prstGeom prst="rect">
            <a:avLst/>
          </a:prstGeom>
          <a:ln w="0">
            <a:noFill/>
          </a:ln>
        </p:spPr>
      </p:pic>
      <p:sp>
        <p:nvSpPr>
          <p:cNvPr id="232" name="21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2 Marcador de pie de página"/>
          <p:cNvSpPr/>
          <p:nvPr/>
        </p:nvSpPr>
        <p:spPr>
          <a:xfrm>
            <a:off x="7972560" y="6464160"/>
            <a:ext cx="10666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2BACD666-3DDD-4319-9831-3807E59B62E1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6:03:16Z</dcterms:created>
  <dc:creator>PresentationPoint</dc:creator>
  <dc:description/>
  <dc:language>en-US</dc:language>
  <cp:lastModifiedBy> Alberto Botteselle Doggenweiler</cp:lastModifiedBy>
  <cp:lastPrinted>2005-03-15T07:48:11Z</cp:lastPrinted>
  <dcterms:modified xsi:type="dcterms:W3CDTF">2009-09-22T18:21:16Z</dcterms:modified>
  <cp:revision>587</cp:revision>
  <dc:subject/>
  <dc:title>Metal Silv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PPL_Language">
    <vt:r8>1031</vt:r8>
  </property>
</Properties>
</file>