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4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5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F1AF00-1D21-41A9-9131-8D57025ACE3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12E257-5B18-4994-A30F-5895B8576F7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CD041B-8A93-4AAF-AE5C-F8C3D2F676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2626D9-393D-4D41-8163-8F2C8B7682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BFA3C8-9D9D-471F-9B1A-71D624CAB75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A3B5D0-676E-4C7D-B9F9-8805F037CD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1DBCEF-8301-4A34-B098-4DB3A9B4668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317F00-0C52-435F-ABA3-6CCD5381CA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D2E59F-CED1-4544-B509-79F076E9E44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6868FC-66E6-428E-AFFD-0B4CBAB854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B99C2E-7797-4575-9ED6-F7B844A7A2D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32B1AF-872F-428A-B212-2F6344C3907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3BCBD4-185A-4DFF-9292-69CA4ACB818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059831-7EC9-4F51-B4B5-2B68303FF2B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35BED4-9617-4C56-8E98-62F37E419EC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DC0DFD-1E8E-4533-BDF0-65CF2FB7CB6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AFD7B1-C71D-4E79-B81F-2CB69915FAB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CA5BD5-BA19-4393-B128-FCDF79673D0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C37EA9-1AD7-44C6-9FB0-B06491362A4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D4D400-439D-4EB8-A1F2-BB632511B70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C6D76D-C01E-4996-A30B-6899B2F330C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ierro, se refina con carbono, es encontrado con muchas impurezas, dificil encontrarlo en estado p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licio, se encuentra como silice, y se ref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utilizado en la elec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E85CAB-5BFD-4AC0-8A32-E0E69AE61CB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C168DC-0D97-41D2-91D4-D6AB0CE3E5E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D81C4B-92CC-471B-9D7B-C3D3CC97446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o es todo gracias al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tiene alta resistividad  disminuye las corrientes parasitari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 reduce las perdias, esto ayuda a  que  sea requerido porque  de  este modo se reducen los tamaños en los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como tiene  baja oxidacion  tambien le aumenta la vida util a 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la aceria se elimina el azufre del acero, este es retenido en la esc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rtidores de oxi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sta fase se refina el arrabio inyectando oxígeno de alta pureza, se ajusta el contenido de carbono y se agregan ferroaleaciones que aportan las características básicas de cada tipo de ac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pues viene la etapa de laminación, la cual es primero   en planc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uego  viene laminacion en frio, este es un proceso mas mecánico,  por lo queno se  usa en planchas de mas de 4mm de espe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4C7C20-F398-4E85-8338-122E7BF193C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A366F7-20D1-4BC7-91B7-59205A9FFE1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3C38254-7D4C-4204-B1CC-215F6E0AF7A3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AAB389B-158C-45AE-8AFE-C9BBE6D47CB0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point.de/" TargetMode="External"/><Relationship Id="rId3" Type="http://schemas.openxmlformats.org/officeDocument/2006/relationships/hyperlink" Target="http://www.ppt-vorlagen.de/" TargetMode="Externa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mbria"/>
              </a:rPr>
              <a:t>Acero Silicoso de Grano Orienta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elipe Larra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aula Mald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978520" y="5999040"/>
            <a:ext cx="2932200" cy="7732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57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ller de Diseñ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49424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ongació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eza [Rockwell 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 de Deformación Plástica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stencia a la Tracción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Tolerancias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40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41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42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43" name="10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D255466-D643-4EEB-B814-F684557EA41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5F74DA8-80AC-4DDA-A287-0ABB8B8F7AB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1157400" y="2898720"/>
            <a:ext cx="69148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10 Imagen" descr="Dibujo.jpg"/>
          <p:cNvPicPr/>
          <p:nvPr/>
        </p:nvPicPr>
        <p:blipFill>
          <a:blip r:embed="rId1"/>
          <a:stretch/>
        </p:blipFill>
        <p:spPr>
          <a:xfrm>
            <a:off x="1197000" y="2616120"/>
            <a:ext cx="2130480" cy="3505320"/>
          </a:xfrm>
          <a:prstGeom prst="rect">
            <a:avLst/>
          </a:prstGeom>
          <a:ln w="0">
            <a:noFill/>
          </a:ln>
        </p:spPr>
      </p:pic>
      <p:pic>
        <p:nvPicPr>
          <p:cNvPr id="257" name="12 Imagen" descr="tabla2.jpg"/>
          <p:cNvPicPr/>
          <p:nvPr/>
        </p:nvPicPr>
        <p:blipFill>
          <a:blip r:embed="rId2"/>
          <a:stretch/>
        </p:blipFill>
        <p:spPr>
          <a:xfrm>
            <a:off x="4014720" y="2552760"/>
            <a:ext cx="36734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586CDDD0-DAF8-4A49-A2B9-B44F1830AC3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20480" y="2514240"/>
            <a:ext cx="830412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uniformidad en la especificación, producción y compra venta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 acero eléctrico es primariamente identificado por sus pérdidas en el núcl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Iron and Steel In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ISI) asignó como nomenclatura, ahora internacionalmente aceptada, la M – x, donde M refiere a “magnético” y x indica numéricamente el grado de pérdidas; mientras menor sea el número, menores las pérd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6BAEC4F-5981-4CE0-A083-BD65C3661D3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8 Imagen" descr="BHCurve.gif"/>
          <p:cNvPicPr/>
          <p:nvPr/>
        </p:nvPicPr>
        <p:blipFill>
          <a:blip r:embed="rId1"/>
          <a:stretch/>
        </p:blipFill>
        <p:spPr>
          <a:xfrm>
            <a:off x="5448240" y="3949560"/>
            <a:ext cx="3299040" cy="213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74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4C5CE4E-722E-44C0-8633-22AB1AB56A9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400px-B-H_loop.png"/>
          <p:cNvPicPr/>
          <p:nvPr/>
        </p:nvPicPr>
        <p:blipFill>
          <a:blip r:embed="rId1"/>
          <a:stretch/>
        </p:blipFill>
        <p:spPr>
          <a:xfrm>
            <a:off x="5319720" y="3936960"/>
            <a:ext cx="3379680" cy="2036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8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88CE6B8-F356-4C1E-B235-7DBFF486703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89033FA-5385-4D3E-A232-41AE04E3D57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374840" y="2598840"/>
            <a:ext cx="638964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4383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ción de la Superficie, Re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agrega pues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minui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interla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 la cor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jorar “Punchability” (menos nudos y más vida útil para el mate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27600" y="2590920"/>
            <a:ext cx="2222640" cy="3409920"/>
          </a:xfrm>
          <a:prstGeom prst="rect">
            <a:avLst/>
          </a:prstGeom>
          <a:ln w="0">
            <a:noFill/>
          </a:ln>
        </p:spPr>
      </p:pic>
      <p:sp>
        <p:nvSpPr>
          <p:cNvPr id="298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E0C57B2-B07B-4919-8117-36154F85DD5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seño de equipos de potencia que utilicen este material requiere información acerca del comportamiento electromagnético en diversas situaciones de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fabricantes detallan diferentes curvas como resultado de las pruebas sobre los materiales produ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E7FCE54-1FEE-41CA-AF6D-F510ABE127B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principales curvas son: (con ancho, densidad de material y frecuencia eléctrica fijas; las unidades varían de acuerdo a las convenciones loc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eak de Inducción v/s Potencia de excitación (RMS), B[T] v/s [VA/Kg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érdidas de Potencia v/s Peak de Inducción (P[Watt/Kg] v/s B [T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agnetización (B[T] v/s H[A/m]), detallando permeabilidad y ciclo de histére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eces se detallan curvas para frecuencias más altas, pero esto es menos comú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F020E84-7F25-4CDE-B578-B135A0FD1FD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contenu 2"/>
          <p:cNvSpPr/>
          <p:nvPr/>
        </p:nvSpPr>
        <p:spPr>
          <a:xfrm>
            <a:off x="871560" y="1876320"/>
            <a:ext cx="7270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Orígen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piedad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ductos Directos &amp; Aplicaciones Tí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Venta &amp; Estructura del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797C374-61CE-4E5D-A39D-7D6FAFEB529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e de 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64CD1E9E-7AFB-44A7-8A0A-0C6D797C2FF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rcRect l="26548" t="0" r="26787" b="0"/>
          <a:stretch/>
        </p:blipFill>
        <p:spPr>
          <a:xfrm>
            <a:off x="973080" y="1598760"/>
            <a:ext cx="3483000" cy="4663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rcRect l="27227" t="0" r="26885" b="0"/>
          <a:stretch/>
        </p:blipFill>
        <p:spPr>
          <a:xfrm>
            <a:off x="4572000" y="1596960"/>
            <a:ext cx="3421080" cy="465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5630760" y="4910040"/>
            <a:ext cx="2149560" cy="59076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tencia de Excitación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1995480" y="4902120"/>
            <a:ext cx="2147760" cy="5922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2CE548A-13EF-4EE1-81DC-EA890B78AC4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8214" t="0" r="8333" b="0"/>
          <a:stretch/>
        </p:blipFill>
        <p:spPr>
          <a:xfrm>
            <a:off x="1393920" y="1569960"/>
            <a:ext cx="6197400" cy="4641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3"/>
          <p:cNvSpPr/>
          <p:nvPr/>
        </p:nvSpPr>
        <p:spPr>
          <a:xfrm>
            <a:off x="2133720" y="5186520"/>
            <a:ext cx="2423880" cy="5760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ISI M4, M5 y 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A437944-1A47-4535-A768-CDD4132F2E4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380880" y="1836720"/>
            <a:ext cx="3289320" cy="359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3772080" y="1839960"/>
            <a:ext cx="5052960" cy="3610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3"/>
          <p:cNvSpPr/>
          <p:nvPr/>
        </p:nvSpPr>
        <p:spPr>
          <a:xfrm>
            <a:off x="3759120" y="5460840"/>
            <a:ext cx="5051520" cy="3733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84120" y="5454720"/>
            <a:ext cx="3287880" cy="37944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7080" y="1049040"/>
            <a:ext cx="60087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JIS 20JNHF1300; caso de curvas en frecu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D73E66E-FD80-4123-9AE0-30F9CBA95D0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2120760" y="1806480"/>
            <a:ext cx="5050080" cy="32641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2801880" y="5192640"/>
            <a:ext cx="3773520" cy="6271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érdidas en el Núcleo para difer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cuencias eléctricas de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552920" y="1930320"/>
            <a:ext cx="42228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 frecuencia utilitaria o mayores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nteniendo la dirección del campo magnético fija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y variando únicamente el sentido se recomienda utilizar el materia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mplificadores Mag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guladores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elevisores y Otros Electrodomé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403200" y="112536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áquinas Est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10 Imagen" descr="SDC10560.JPG"/>
          <p:cNvPicPr/>
          <p:nvPr/>
        </p:nvPicPr>
        <p:blipFill>
          <a:blip r:embed="rId1"/>
          <a:stretch/>
        </p:blipFill>
        <p:spPr>
          <a:xfrm>
            <a:off x="458640" y="2082960"/>
            <a:ext cx="3781440" cy="2836800"/>
          </a:xfrm>
          <a:prstGeom prst="rect">
            <a:avLst/>
          </a:prstGeom>
          <a:ln w="0">
            <a:noFill/>
          </a:ln>
        </p:spPr>
      </p:pic>
      <p:pic>
        <p:nvPicPr>
          <p:cNvPr id="351" name="7 Imagen" descr="TY-141P.jpg"/>
          <p:cNvPicPr/>
          <p:nvPr/>
        </p:nvPicPr>
        <p:blipFill>
          <a:blip r:embed="rId2"/>
          <a:stretch/>
        </p:blipFill>
        <p:spPr>
          <a:xfrm>
            <a:off x="2336760" y="458460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S6300095a.JPG"/>
          <p:cNvPicPr/>
          <p:nvPr/>
        </p:nvPicPr>
        <p:blipFill>
          <a:blip r:embed="rId3"/>
          <a:stretch/>
        </p:blipFill>
        <p:spPr>
          <a:xfrm>
            <a:off x="839880" y="4317840"/>
            <a:ext cx="1573200" cy="1452600"/>
          </a:xfrm>
          <a:prstGeom prst="rect">
            <a:avLst/>
          </a:prstGeom>
          <a:ln w="0">
            <a:noFill/>
          </a:ln>
        </p:spPr>
      </p:pic>
      <p:sp>
        <p:nvSpPr>
          <p:cNvPr id="35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2B67682-BFF5-4746-8B7C-7195F62CA9A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y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95280" y="2268360"/>
            <a:ext cx="8397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as de Empaque y Transporte &amp;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s y Mercad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3021B10-97D9-4AE1-A038-6C11405C141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3"/>
          <p:cNvSpPr/>
          <p:nvPr/>
        </p:nvSpPr>
        <p:spPr>
          <a:xfrm>
            <a:off x="457200" y="2514600"/>
            <a:ext cx="3886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Luis Cárdenas Castillo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Investigación, Desarrollo y Asistencia a Clientes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ía. Siderúrgica Huachipato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.A.P.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4394160" y="2527200"/>
            <a:ext cx="43052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6476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FE Steel Corporation (Jap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hyssenKrupp Steel (Alemania, sedes en otros países de Euro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K Steel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 proveedores menores en Brasil y Argentina, en Latino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2C778A1-B6AD-4034-80FB-C678CEB4AC8D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llos L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11 Imagen" descr="almacenamiento1.jpg"/>
          <p:cNvPicPr/>
          <p:nvPr/>
        </p:nvPicPr>
        <p:blipFill>
          <a:blip r:embed="rId1"/>
          <a:stretch/>
        </p:blipFill>
        <p:spPr>
          <a:xfrm>
            <a:off x="4379760" y="2514600"/>
            <a:ext cx="3997440" cy="2239920"/>
          </a:xfrm>
          <a:prstGeom prst="rect">
            <a:avLst/>
          </a:prstGeom>
          <a:ln w="0">
            <a:noFill/>
          </a:ln>
        </p:spPr>
      </p:pic>
      <p:pic>
        <p:nvPicPr>
          <p:cNvPr id="375" name="14 Imagen" descr="Header_ProduktePCLogo.jpg"/>
          <p:cNvPicPr/>
          <p:nvPr/>
        </p:nvPicPr>
        <p:blipFill>
          <a:blip r:embed="rId2"/>
          <a:stretch/>
        </p:blipFill>
        <p:spPr>
          <a:xfrm>
            <a:off x="4842000" y="4643280"/>
            <a:ext cx="3375000" cy="1338480"/>
          </a:xfrm>
          <a:prstGeom prst="rect">
            <a:avLst/>
          </a:prstGeom>
          <a:ln w="0">
            <a:noFill/>
          </a:ln>
        </p:spPr>
      </p:pic>
      <p:pic>
        <p:nvPicPr>
          <p:cNvPr id="376" name="12 Imagen" descr="CRGO-Core-Laminations_250x250.jpg"/>
          <p:cNvPicPr/>
          <p:nvPr/>
        </p:nvPicPr>
        <p:blipFill>
          <a:blip r:embed="rId3"/>
          <a:stretch/>
        </p:blipFill>
        <p:spPr>
          <a:xfrm>
            <a:off x="3086280" y="3801960"/>
            <a:ext cx="1917360" cy="1917720"/>
          </a:xfrm>
          <a:prstGeom prst="rect">
            <a:avLst/>
          </a:prstGeom>
          <a:ln w="0">
            <a:noFill/>
          </a:ln>
        </p:spPr>
      </p:pic>
      <p:sp>
        <p:nvSpPr>
          <p:cNvPr id="37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E5245B9-2EBF-43ED-BB4F-B7143BE4D08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minado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13 Imagen" descr="0,0,422,17088,590,512,54d260fd.jpg"/>
          <p:cNvPicPr/>
          <p:nvPr/>
        </p:nvPicPr>
        <p:blipFill>
          <a:blip r:embed="rId1"/>
          <a:stretch/>
        </p:blipFill>
        <p:spPr>
          <a:xfrm>
            <a:off x="4330800" y="2576520"/>
            <a:ext cx="4013280" cy="3483000"/>
          </a:xfrm>
          <a:prstGeom prst="rect">
            <a:avLst/>
          </a:prstGeom>
          <a:ln w="0">
            <a:noFill/>
          </a:ln>
        </p:spPr>
      </p:pic>
      <p:pic>
        <p:nvPicPr>
          <p:cNvPr id="384" name="15 Imagen" descr="Steel_Plate.jpg"/>
          <p:cNvPicPr/>
          <p:nvPr/>
        </p:nvPicPr>
        <p:blipFill>
          <a:blip r:embed="rId2"/>
          <a:stretch/>
        </p:blipFill>
        <p:spPr>
          <a:xfrm>
            <a:off x="2463840" y="3683160"/>
            <a:ext cx="2108160" cy="2108160"/>
          </a:xfrm>
          <a:prstGeom prst="rect">
            <a:avLst/>
          </a:prstGeom>
          <a:ln w="0">
            <a:noFill/>
          </a:ln>
        </p:spPr>
      </p:pic>
      <p:sp>
        <p:nvSpPr>
          <p:cNvPr id="385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3B447BC-4910-437F-8A63-D81302A72EED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407880" y="2514600"/>
            <a:ext cx="49183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spesor no superior a 0.025‘‘ o 64[mm]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es en AC las pérdidas por Foucault crecen aprox. con el cuadrado del espesor (en gral. no superan la mitad de este val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In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508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Ex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880 – 1380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00 – 1000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 proteccion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&gt; 6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51D6DE8-7158-475B-9D1E-52E0EE75E075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545080" y="2557440"/>
            <a:ext cx="3257640" cy="149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6075360" y="4164120"/>
            <a:ext cx="22384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1916280"/>
            <a:ext cx="82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404040"/>
                </a:solidFill>
                <a:uFillTx/>
                <a:latin typeface="Arial"/>
              </a:rPr>
              <a:t>Materias pri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Hier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abundante en la naturale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ecesita ser ref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Ferromagn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Dúctil y mal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Sil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o existe en estado l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D929180-D0BE-44F8-8F7F-6F8F8FE6B28B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ígen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07880" y="2514600"/>
            <a:ext cx="84027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4,500 – 5,500 [USD/ton] (según estadísticas empresas internas, Rhona, Tus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men Importaciones Chile (datos según Aduana, datos CI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9 a la fech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6,972,244 US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323,345 U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424,673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ación Grandes Empresas nivel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yssenKrupp Ste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ales: 10,747,000,000 [Eur] = 15,045,800,000 [US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CIF: Costo lugar de orígen +Seguro + Traslado al Dest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cios &amp; Mercado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3D0D8D7-94BB-4520-AD3F-A4C94B95C8A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3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976C8EF-BD7C-4F3C-B5C3-E45C895DA9A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 representa menos del 0.06% de las ventas de ThyssenKrupp Ste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1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FD1552A-F665-4E4C-A6CA-CC46D1CC8F5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3">
            <a:hlinkClick r:id="rId2"/>
          </p:cNvPr>
          <p:cNvSpPr/>
          <p:nvPr/>
        </p:nvSpPr>
        <p:spPr>
          <a:xfrm>
            <a:off x="561960" y="3859200"/>
            <a:ext cx="3695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Ingeniería Civil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Taller de Diseño en Potencia </a:t>
            </a:r>
            <a:r>
              <a:rPr b="0" sz="1000" spc="-1" strike="noStrike">
                <a:solidFill>
                  <a:srgbClr val="5f5f5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entación preparada p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lipe Larraí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ula Mald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antiag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eptiembr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>
            <a:hlinkClick r:id="rId3"/>
          </p:cNvPr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4"/>
          <a:stretch/>
        </p:blipFill>
        <p:spPr>
          <a:xfrm>
            <a:off x="534960" y="457200"/>
            <a:ext cx="351324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773360"/>
            <a:ext cx="83296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Gran Resis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as Perdidas de Histé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Menor saturacion por Ind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Disminuye Temperatura d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Baja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Máxima en Watt/kg, depende de orientación del g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8C6B7E3-DCFF-4D59-87A4-6295A1D79E6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piedades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84464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Preparacion Materias Pr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xtracción del Miner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Tratamiento del Carbon Miner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ducción del mater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ltos hornos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=&gt; Arra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f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ceria =&gt;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Inyección de Oxi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152800" cy="1628640"/>
          </a:xfrm>
          <a:prstGeom prst="rect">
            <a:avLst/>
          </a:prstGeom>
          <a:ln w="0">
            <a:noFill/>
          </a:ln>
        </p:spPr>
      </p:pic>
      <p:sp>
        <p:nvSpPr>
          <p:cNvPr id="20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0046225-1C9F-471A-A205-84844B2A623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12382" t="18723" r="16315" b="21082"/>
          <a:stretch/>
        </p:blipFill>
        <p:spPr>
          <a:xfrm>
            <a:off x="4643280" y="2205000"/>
            <a:ext cx="4175280" cy="333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rcRect l="11839" t="26099" r="16917" b="15061"/>
          <a:stretch/>
        </p:blipFill>
        <p:spPr>
          <a:xfrm>
            <a:off x="250920" y="2276640"/>
            <a:ext cx="4033800" cy="3227400"/>
          </a:xfrm>
          <a:prstGeom prst="rect">
            <a:avLst/>
          </a:prstGeom>
          <a:ln w="0">
            <a:noFill/>
          </a:ln>
        </p:spPr>
      </p:pic>
      <p:sp>
        <p:nvSpPr>
          <p:cNvPr id="20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83E6040-46BE-4B07-B926-9210CCB2877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rcRect l="12884" t="19521" r="16020" b="17926"/>
          <a:stretch/>
        </p:blipFill>
        <p:spPr>
          <a:xfrm>
            <a:off x="755640" y="1700280"/>
            <a:ext cx="4535640" cy="3570120"/>
          </a:xfrm>
          <a:prstGeom prst="rect">
            <a:avLst/>
          </a:prstGeom>
          <a:ln w="0">
            <a:noFill/>
          </a:ln>
        </p:spPr>
      </p:pic>
      <p:sp>
        <p:nvSpPr>
          <p:cNvPr id="2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10271" t="26055" r="18632" b="24530"/>
          <a:stretch/>
        </p:blipFill>
        <p:spPr>
          <a:xfrm>
            <a:off x="3564000" y="3935520"/>
            <a:ext cx="5256000" cy="2922480"/>
          </a:xfrm>
          <a:prstGeom prst="rect">
            <a:avLst/>
          </a:prstGeom>
          <a:ln w="0">
            <a:noFill/>
          </a:ln>
        </p:spPr>
      </p:pic>
      <p:sp>
        <p:nvSpPr>
          <p:cNvPr id="21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1836A23-E102-4486-86C8-D0FAC8127A1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F997316-D4D2-4B65-83C4-E32648254D0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52920" y="2249640"/>
            <a:ext cx="42228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Eléctrica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njunto de características definidas bajo estricto cumplimiento de diversas especificaciones técnicas: ISO/IEC (internacional), AISI (Usa), JIS (Japón), BS (Inglaterra), DIN (Alemania), entre las princip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8 Imagen" descr="Level_Wound_Coil.jpg"/>
          <p:cNvPicPr/>
          <p:nvPr/>
        </p:nvPicPr>
        <p:blipFill>
          <a:blip r:embed="rId1"/>
          <a:stretch/>
        </p:blipFill>
        <p:spPr>
          <a:xfrm>
            <a:off x="476280" y="2247840"/>
            <a:ext cx="3892680" cy="3678120"/>
          </a:xfrm>
          <a:prstGeom prst="rect">
            <a:avLst/>
          </a:prstGeom>
          <a:ln w="0">
            <a:noFill/>
          </a:ln>
        </p:spPr>
      </p:pic>
      <p:sp>
        <p:nvSpPr>
          <p:cNvPr id="22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7 Rectángulo"/>
          <p:cNvSpPr/>
          <p:nvPr/>
        </p:nvSpPr>
        <p:spPr>
          <a:xfrm>
            <a:off x="571680" y="5067360"/>
            <a:ext cx="3022560" cy="40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bdbdb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 y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con Ori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 medida, Tamaño &amp;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binaciones con orificios y dimens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pesor por Lámina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sidad [g/c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29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30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31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32" name="2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A94FB68-7FDF-4BAC-AFDD-93AC37B88C6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 Alberto Botteselle Doggenweiler</cp:lastModifiedBy>
  <cp:lastPrinted>2005-03-15T07:48:11Z</cp:lastPrinted>
  <dcterms:modified xsi:type="dcterms:W3CDTF">2009-09-22T18:21:16Z</dcterms:modified>
  <cp:revision>587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