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6858000" cy="9144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B505C-FE7C-4F55-A080-C108F2DDF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D85A8-FA7E-4FCA-8A63-14D52B6F2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91D05-6162-4C52-BB01-CC8AB9795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6DC1E-7E14-4E60-B65C-6CAD4055A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988BB-8ACB-454D-940E-02FBF5F5A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46336-0560-4A33-A3F4-35E308E93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165D7-8960-4642-8E5E-3E595BF82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F1E88-F995-40F0-A6BD-7C8475D88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DE759-2EEE-4B63-B69C-9DA3F114D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2C95E-14C1-4DDF-9232-511C86A6F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5EB7-9455-49FD-8B48-6BB9DB2AB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0D466-4792-49AF-BBE6-18E1286F2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5A8A8-8132-4CD2-8771-739923DB3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84F59-2084-4333-AA26-182DE53CF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E9236-15BC-49D2-9468-C5A633B4C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8917F-AACA-4A15-8DFC-4134D35DA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69F01-4698-4FFB-8491-B700FA6FB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87337-7D31-456B-87D0-43C9A49D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2F555-52F1-48F8-950F-69878E948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F5AA-C896-4790-BBCC-8EFE010D8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14E79-2EE3-4C88-9B62-35632FCCC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97E22-ED61-4303-9D9A-D21683652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09832-E992-4A2F-8D26-A5D68E48D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2834-6D75-47CD-B5A6-8A4339858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CBAC-771E-4C3D-B381-C8C1AA9BACF2}"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E054-D390-4093-83D2-FB69E5F6CE0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2E07-3539-43B2-B650-10289566D48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45EA-2361-44D7-9076-3679D3790F2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9</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8C7ECDB9-EF29-4D57-86B7-E6B7E397FE59}" type="datetime">
              <a:rPr b="1" lang="es-ES_tradnl" sz="600" spc="-1" strike="noStrike">
                <a:solidFill>
                  <a:srgbClr val="000000"/>
                </a:solidFill>
                <a:latin typeface="Times New Roman"/>
              </a:rPr>
              <a:t>30/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778F-E8B1-48B7-A049-103EC531ACFA}"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8EF3-5ED2-4276-B81B-4B75C0D5716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21"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A8F2-B364-4E1A-B76C-EA368D57AF0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F5D6-F099-4025-A8C7-2C6A8C87584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5" name="Object 3"/>
          <p:cNvGraphicFramePr/>
          <p:nvPr/>
        </p:nvGraphicFramePr>
        <p:xfrm>
          <a:off x="957240" y="3541680"/>
          <a:ext cx="5313240" cy="3800520"/>
        </p:xfrm>
        <a:graphic>
          <a:graphicData uri="http://schemas.openxmlformats.org/presentationml/2006/ole">
            <p:oleObj progId="Word.Document.12" r:id="rId1" spid="">
              <p:embed/>
              <p:pic>
                <p:nvPicPr>
                  <p:cNvPr id="126"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7"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3B05-9050-416E-BB8F-DDAF4BC8248E}"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2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461F-A6B8-4139-A7E3-8471B10A071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31"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5532-5280-45D3-A937-345D409D4827}"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33"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5927-90AF-42DE-A0C4-22EA3D4924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5"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6"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7"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5448-F4D8-43A4-8799-2A3EFD375DF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3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4EDD-C703-4FF4-8008-0B56F360C34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41"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42"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E839-A6DB-4440-86B0-78A8F361246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44"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A6B0-BE3F-4EE6-83E2-4EDA434EF1F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6"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7"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9"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DBA1-8A4C-4697-8901-42BFBA8E648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ED0D-F457-4B18-BD37-C23B4130B17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53"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4"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2DAC-230A-4E32-BFAA-9806DD70ECA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6EA0-EFE7-4DA5-B9F1-0FDF318E89B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8"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D7FC-2D48-4515-86AF-E5810C0D4716}"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DC5D-D8FD-4804-B1C8-CC86853444C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A386-DA10-4187-B4F3-1AF281D8841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2123-CB0A-4085-888F-38B873CC452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a:bodyPr>
          <a:p>
            <a:pPr marL="190440" indent="-19044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9044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90440" indent="-19044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9044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9044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464 - </a:t>
            </a: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4185</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s celulare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9874-6514 – 7768-8581</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s electrónic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9044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9044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9044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4</a:t>
            </a:r>
            <a:endParaRPr b="0" lang="en-US" sz="1400" spc="-1" strike="noStrike">
              <a:solidFill>
                <a:srgbClr val="000000"/>
              </a:solidFill>
              <a:latin typeface="Tahoma"/>
            </a:endParaRPr>
          </a:p>
          <a:p>
            <a:pPr marL="19044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FC8E-FB36-43BB-AD79-499426C811A6}"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6526-141E-4055-9CB6-A1C127A28E6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6"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63A4-6B33-4F79-A0CB-2B609B34A00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83FF-286F-4667-86B5-2CC48D5E419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70"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3D0C-4F16-4E25-8B0F-79F58D3DCFB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8A01-51BC-498A-9C43-F8141CBB220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4"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5CDE-F1F5-41C8-B891-CDBDE8BD33E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44BA-3E6A-4388-8D6D-4F1CC29273C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212D-AF9C-44D1-89F6-65C1D0F9D14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8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54A0-BE5A-4089-9993-B6F9DAAD779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82"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4"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C734-9043-43FC-9C7F-88B0CCE6FB29}"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9CD8-A5A6-4AD5-9AB8-C837EA8B448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9"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0"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3D06-CC54-4D3E-B249-A4B7AA84CAD7}"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9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DEDF-4A8A-4A92-ADF1-BF982D50E8A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0"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01"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0D6A-310E-4E9E-87B1-B2BB243F06CC}"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1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CF40-25AC-4FC7-95A5-777C09EEE9E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2"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13"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013B-E447-4908-BD1F-371EA615180F}"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2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4A70-5548-4B4E-B01A-EA3CCD694C5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2"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23"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3B60-9A26-4451-A856-E836F202A24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80EC-1F26-46BB-9818-670ED467702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conocer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0B38-487E-498B-AD45-E5E5F386337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2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16F8-2572-4C21-9055-38A2AF98149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1"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32"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7EC3-8C2F-4ED7-A004-93FF51B47A1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3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778D-21FA-4088-A638-ADA5704884F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40"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41"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7"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9"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2"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D123-EC38-402A-BDC1-76708CC2F1D3}"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D1A7-E50E-4BD9-907A-E3240A8A7CE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7"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EB0A-761D-4AD4-9FEF-4660D188F33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6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24ED-B747-4B83-ACE2-731BA5D8E6E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71"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72"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693E-DE5B-4C54-B5A7-B87F06D46148}"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9946-C5BC-4637-B233-AD21B6712F8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6" name="Object 0"/>
          <p:cNvGraphicFramePr/>
          <p:nvPr/>
        </p:nvGraphicFramePr>
        <p:xfrm>
          <a:off x="981000" y="2733840"/>
          <a:ext cx="5496120" cy="4219560"/>
        </p:xfrm>
        <a:graphic>
          <a:graphicData uri="http://schemas.openxmlformats.org/presentationml/2006/ole">
            <p:oleObj progId="Word.Document.12" r:id="rId1" spid="">
              <p:embed/>
              <p:pic>
                <p:nvPicPr>
                  <p:cNvPr id="277"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4149-2749-425E-B831-3B063EC18A8E}"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C1E6-20C1-4718-BAC8-9DAA80ADC17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81"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6A4E-581C-4C6E-AC56-1EB777F93FB5}"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40D9-258F-47F6-99FC-C234DE38060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8EEB-6CB2-44D5-8C71-6A785BCA567A}"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2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5D55-DA3C-48A1-B583-2CFCC473152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9"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6B18-07AF-4242-89ED-E50F4FC91D51}"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E456-BEC9-4070-A51A-67DAD13896D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89000"/>
          </a:bodyPr>
          <a:p>
            <a:pPr marL="169200" indent="-16920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 del equipo a construir</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 del equipo a construir</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 : Pruebas de Recepción del Equipo Construido</a:t>
            </a:r>
            <a:endParaRPr b="0" lang="en-US" sz="1500" spc="-1" strike="noStrike">
              <a:solidFill>
                <a:srgbClr val="000000"/>
              </a:solidFill>
              <a:latin typeface="Tahoma"/>
            </a:endParaRPr>
          </a:p>
          <a:p>
            <a:pPr marL="16920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ea typeface="Times New Roman"/>
              </a:rPr>
              <a:t>NOTA: ESTE CALENDARIO DE ACTIVIDADES SE DEBE ADECUAR A LA SITUACIÓN PARTICULAR DEL MOMENTO</a:t>
            </a:r>
            <a:endParaRPr b="0" lang="en-US" sz="1500" spc="-1" strike="noStrike">
              <a:solidFill>
                <a:srgbClr val="000000"/>
              </a:solidFill>
              <a:latin typeface="Tahoma"/>
            </a:endParaRPr>
          </a:p>
          <a:p>
            <a:pPr marL="16920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6920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6920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FD6C-4A21-45E4-A004-0357E7C5CCDB}"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9877-BF34-40D0-B1C4-DE1C513C40A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jercic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investigación con su respectiva diserta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745D-18F6-40DC-8E0B-77CDB7CCDE36}"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CA4C-BBE0-4A5B-AFED-7C7D1AFB55E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EDB6-DF63-4582-8CDC-0E41FF1FE468}"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1F1F-C90B-45DB-87DC-88BEA46C7CD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9"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a:bodyPr>
          <a:p>
            <a:pPr marL="343080" indent="-3430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Sesión de Laboratorio</a:t>
            </a:r>
            <a:endParaRPr b="0" lang="en-US" sz="2000" spc="-1" strike="noStrike">
              <a:solidFill>
                <a:srgbClr val="000000"/>
              </a:solidFill>
              <a:latin typeface="Tahoma"/>
            </a:endParaRPr>
          </a:p>
          <a:p>
            <a:pPr lvl="1" marL="743040" indent="-2858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ada grupo debe realizar en el Laboratorio de Máquinas, guiados por el Profesor Auxiliar, un ejercicio de "Pruebas de Recepción".</a:t>
            </a:r>
            <a:endParaRPr b="0" lang="en-US" sz="1800" spc="-1" strike="noStrike">
              <a:solidFill>
                <a:srgbClr val="000000"/>
              </a:solidFill>
              <a:latin typeface="Tahoma"/>
            </a:endParaRPr>
          </a:p>
          <a:p>
            <a:pPr lvl="1" marL="743040" indent="0" algn="just">
              <a:lnSpc>
                <a:spcPct val="9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CL" sz="1800" spc="-1" strike="noStrike">
                <a:solidFill>
                  <a:srgbClr val="000000"/>
                </a:solidFill>
                <a:latin typeface="Times New Roman"/>
              </a:rPr>
              <a:t>Esta actividad es sin nota pero es obligatoria y se debe hacer antes de dar el examen.</a:t>
            </a:r>
            <a:endParaRPr b="0" lang="en-US" sz="1800" spc="-1" strike="noStrike">
              <a:solidFill>
                <a:srgbClr val="000000"/>
              </a:solidFill>
              <a:latin typeface="Tahoma"/>
            </a:endParaRPr>
          </a:p>
          <a:p>
            <a:pPr lvl="1" marL="743040" indent="0" algn="just">
              <a:lnSpc>
                <a:spcPct val="9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90000"/>
              </a:lnSpc>
              <a:spcBef>
                <a:spcPts val="224"/>
              </a:spcBef>
              <a:buNone/>
              <a:tabLst>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1FAC-DFEF-4780-8B5C-80CF42EC2B38}"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5E92-9B02-41A4-A414-102B31E72A7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3C39-972D-4112-AD29-BA68EC195BF4}" type="datetime">
              <a:rPr b="0" lang="es-ES" sz="1400" spc="-1" strike="noStrike">
                <a:solidFill>
                  <a:srgbClr val="5e574e"/>
                </a:solidFill>
                <a:latin typeface="Arial"/>
              </a:rPr>
              <a:t>30/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12F5-712E-44DF-8A1C-D351C87AC43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7"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9-08-03T00:53:55Z</dcterms:modified>
  <cp:revision>295</cp:revision>
  <dc:subject>Taller de Diseño en Sistemas de Potencia I - EL-57C - TALLER DISEÑO I - U.CH. - 1997</dc:subject>
  <dc:title>Apuntes del Curso EL-57C</dc:title>
</cp:coreProperties>
</file>