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6858000" cy="9144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A319D-FDBD-4026-AA44-4608C2049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B477-089F-46AC-96DC-ACE4378E0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8A024-84AF-4389-AF10-E6B5BE98D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44801-A6BC-48CC-B712-85F35F5C8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FE5C8-C400-4461-9104-67DA4E909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5BB08-CC67-49A2-9CBE-30EE3C126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016E2-358F-4537-A1D1-17427A5F4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2ED89-D9EE-474E-AAF7-E21AD1583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C9467-EFC9-46C5-BD61-894E19282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FFAA0-57ED-4D4E-9B2C-D76118A68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0E8B1-6FA9-432A-9E41-18F87E6F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0C785-BDAC-4722-BBF4-A41948799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FC262-DF3D-4F70-9145-BD7B36C0F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98E6-948F-4D03-A6CE-3EC9422FB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5B6F5-AF3D-4CE9-B160-8BF9DC66D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70532-0C98-4CBD-BA63-554A11740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ECA9D-3634-413D-BC17-F250ECDA0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65CF-D9EB-4628-9B32-FECA9F6C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C8503-ABF6-4029-A4E3-F6F52D221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9350-5F16-4139-8B70-03A6CB6FC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BFF3E-57B0-4B25-837F-C1BA55711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F2DFB-A40A-41D9-BAD2-F09686798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9D62-2CB7-4D0E-A0D5-B6E4D646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AC77-AAAD-45F0-AB03-4771B4D40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462B-6331-499A-A0EE-8DFADED3B6E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2B79-264B-4197-AD06-2BDCC72CF35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5F14-7591-43D6-9E73-741230518CF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6194-24BA-4EAB-8AF5-6AE04D33510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9</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118C99F5-26F0-472E-94B4-23F0F99176BD}" type="datetime">
              <a:rPr b="1" lang="es-ES_tradnl" sz="600" spc="-1" strike="noStrike">
                <a:solidFill>
                  <a:srgbClr val="000000"/>
                </a:solidFill>
                <a:latin typeface="Times New Roman"/>
              </a:rPr>
              <a:t>29/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126B-E578-4B51-8339-41489908311E}"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F119-BCBB-424B-BE00-3D165369C18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2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4A91-2F68-44D5-9C8B-E0B742E03A1C}"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2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1D58-71B6-4545-AB58-7B1B1111530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5" name="Object 3"/>
          <p:cNvGraphicFramePr/>
          <p:nvPr/>
        </p:nvGraphicFramePr>
        <p:xfrm>
          <a:off x="957240" y="3541680"/>
          <a:ext cx="5313240" cy="3800520"/>
        </p:xfrm>
        <a:graphic>
          <a:graphicData uri="http://schemas.openxmlformats.org/presentationml/2006/ole">
            <p:oleObj progId="Word.Document.12" r:id="rId1" spid="">
              <p:embed/>
              <p:pic>
                <p:nvPicPr>
                  <p:cNvPr id="126"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7"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3E09-923D-402B-9284-3E8AE18B761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2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8E61-F0B4-4B2A-936F-2976E4654DD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31"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6BB7-340F-43C5-BF77-918965B4101C}"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33"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A927-B798-4674-8423-095E65E076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5"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6"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7"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B927-46B0-4F80-B3C6-191DF4DA82B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3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4AF3-2E1B-4944-9CD8-DAB9C9D5711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41"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42"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5D56-951D-4527-A560-9865D0B18D0F}"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44"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D903-9D25-46D2-8A67-6ED27042960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6"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7"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9"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A1D8-0DF0-4D0D-BD82-1A4C4638A93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5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93E7-7B8F-4608-B10E-847EB4073B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53"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4"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8986-366C-4BBB-97BE-D465F180F9A0}"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5AB6-46DF-4BA4-A9DC-891A77DEF58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8"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D26B-4B0B-438B-B2DF-5EC1989F755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6991-E121-47C7-97C5-9921AEA717D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F9FC-1304-49AF-B7CF-C19FA6742A1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8F77-A3A0-41D7-AB9A-651528C7942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a:bodyPr>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90440" indent="-19044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9044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9044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464 - </a:t>
            </a: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4185</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s celulare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9874-6514 – 7768-8581</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s electrónic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9044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9044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4</a:t>
            </a:r>
            <a:endParaRPr b="0" lang="en-US" sz="1400" spc="-1" strike="noStrike">
              <a:solidFill>
                <a:srgbClr val="000000"/>
              </a:solidFill>
              <a:latin typeface="Tahoma"/>
            </a:endParaRPr>
          </a:p>
          <a:p>
            <a:pPr marL="19044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BB4A-5457-4DDF-8BFD-4EBD28B0914E}"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1DD2-13D4-404F-A4E8-0355E8AA527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6"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2AE1-8625-49A7-A22E-26ABEBB5A27E}"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F6F7-5012-4CA9-8A40-8FA8F04FC5B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70"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343E-7242-4388-AA76-0CDC5414D348}"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7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7551-AE23-44C7-BE88-A1BDCBBA996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4"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FB2F-C68E-4CDA-B348-CB90F7661C2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F0FF-4AC9-45A4-8433-0F8153413F2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83CC-124B-4942-8E9B-9A0F3B607F4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8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6AE4-4678-47E2-9CA8-B7E5AEA066D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82"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4"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5CF4-CF00-4603-A5A8-BF8B5B1452F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1B5C-606C-4B47-B110-010DCE5CD0B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9"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0"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1987-6292-45A6-AC28-D91CF89DC001}"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9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4DA5-6FCD-464F-9E06-596599CE5EF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0"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01"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D925-08C1-46C9-BCA8-B2CEC2408DA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1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658B-E88E-4860-A2BD-9B9357D5F0E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2"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13"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673D-9097-4BFE-BB53-B684C91F547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2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671A-F3DB-428F-9F04-1FF3B658AC3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2"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23"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C61F-C267-4B69-BC83-E7076C0FCC0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8C47-F69A-445E-B296-B3CE75BD227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conocer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D7A8-7C23-4AC2-A967-B7332E1D686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2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14C7-D960-4E85-AFAA-D01E99D80FE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1"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32"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5DFE-5B84-4EFF-A445-DCA4FA943DC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3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BFF7-1FCB-4E4C-941A-0F2CA2043F6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40"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41"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7"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9"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2"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CDF3-2DFA-4D0C-8F2A-B63F54628B8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6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6407-6ABF-42E3-9C81-6E5D46A03BD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7"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EC22-DCCD-422F-A69E-D33A7098257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6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22AC-105B-4631-A9CD-C4E2C76D25A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71"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72"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75EE-FFD1-4497-B800-EC5FEB880830}"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67F6-8017-4744-93B2-DCBE633A43C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6" name="Object 0"/>
          <p:cNvGraphicFramePr/>
          <p:nvPr/>
        </p:nvGraphicFramePr>
        <p:xfrm>
          <a:off x="981000" y="2733840"/>
          <a:ext cx="5496120" cy="4219560"/>
        </p:xfrm>
        <a:graphic>
          <a:graphicData uri="http://schemas.openxmlformats.org/presentationml/2006/ole">
            <p:oleObj progId="Word.Document.12" r:id="rId1" spid="">
              <p:embed/>
              <p:pic>
                <p:nvPicPr>
                  <p:cNvPr id="277"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FDF5-8278-4A46-AB19-1D44C18BF67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038D-EF0A-4E24-9992-C79CEC58262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81"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7783-D320-4EFB-8219-BBA2FEA67AB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21D3-72FB-4349-942B-B363B4FCCF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F535-B352-4EAC-8122-CCE959F21B3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4ECE-611A-4484-A1FF-7AE853CCB93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9"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8A72-A0DF-465E-84D0-18AB975DC49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F3A3-3DC8-4F2C-92D9-1495D10BEF5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89000"/>
          </a:bodyPr>
          <a:p>
            <a:pPr marL="169200" indent="-16920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 : Pruebas de Recepción del Equipo Construido</a:t>
            </a:r>
            <a:endParaRPr b="0" lang="en-US" sz="1500" spc="-1" strike="noStrike">
              <a:solidFill>
                <a:srgbClr val="000000"/>
              </a:solidFill>
              <a:latin typeface="Tahoma"/>
            </a:endParaRPr>
          </a:p>
          <a:p>
            <a:pPr marL="16920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ea typeface="Times New Roman"/>
              </a:rPr>
              <a:t>NOTA: ESTE CALENDARIO DE ACTIVIDADES SE DEBE ADECUAR A LA SITUACIÓN PARTICULAR DEL MOMENTO</a:t>
            </a:r>
            <a:endParaRPr b="0" lang="en-US" sz="1500" spc="-1" strike="noStrike">
              <a:solidFill>
                <a:srgbClr val="000000"/>
              </a:solidFill>
              <a:latin typeface="Tahoma"/>
            </a:endParaRPr>
          </a:p>
          <a:p>
            <a:pPr marL="16920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6920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6920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6D36-2163-47EC-A7C9-F3DC58813651}"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7AA6-850F-4507-8C8A-C134E73232B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jercic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investigación con su respectiva diserta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3DD2-7539-46FA-B333-F6485A148DCE}"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F195-371B-467F-A325-9D2456D0F95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A9A6-3C85-461D-BD1E-3DB62789F55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3AD2-9ACC-4DF4-A711-F8E8A14F070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9"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a:bodyPr>
          <a:p>
            <a:pPr marL="343080" indent="-3430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Sesión de Laboratorio</a:t>
            </a:r>
            <a:endParaRPr b="0" lang="en-US" sz="20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ada grupo debe realizar en el Laboratorio de Máquinas, guiados por el Profesor Auxiliar, un ejercicio de "Pruebas de Recepció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CL" sz="1800" spc="-1" strike="noStrike">
                <a:solidFill>
                  <a:srgbClr val="000000"/>
                </a:solidFill>
                <a:latin typeface="Times New Roman"/>
              </a:rPr>
              <a:t>Esta actividad es sin nota pero es obligatoria y se debe hacer antes de dar el exame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90000"/>
              </a:lnSpc>
              <a:spcBef>
                <a:spcPts val="224"/>
              </a:spcBef>
              <a:buNone/>
              <a:tabLst>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981F-7BC5-4DD5-A753-214D6E72381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40E4-1E54-4A67-AFF9-0294C05538A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EB7B-8885-4402-8BF8-8066A34B403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A842-2A33-4953-A7E4-EA6933AB70B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7"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9-08-03T00:53:55Z</dcterms:modified>
  <cp:revision>295</cp:revision>
  <dc:subject>Taller de Diseño en Sistemas de Potencia I - EL-57C - TALLER DISEÑO I - U.CH. - 1997</dc:subject>
  <dc:title>Apuntes del Curso EL-57C</dc:title>
</cp:coreProperties>
</file>